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3FA4-F3CF-406F-AA7D-9798FDEB1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5392-55E1-4554-B470-1B8CD8C21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2E34-65B5-4AE8-8722-E7D357813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D67D-80C6-4011-B010-B305764E9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54F2-2E05-48A3-98A7-908105450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39B6-EE7C-4BB0-A019-86C3AB6DC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C805-2A7C-4FDE-B224-EDC76D224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DFCE-FD48-4AE4-A244-4CE6FE701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A5B8-ACE6-4C64-9B8B-F2E7FFD92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1409-DC26-4D0C-914C-47ABFB36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452C-7A85-4CE1-A058-D8E38A85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D5CB-9F11-4BF5-844B-BF4B0B97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ACBC9-E0A3-4686-B875-0E0B9CE52B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kutlaca@labtel.imp.bg.ac.yu" TargetMode="External"/><Relationship Id="rId2" Type="http://schemas.openxmlformats.org/officeDocument/2006/relationships/hyperlink" Target="mailto:kutlaca@famns.edu.yu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333360"/>
            <a:ext cx="8497800" cy="316692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S&amp;T SYSTEM IN SERBIA: </a:t>
            </a:r>
            <a:br>
              <a:rPr sz="6000"/>
            </a:b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BETWEEN SURVIVAL AND RESTRUCTUR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3968640"/>
            <a:ext cx="8640720" cy="27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Prof </a:t>
            </a:r>
            <a:r>
              <a:rPr b="1" lang="sl-SI" sz="28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Đ</a:t>
            </a:r>
            <a:r>
              <a:rPr b="1" lang="en-GB" sz="28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uro KUTLA</a:t>
            </a:r>
            <a:r>
              <a:rPr b="1" lang="sl-SI" sz="28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Č</a:t>
            </a:r>
            <a:r>
              <a:rPr b="1" lang="en-GB" sz="28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A</a:t>
            </a:r>
            <a:r>
              <a:rPr b="1" lang="en-GB" sz="28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, Ph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Science and Technology Policy Research Centre </a:t>
            </a:r>
            <a:r>
              <a:rPr b="0" lang="en-GB" sz="18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of the </a:t>
            </a:r>
            <a:r>
              <a:rPr b="0" lang="en-GB" sz="20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“</a:t>
            </a:r>
            <a:r>
              <a:rPr b="1" lang="en-GB" sz="20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Mihajlo Pupin</a:t>
            </a:r>
            <a:r>
              <a:rPr b="0" lang="en-GB" sz="20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” Instit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11000 Belgrade, Volgina 15, Serbia; Tel/Fax:+381(0)11 2774-45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E-mail: 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dkutlaca@labtel.imp.bg.ac.yu</a:t>
            </a:r>
            <a:r>
              <a:rPr b="0" lang="en-GB" sz="18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 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FaM – </a:t>
            </a:r>
            <a:r>
              <a:rPr b="1" lang="en-US" sz="20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Faculty of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21000 Novi Sad, Vase Stajića 6, Serbia; Tel: +381(0)21 451863; +381(0)21 451671/104 Fax: +381(0)21 526254: e-mail: 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2"/>
              </a:rPr>
              <a:t>kutlaca@famns.edu.yu</a:t>
            </a:r>
            <a:r>
              <a:rPr b="0" lang="en-GB" sz="18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cc99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251000" y="98280"/>
            <a:ext cx="6500880" cy="6715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DECA-B541-4EB1-A99C-3EDAA968880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324000" y="1816200"/>
          <a:ext cx="8424720" cy="291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816200"/>
                    <a:ext cx="842472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1928-7DEA-49DA-B92E-211E8BE20AE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476360" y="26028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57"/>
                </a:solidFill>
                <a:latin typeface="Times New Roman"/>
                <a:ea typeface="Times New Roman"/>
              </a:rPr>
              <a:t>Outputs of R&amp;D system in Serb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826920" y="836640"/>
          <a:ext cx="7561440" cy="564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836640"/>
                    <a:ext cx="7561440" cy="564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1605-1023-4071-BBE9-AB94D8A76E4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24000" y="559116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0057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d60057"/>
                </a:solidFill>
                <a:latin typeface="Times New Roman"/>
                <a:ea typeface="Times New Roman"/>
              </a:rPr>
              <a:t>“</a:t>
            </a:r>
            <a:r>
              <a:rPr b="0" lang="en-US" sz="2000" spc="-1" strike="noStrike">
                <a:solidFill>
                  <a:srgbClr val="d60057"/>
                </a:solidFill>
                <a:latin typeface="Times New Roman"/>
                <a:ea typeface="Times New Roman"/>
              </a:rPr>
              <a:t>R&amp;D organization is alowed to perform, along with R&amp;D, other acitivities directed to comercialization of R&amp;D results, under condition that this activites will not imperil quality of R&amp;D work [Science Law – 2005]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55640" y="836640"/>
          <a:ext cx="7777080" cy="459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836640"/>
                    <a:ext cx="7777080" cy="45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476360" y="11592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57"/>
                </a:solidFill>
                <a:latin typeface="Times New Roman"/>
                <a:ea typeface="Times New Roman"/>
              </a:rPr>
              <a:t>Outputs of R&amp;D system in Serb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22F3-06A0-49BE-A1C0-9C4C3C3B866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50840" y="401760"/>
            <a:ext cx="8843760" cy="58528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484360" y="2349360"/>
            <a:ext cx="485928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Pearson Correlation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–  0.22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Sig. (1-tailed)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    0.1427563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D3C8-1A39-483C-B46D-6DA9B414FDA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96920" cy="8222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403280" y="1197000"/>
            <a:ext cx="6337440" cy="43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Findings – I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&amp;D system practically has no contributions to economic development of Serbia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&amp;D system exists independently from needs and necessities of economy in Serbia</a:t>
            </a:r>
            <a:r>
              <a:rPr b="0" lang="en-US" sz="32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.</a:t>
            </a:r>
            <a:r>
              <a:rPr b="1" lang="en-US" sz="36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3236-B7E7-4026-AC4D-688B2C12542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96920" cy="8222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39640" y="422280"/>
            <a:ext cx="8353440" cy="59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cc3300"/>
                </a:solidFill>
                <a:latin typeface="Times New Roman"/>
              </a:rPr>
              <a:t>Findings – II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3333cc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umber of R&amp;D organizations has decreased from late 80’s until 2004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666633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Number of R&amp;D organizations in BES permanently less than number of independent (govt.) instit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9b9f05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b9f05"/>
                </a:solidFill>
                <a:latin typeface="Times New Roman"/>
              </a:rPr>
              <a:t>Income from R&amp;D activities has decreased – in 2004 this share is only 21,59% of R&amp;D organizations’ total incom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cc33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Total number of employees in R&amp;D sector has decrease until 2000. Since than, this number is increasing every yea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FCEF-3617-4B1F-9D2F-EA3B2AC63887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0920" y="534960"/>
            <a:ext cx="8569080" cy="55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 </a:t>
            </a:r>
            <a:r>
              <a:rPr b="1" lang="en-GB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trategic Group for Innovation – Govt. of Serbia – est. 11.11.2005 as “triple helix”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Gov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R&amp;D or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Indu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ATEGY FOR INNOV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 SERBIA (in process …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(ECORYS, MoE, MoSEP, EA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BF91-FD72-4EC6-B8B4-34FE433D3A6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00000" y="260280"/>
            <a:ext cx="751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&amp;T and innovation policy in Serb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ow far it is from the best practice model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96720" y="1397160"/>
          <a:ext cx="8351640" cy="4911480"/>
        </p:xfrm>
        <a:graphic>
          <a:graphicData uri="http://schemas.openxmlformats.org/drawingml/2006/table">
            <a:tbl>
              <a:tblPr/>
              <a:tblGrid>
                <a:gridCol w="4178160"/>
                <a:gridCol w="4173480"/>
              </a:tblGrid>
              <a:tr h="24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</a:t>
                      </a: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Human Resources (?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W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Old struc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NIS – what is this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No sufficient capacit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O</a:t>
                      </a: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EU membershi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National Investment Pl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</a:t>
                      </a:r>
                      <a:r>
                        <a:rPr b="1" lang="en-US" sz="3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heap outsourcing !!!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”Wait and See” strateg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”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o change please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Mental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F3AD-5DFC-435F-ACE1-2711B082997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135160" y="549360"/>
            <a:ext cx="5180040" cy="45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888840" y="2584440"/>
            <a:ext cx="1473480" cy="13971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7658280" y="2806560"/>
            <a:ext cx="1485720" cy="1409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20A9-CC96-487A-96F7-542019327CF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116000" y="333360"/>
            <a:ext cx="6769080" cy="56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onten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d60057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57"/>
                </a:solidFill>
                <a:latin typeface="Times New Roman"/>
              </a:rPr>
              <a:t>Science and innovation in Serbia: country perspectives </a:t>
            </a:r>
            <a:r>
              <a:rPr b="1" lang="en-US" sz="3200" spc="-1" strike="noStrike">
                <a:solidFill>
                  <a:srgbClr val="d60057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60057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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9900"/>
                </a:solidFill>
                <a:latin typeface="Wingdings"/>
                <a:ea typeface="Wingdings"/>
              </a:rPr>
              <a:t>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d60057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57"/>
                </a:solidFill>
                <a:latin typeface="Times New Roman"/>
              </a:rPr>
              <a:t>Key challenges of science and innovation policies in Serbian’ economy</a:t>
            </a:r>
            <a:r>
              <a:rPr b="1" lang="en-US" sz="3200" spc="-1" strike="noStrike">
                <a:solidFill>
                  <a:srgbClr val="d60057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60057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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669900"/>
                </a:solidFill>
                <a:latin typeface="Wingdings"/>
                <a:ea typeface="Wingdings"/>
              </a:rPr>
              <a:t>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d60057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57"/>
                </a:solidFill>
                <a:latin typeface="Times New Roman"/>
              </a:rPr>
              <a:t>S&amp;T and innovation policy in Serbia: how far it is from the best practice models?</a:t>
            </a:r>
            <a:r>
              <a:rPr b="1" lang="en-US" sz="3200" spc="-1" strike="noStrike">
                <a:solidFill>
                  <a:srgbClr val="d60057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60057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9900"/>
                </a:solidFill>
                <a:latin typeface="Wingdings"/>
                <a:ea typeface="Wingdings"/>
              </a:rPr>
              <a:t>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9900"/>
                </a:solidFill>
                <a:latin typeface="Wingdings"/>
                <a:ea typeface="Wingdings"/>
              </a:rPr>
              <a:t>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01DE-C5EE-46EF-BFB4-576E22A0D0E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03280" y="990720"/>
            <a:ext cx="6193080" cy="40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660066"/>
                </a:solidFill>
                <a:latin typeface="Times New Roman"/>
              </a:rPr>
              <a:t>1.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d60057"/>
                </a:solidFill>
                <a:latin typeface="Times New Roman"/>
              </a:rPr>
              <a:t>Science and innovation in Serbia: country perspectives</a:t>
            </a:r>
            <a:r>
              <a:rPr b="1" lang="en-US" sz="3000" spc="-1" strike="noStrike">
                <a:solidFill>
                  <a:srgbClr val="d60057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Wingdings"/>
                <a:ea typeface="Wingdings"/>
              </a:rPr>
              <a:t>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n-US" sz="6000" spc="-1" strike="noStrike">
                <a:solidFill>
                  <a:srgbClr val="669900"/>
                </a:solidFill>
                <a:latin typeface="Wingdings"/>
                <a:ea typeface="Wingdings"/>
              </a:rPr>
              <a:t>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2B97-66A6-449E-AFE4-4F514D459B6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85840" y="115920"/>
            <a:ext cx="8572320" cy="6162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675640" y="3860640"/>
            <a:ext cx="289080" cy="505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675640" y="4581360"/>
            <a:ext cx="289080" cy="505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FB68-9AA5-4EA4-AB6B-5AC1D6A6B13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14200" y="333360"/>
            <a:ext cx="8715600" cy="583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747280" y="4076640"/>
            <a:ext cx="288720" cy="504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90E2-D7C6-46EF-971B-8408DA74CD2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16000" y="836640"/>
            <a:ext cx="6985080" cy="49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600" spc="-1" strike="noStrike">
                <a:solidFill>
                  <a:srgbClr val="660066"/>
                </a:solidFill>
                <a:latin typeface="Times New Roman"/>
              </a:rPr>
              <a:t>2</a:t>
            </a:r>
            <a:r>
              <a:rPr b="1" lang="en-US" sz="5600" spc="-1" strike="noStrike">
                <a:solidFill>
                  <a:srgbClr val="660066"/>
                </a:solidFill>
                <a:latin typeface="Times New Roman"/>
              </a:rPr>
              <a:t>.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57"/>
                </a:solidFill>
                <a:latin typeface="Times New Roman"/>
              </a:rPr>
              <a:t>Key challenges of science and innovation policies in Serbian’ econo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57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d60057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Wingdings"/>
                <a:ea typeface="Wingdings"/>
              </a:rPr>
              <a:t>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6000" spc="-1" strike="noStrike">
                <a:solidFill>
                  <a:srgbClr val="6699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DD70-BE4B-40D9-9BBA-BAF185888ED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779400"/>
            <a:ext cx="8229600" cy="6039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835520" y="2924280"/>
            <a:ext cx="431640" cy="3871800"/>
          </a:xfrm>
          <a:prstGeom prst="ellipse">
            <a:avLst/>
          </a:prstGeom>
          <a:solidFill>
            <a:srgbClr val="ff0066">
              <a:alpha val="10000"/>
            </a:srgbClr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9280" y="103320"/>
            <a:ext cx="87138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57"/>
                </a:solidFill>
                <a:latin typeface="Times New Roman"/>
                <a:ea typeface="Times New Roman"/>
              </a:rPr>
              <a:t>Absorptive Capac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57"/>
                </a:solidFill>
                <a:latin typeface="Times New Roman"/>
                <a:ea typeface="Times New Roman"/>
              </a:rPr>
              <a:t>Agregate Indic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6488280"/>
            <a:ext cx="30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Dj.Kutlaca, after S.Radosev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E931-AE31-434E-8A72-7AE63F6DFC2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774720"/>
            <a:ext cx="8229600" cy="6039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403280" y="3500280"/>
            <a:ext cx="432000" cy="3313440"/>
          </a:xfrm>
          <a:prstGeom prst="ellipse">
            <a:avLst/>
          </a:prstGeom>
          <a:solidFill>
            <a:srgbClr val="ff0066">
              <a:alpha val="10000"/>
            </a:srgbClr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103320"/>
            <a:ext cx="87138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57"/>
                </a:solidFill>
                <a:latin typeface="Times New Roman"/>
                <a:ea typeface="Times New Roman"/>
              </a:rPr>
              <a:t>R&amp;D supp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57"/>
                </a:solidFill>
                <a:latin typeface="Times New Roman"/>
                <a:ea typeface="Times New Roman"/>
              </a:rPr>
              <a:t>Agregate Indic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24360" y="647532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Dj.Kutlaca, after S.Radosev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5EDF-9561-4B5B-B4EF-29EC1BB3C4C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042920" y="620640"/>
            <a:ext cx="6985080" cy="53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600" spc="-1" strike="noStrike">
                <a:solidFill>
                  <a:srgbClr val="660066"/>
                </a:solidFill>
                <a:latin typeface="Times New Roman"/>
              </a:rPr>
              <a:t>3</a:t>
            </a:r>
            <a:r>
              <a:rPr b="1" lang="en-US" sz="5600" spc="-1" strike="noStrike">
                <a:solidFill>
                  <a:srgbClr val="660066"/>
                </a:solidFill>
                <a:latin typeface="Times New Roman"/>
              </a:rPr>
              <a:t>.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57"/>
                </a:solidFill>
                <a:latin typeface="Times New Roman"/>
              </a:rPr>
              <a:t>S&amp;T and innovation policy in Serbia: how far it is from the best practice model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d60057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9900"/>
                </a:solidFill>
                <a:latin typeface="Wingdings"/>
                <a:ea typeface="Wingdings"/>
              </a:rPr>
              <a:t></a:t>
            </a:r>
            <a:r>
              <a:rPr b="1" lang="en-US" sz="6000" spc="-1" strike="noStrike">
                <a:solidFill>
                  <a:srgbClr val="669900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669900"/>
                </a:solidFill>
                <a:latin typeface="Wingdings"/>
                <a:ea typeface="Wingdings"/>
              </a:rPr>
              <a:t>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0CAD-2D2F-403D-954E-A4902FF0581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1T18:08:33Z</dcterms:created>
  <dc:creator>MNT</dc:creator>
  <dc:description/>
  <dc:language>en-US</dc:language>
  <cp:lastModifiedBy>IMP-CIRNT750f</cp:lastModifiedBy>
  <dcterms:modified xsi:type="dcterms:W3CDTF">2006-09-27T15:11:17Z</dcterms:modified>
  <cp:revision>125</cp:revision>
  <dc:subject/>
  <dc:title>PowerPoint Presentation</dc:title>
</cp:coreProperties>
</file>