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D0E-E459-4A9E-A076-E2138B4F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03C-18E1-4D95-A407-4F4C80CB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226-D740-495C-9B4B-C3BDAD71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409-8B8E-4DCD-A538-F16BA573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FF6D-EC06-4E5A-AB4D-DB45A9E3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6537-11BD-4959-9476-DEEFC8B2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C99-69D6-4135-84E2-765522E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033A-C9E3-4869-8C8D-4DD6D26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EB6-7055-4D94-89CF-AA1CA60B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EF9E-3DB0-4F57-AFF5-A1B3C9B0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82C3-0A9B-4794-BEB3-8960C7D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786-5321-4603-8668-B372B3F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D544-188E-4745-9DBA-D61469C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F85-191E-4FCF-AAAF-933D65CB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518B-0E8D-4929-9248-48644882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3FB8-432E-4632-A417-E146D413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92A-6C55-4EA8-92A3-C691E7D4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EB1-FE8C-4CBB-8EEA-312BBFD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19D-A853-4582-9E34-E0DB9397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263-2945-4952-917B-B3F9A99F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727-1808-42A7-9316-D857E45D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4CB-BC9B-4E34-8751-E1C616E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013-C558-4B3E-B371-B5C32F8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628-5855-4644-A183-5B04ED8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DAC5-2E7A-4217-8546-A41235C2D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F12-32F0-4BE8-9F00-64675ADDD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320"/>
            <a:ext cx="8915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zelle"/>
              </a:rPr>
              <a:t>University Of Montenegr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914400"/>
            <a:ext cx="8610480" cy="59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Times New Roman"/>
              </a:rPr>
              <a:t>State Of The Art And The Strategy 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D&amp;I Development In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of.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ra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uk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čević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Dean of Faculty of Metallurgy and Technolog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University of Montenegro - Podgo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61048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munication and information syste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development as one of the interest of Monteneg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orting of the national infrastructure creation as a base for the involvment into European “Grid-based e-science” infrastructur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cessary decision and action (at the level of State and University) for efficient interinstitutional, international and interdisciplinar using of infrastruc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Adequate executive schem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role of national structures (NREN – National Research and Educational Networ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inancing of research ICT infrastruc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Using of research network GEANT and upgrading of existing electronic networks, data base acces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us of Library – Inform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professional assiste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data base access possib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interconnection of the several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BISS bibliographical system and series and COBIB mutual catalog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68680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lanning and coordination of the activities regarding the infrastructural interconnection of several University Librar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upporting of the common communication capacities for the operation of central sevic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nagement of COBIB bas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fessional assistency to the libraries (PC equipment, installing and maintenanc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rganizing of access to the other informative services and bases under the conition defined in consortiu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90720"/>
            <a:ext cx="6172200" cy="68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Human potential in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75248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ain drain, brain “was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mber of scientist low (606 scientists at the University, 351 Ph.D. and 255 M.S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cial sciences and humanities (almost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ering and technology (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cal sciences (10.3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ricultural sciences (6.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n-University institutions – 699 researchers; 204 Ph.D. and 495 M.S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Instruments of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than 80% ar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stry budget supports SR projects in var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stry budget pays salaries of professors at universities and various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990720"/>
            <a:ext cx="7924680" cy="1066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rnational cooperation in R&amp;D and participation in EU fund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28600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% of the total R&amp;D budget is dedicated to international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2004/5 participated in two FP6 projects (SSA), 2 UNESCO, 12 other multilateral projects (UNDP,CERN,NATO,IAEA,CO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-ERA.net (FP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REN 2 (FP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GRID 2 (FP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RA West Bal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914400"/>
            <a:ext cx="7924680" cy="838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b7e7ff"/>
                </a:solidFill>
                <a:uFillTx/>
                <a:latin typeface="Times New Roman"/>
              </a:rPr>
              <a:t>N</a:t>
            </a: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ational Scientific Research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362320"/>
            <a:ext cx="69343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6 project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22.182,99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2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6 project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22.182,99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ilateral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133720"/>
            <a:ext cx="8686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 wi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VENI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 technics, others from the different fields) -  18.820,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wi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EE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80,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wi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RY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M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EDONI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,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protocol not signed 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elik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RANCE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– 8.4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219320"/>
            <a:ext cx="7924680" cy="68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Budget for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096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 than 1% of the national budget is alocated for R&amp;D – 669,320.47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€ in 2006 (0.13% of the overall budget, which is 518,912,185.26 €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0.83% in 2001 to 0.30% in 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822240"/>
            <a:ext cx="876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cc00"/>
                </a:solidFill>
                <a:uFillTx/>
                <a:latin typeface="Times New Roman"/>
              </a:rPr>
              <a:t>The scope and the tasks of scientific and development institution in Montenegro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ore effective cooperation and new network of scientific institution and companies (business sector); new and inovative products and servic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 upgrading of basic (fundamental) knowledg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creasing of the competitiveness of Montenegrin companies and business sector “Made in RD&amp;I sector of Montenegro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cientific and research strategy in Montenegr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lanning of the strategy budget in less than 5 yea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timulation of business sector for investing in RD&amp;I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(fiscal politic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90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nowledge-based society in Monteneg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ality or Fi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Knowledge-based society indicator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RD&amp;I budget per capit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researchers per capit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scientific institution with technological development progra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057320"/>
            <a:ext cx="868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cc00"/>
                </a:solidFill>
                <a:uFillTx/>
                <a:latin typeface="Times New Roman"/>
              </a:rPr>
              <a:t>The scope and the tasks of scientific and development institution in Montenegro</a:t>
            </a:r>
            <a:r>
              <a:rPr b="1" lang="en-US" sz="25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Using of international sources and project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crease funds for RD&amp;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dequate legal arrangements in this fie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ot only the Role of State but market also in the development of    RD&amp;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nabling the NGO involvment, Private secotr involvment, potential partnership among the State and Private sector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59580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66"/>
                </a:solidFill>
                <a:latin typeface="Gazelle"/>
              </a:rPr>
              <a:t>Thank you for your attenti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685800"/>
            <a:ext cx="8163000" cy="304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>
                    <a:alpha val="42000"/>
                  </a:srgbClr>
                </a:solidFill>
                <a:latin typeface="Gazelle"/>
              </a:rPr>
              <a:t>UNIVERSITY OF MONTENEGRO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>
                  <a:alpha val="42000"/>
                </a:srgbClr>
              </a:solidFill>
              <a:latin typeface="Gazelle"/>
              <a:ea typeface="Gazelle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5248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480"/>
            <a:ext cx="899172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235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Knowledge-based society indicator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Percentage of the companies that apply innovative technologie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Percentage of SMEs and private sector involvment in RD&amp;I financin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companies with departments for developmen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Level of high-tech products expor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patents per capit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researchers and scientific publ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Human resources and education efficiency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E-governmen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8686800" cy="47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Montenegrin real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Service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Low ICT products sellin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Modest social treatment of scien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Scientific institutional network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Montenegrin Academy of Sciences and Ar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University of Montenegr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Several institutes within companie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1157400"/>
            <a:ext cx="89154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THE ROLE OF THE MODERN UNIVERS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UNIVERS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Science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Education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Development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echnologic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engage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World example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echnological parks and incubators, institutes and small high-tech compan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85440" y="25146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742840" y="2590920"/>
            <a:ext cx="11430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259092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91440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Real Role Of The University Of Monteneg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-   Several scientific groups with respectable reference lis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he Lack of the scientific strategy – recognazing of more perspective scientific streams and laborator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ransforming of education process from reproduction to creativ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86400" y="3683160"/>
            <a:ext cx="1276560" cy="352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0240" y="3797280"/>
            <a:ext cx="1209600" cy="352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3987720"/>
            <a:ext cx="1190520" cy="333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65560" y="3597120"/>
            <a:ext cx="38124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65880" y="3606840"/>
            <a:ext cx="37152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5840" y="3606840"/>
            <a:ext cx="371520" cy="20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284440" y="3301920"/>
            <a:ext cx="30492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46600" y="328284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03840" y="3282840"/>
            <a:ext cx="31428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0" y="3997440"/>
            <a:ext cx="17240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keholders in new developed compan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8240" y="4416480"/>
            <a:ext cx="1476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ares in compan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2548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685800"/>
          <a:ext cx="8458200" cy="5334120"/>
        </p:xfrm>
        <a:graphic>
          <a:graphicData uri="http://schemas.openxmlformats.org/drawingml/2006/table">
            <a:tbl>
              <a:tblPr/>
              <a:tblGrid>
                <a:gridCol w="2057400"/>
                <a:gridCol w="1752840"/>
                <a:gridCol w="4106880"/>
                <a:gridCol w="5410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CUL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ducation process organiz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arch organization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ur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entific work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borato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arch cent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ministration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CT Cent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bra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g. 1. Organization of investigation transfer at the University of Montenegro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38280" y="2971800"/>
          <a:ext cx="1752840" cy="60804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arch laborato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>
            <a:off x="6858000" y="3429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009920" y="3429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16256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962520"/>
            <a:ext cx="1724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takeholders in newdeveloped compani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419720"/>
            <a:ext cx="1600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hares in compani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828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Development 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2096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Inovatio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2666880"/>
            <a:ext cx="2438640" cy="61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ffffff"/>
                </a:solidFill>
                <a:latin typeface="Times New Roman"/>
              </a:rPr>
              <a:t>Center for technology transf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2057400"/>
            <a:ext cx="1600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Business techn.inc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819520"/>
            <a:ext cx="7621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819520"/>
            <a:ext cx="83844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3048120"/>
            <a:ext cx="7621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3048120"/>
            <a:ext cx="7621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257800" y="990720"/>
            <a:ext cx="19620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74320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990720"/>
          <a:ext cx="643716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990720"/>
                    <a:ext cx="6437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 txBox="1"/>
          <p:nvPr/>
        </p:nvSpPr>
        <p:spPr>
          <a:xfrm>
            <a:off x="5334120" y="2743200"/>
            <a:ext cx="1962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43000"/>
                  </a:srgbClr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43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Times New Roman"/>
              </a:rPr>
              <a:t>R&amp;D infrastructure</a:t>
            </a:r>
            <a:r>
              <a:rPr b="1" lang="sr-Latn-CS" sz="2800" spc="-1" strike="noStrike">
                <a:solidFill>
                  <a:srgbClr val="b7e7ff"/>
                </a:solidFill>
                <a:latin typeface="Times New Roman"/>
              </a:rPr>
              <a:t> at the University of Monteneg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2860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isting infrastructure in Montenegro has number of 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 differences in the development of different research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ck of adequate pre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or financial standing of research projec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ignificant need in print and electronic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16.100 internet hosts per 100.000 habitants and 100 PCs per 1000 habit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6:46:45Z</dcterms:created>
  <dc:creator>kata</dc:creator>
  <dc:description/>
  <dc:language>en-US</dc:language>
  <cp:lastModifiedBy>kata</cp:lastModifiedBy>
  <dcterms:modified xsi:type="dcterms:W3CDTF">2006-09-26T08:37:07Z</dcterms:modified>
  <cp:revision>10</cp:revision>
  <dc:subject/>
  <dc:title>Slide 1</dc:title>
</cp:coreProperties>
</file>