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15.wmf" ContentType="image/x-wmf"/>
  <Override PartName="/ppt/media/image7.png" ContentType="image/png"/>
  <Override PartName="/ppt/media/image1.jpeg" ContentType="image/jpeg"/>
  <Override PartName="/ppt/media/image11.wmf" ContentType="image/x-wmf"/>
  <Override PartName="/ppt/media/image26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30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945-8277-4A95-8C86-AAE28070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01A-BB31-4334-9109-B3138875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8BA-266B-4D79-A651-ACE84AE7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266-621F-43B7-A027-9D5D1966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3FF8-608B-49B7-A0C2-0B7A50E2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416D-A890-4EBB-A7C8-8831D907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75CF-5758-4703-8AD4-1C589929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F3CB-B64B-4F8E-BE2F-9916B00D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2694-7270-4779-BF81-9496BA0F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D31E-65B9-4EBB-AFA9-ED9BB7A6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EB41-F622-4296-877B-06C69C3A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D08-1219-4687-976E-D77AED75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E61A-602E-4220-BCF0-680652B5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E90B-2711-49D2-AA2B-EDBF7978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7DE6-5D0E-47CA-883C-4922341D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E516-FBCB-42F0-A062-6817202A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7471-AD24-4351-A18B-08062F25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F24-6B70-4CF1-A126-51906CB4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D72-5B4C-4D79-A029-9E5E3370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FD3-800B-498F-85E6-7934D00D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9369-97C1-4D47-A279-90BD3ED5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9E6-3FD9-4527-A582-54B8B6E9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69A-72DB-4439-843D-8CC35CAA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376-E369-454C-B944-94EC4C99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78D3-2161-4F18-B342-B04375F8C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826B-1A95-4D57-ABDF-379F8DA17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jadranka.svarc@pilar.hr" TargetMode="External"/><Relationship Id="rId3" Type="http://schemas.openxmlformats.org/officeDocument/2006/relationships/hyperlink" Target="mailto:emira.becic@mses.hr" TargetMode="External"/><Relationship Id="rId4" Type="http://schemas.openxmlformats.org/officeDocument/2006/relationships/hyperlink" Target="mailto:emira.becic@mses.hr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kreditacija.hr/" TargetMode="External"/><Relationship Id="rId3" Type="http://schemas.openxmlformats.org/officeDocument/2006/relationships/hyperlink" Target="http://www.dznm.hr/hzn/" TargetMode="External"/><Relationship Id="rId4" Type="http://schemas.openxmlformats.org/officeDocument/2006/relationships/hyperlink" Target="http://www.dznm.hr/hzn/" TargetMode="External"/><Relationship Id="rId5" Type="http://schemas.openxmlformats.org/officeDocument/2006/relationships/hyperlink" Target="http://www.dznm.hr/hzn/" TargetMode="External"/><Relationship Id="rId6" Type="http://schemas.openxmlformats.org/officeDocument/2006/relationships/hyperlink" Target="http://www.dzm.hr/" TargetMode="External"/><Relationship Id="rId7" Type="http://schemas.openxmlformats.org/officeDocument/2006/relationships/hyperlink" Target="http://www.dzm.hr/" TargetMode="External"/><Relationship Id="rId8" Type="http://schemas.openxmlformats.org/officeDocument/2006/relationships/hyperlink" Target="http://www.dzm.hr/" TargetMode="External"/><Relationship Id="rId9" Type="http://schemas.openxmlformats.org/officeDocument/2006/relationships/hyperlink" Target="http://www.dziv.hr/" TargetMode="External"/><Relationship Id="rId10" Type="http://schemas.openxmlformats.org/officeDocument/2006/relationships/hyperlink" Target="http://www.dzs.hr/" TargetMode="External"/><Relationship Id="rId11" Type="http://schemas.openxmlformats.org/officeDocument/2006/relationships/hyperlink" Target="http://www.dzs.hr/" TargetMode="External"/><Relationship Id="rId12" Type="http://schemas.openxmlformats.org/officeDocument/2006/relationships/hyperlink" Target="http://www.dzs.hr/" TargetMode="External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 Jadranka Švar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itute for Social Sciences “Ivo Pilar”, Zagreb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1" lang="de-DE" sz="20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jadranka.svarc@pilar.hr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 Emira Bečić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istry of Science, Education and Sports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_x000b_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emira.becic@mses.h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8cc"/>
                </a:solidFill>
                <a:latin typeface="Times New Roman"/>
              </a:rPr>
              <a:t>International Conference</a:t>
            </a:r>
            <a:br>
              <a:rPr sz="2400"/>
            </a:br>
            <a:r>
              <a:rPr b="1" lang="en-US" sz="2000" spc="-1" strike="noStrike">
                <a:solidFill>
                  <a:srgbClr val="0088cc"/>
                </a:solidFill>
                <a:latin typeface="Times New Roman"/>
              </a:rPr>
              <a:t>WHY INVESTING IN SCENCE IN SOUTH EASTERN EUROPE?</a:t>
            </a:r>
            <a:br>
              <a:rPr sz="2000"/>
            </a:br>
            <a:r>
              <a:rPr b="0" lang="en-US" sz="2400" spc="-1" strike="noStrike">
                <a:solidFill>
                  <a:srgbClr val="0088cc"/>
                </a:solidFill>
                <a:latin typeface="Times New Roman"/>
              </a:rPr>
              <a:t>Ljubljana, Slovenia, September 27-29, 2006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ROATIAN INNOVATION POLICY MEETS REALITY</a:t>
            </a:r>
            <a:br>
              <a:rPr sz="2400"/>
            </a:b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Arial Black"/>
              </a:rPr>
              <a:t>HITRA – Main policy instruments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981000"/>
          <a:ext cx="8496000" cy="475632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RAZ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Budget grants for research projects  contracted among entrepreneurs and research instit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Subsidies to companies for research and development (30% of the total project valu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Budget grants for prototypes, pilot plans, feasibility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Favourable commercial loans with the interest equalling the discount rate of the Croatian National Bank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Arrangements of IPR amon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Conditional loans in case of risk projects and academic spin-of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Re-payment 21% of grants to MSES in case of  commercialization of research res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On the spot” monitoring of project imp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Foundation of the Technology counc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88cc"/>
                </a:solidFill>
                <a:latin typeface="Arial Black"/>
              </a:rPr>
              <a:t>HITRA Program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0930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cc33"/>
                </a:solidFill>
                <a:latin typeface="Arial"/>
              </a:rPr>
              <a:t>RAZUM – Knowledge based  companies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Arial"/>
              </a:rPr>
              <a:t>TEST – technology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916280"/>
            <a:ext cx="676944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/3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jects proposals were selected for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2924280"/>
            <a:ext cx="29527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 projects r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o start-up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2924280"/>
            <a:ext cx="273708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projects 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de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nies expansion pl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565360"/>
            <a:ext cx="504720" cy="287280"/>
          </a:xfrm>
          <a:prstGeom prst="downArrowCallout">
            <a:avLst>
              <a:gd name="adj1" fmla="val 43926"/>
              <a:gd name="adj2" fmla="val 43922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4581360"/>
            <a:ext cx="648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2 projects applications -  recei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5445000"/>
            <a:ext cx="1873440" cy="79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2 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5516640"/>
            <a:ext cx="216036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 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mplish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445000"/>
            <a:ext cx="2160720" cy="79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 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ogress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5084640"/>
            <a:ext cx="576360" cy="216000"/>
          </a:xfrm>
          <a:prstGeom prst="downArrowCallout">
            <a:avLst>
              <a:gd name="adj1" fmla="val 66714"/>
              <a:gd name="adj2" fmla="val 66708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5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Arial Black"/>
              </a:rPr>
              <a:t>Other programs related to innovation policy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of the National Foundation for Science (NF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“Partnership in basic research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l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ed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 200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imed 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ttracting investments from indust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entrepreneurship to basic research in Croati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gram “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Brain Gain -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isitor"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launched in 200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imed at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courag</a:t>
            </a:r>
            <a:r>
              <a:rPr b="1" lang="hr-HR" sz="2400" spc="-1" strike="noStrike">
                <a:solidFill>
                  <a:srgbClr val="3333cc"/>
                </a:solidFill>
                <a:latin typeface="Arial"/>
              </a:rPr>
              <a:t>ing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ers resident outside Croatia to carry out research project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in Croatia incl. indus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700280"/>
            <a:ext cx="829152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Institutional infrastructure of </a:t>
            </a:r>
            <a:br>
              <a:rPr sz="2400"/>
            </a:b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the Croatian innovation system</a:t>
            </a: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 – initiated by the MSES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95640" y="1341360"/>
            <a:ext cx="6121080" cy="5184360"/>
            <a:chOff x="2195640" y="1341360"/>
            <a:chExt cx="6121080" cy="518436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2195640" y="1341360"/>
              <a:ext cx="6121080" cy="51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286160" y="1840680"/>
              <a:ext cx="1028160" cy="8708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4440" y="4092120"/>
              <a:ext cx="171720" cy="1454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71480" y="4690800"/>
              <a:ext cx="364680" cy="3088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4440" y="2531160"/>
              <a:ext cx="381960" cy="322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14920" y="2349720"/>
              <a:ext cx="330840" cy="2800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87960" y="5872680"/>
              <a:ext cx="107280" cy="910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6920" y="1484280"/>
            <a:ext cx="331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usiness and Innovation Centre of Croatia (BICRO)</a:t>
            </a: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he Croatian Institute for Technology (HIT)</a:t>
            </a: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entre for Technology </a:t>
            </a: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(CTT), Zagr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844800"/>
            <a:ext cx="3924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1. Four t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chnology and innovatio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entre for Technology </a:t>
            </a:r>
            <a:r>
              <a:rPr b="1" i="1" lang="hr-HR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 (CTT), Zagr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Technology Centre Split (TC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entre for Innovative Technology Rijeka (T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Technology and Innovation Centre, Osij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. One Research and Development Cent</a:t>
            </a: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Research and Development Centre for Mariculture, </a:t>
            </a:r>
            <a:r>
              <a:rPr b="1" i="1" lang="hr-HR" sz="1200" spc="-1" strike="noStrike">
                <a:solidFill>
                  <a:srgbClr val="000000"/>
                </a:solidFill>
                <a:latin typeface="Times New Roman"/>
              </a:rPr>
              <a:t>Dubrovn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usiness and Innovation Centre of Croatia (BIC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he Croatian Institute for Technology (H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5589720"/>
            <a:ext cx="28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search and Development Centre for Mariculture, </a:t>
            </a: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Dubrovn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177336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echnology and Innovation Centre, Osij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494172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echnology Centre Split (T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3141720"/>
            <a:ext cx="23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entre for Innovative Technology Rijeka (T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Institutional infrastructure of </a:t>
            </a:r>
            <a:br>
              <a:rPr sz="2400"/>
            </a:b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the Croatian innovation system</a:t>
            </a: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 – initiated by the Ministry of Economy and local authorities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195640" y="1341360"/>
            <a:ext cx="6121080" cy="5184360"/>
            <a:chOff x="2195640" y="1341360"/>
            <a:chExt cx="6121080" cy="518436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2195640" y="1341360"/>
              <a:ext cx="6121080" cy="51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286160" y="1840680"/>
              <a:ext cx="1028160" cy="8708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440" y="4092120"/>
              <a:ext cx="171720" cy="1454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71480" y="4690800"/>
              <a:ext cx="364680" cy="3088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14440" y="2531160"/>
              <a:ext cx="381960" cy="322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14920" y="2349720"/>
              <a:ext cx="330840" cy="2800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87960" y="5872680"/>
              <a:ext cx="107280" cy="910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0" y="3844800"/>
            <a:ext cx="39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9 business incub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0 entrepreneurial cen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0 development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4 free z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  technology p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r-H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chnology park Zagreb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chnology park Varaž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Institutional infrastructure of </a:t>
            </a:r>
            <a:br>
              <a:rPr sz="2400"/>
            </a:b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he Croatian innovation system</a:t>
            </a:r>
            <a:r>
              <a:rPr b="0" lang="hr-HR" sz="2400" spc="-1" strike="noStrike">
                <a:solidFill>
                  <a:srgbClr val="0088cc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technical infrastructure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s of the technical infra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2004 the basis for technical infrastructure has been achieved and harmonized with the European standards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office for norms and measur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s transformed into the three new institution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atian Accreditation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cy (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www.akreditacija.hr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atian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dards Institute  (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http://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www.dznm.hr/hzn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fice for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rology (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http://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www.dzm.hr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fice for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ellectual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perty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ghts (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http://www.dziv.hr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Bureau for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tistics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(CBS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http://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11"/>
              </a:rPr>
              <a:t>www.dzs.hr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12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These institu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the core of the technical infrastructure necessary for overall technological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nd innov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lopment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854360"/>
            <a:ext cx="829152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88cc"/>
                </a:solidFill>
                <a:latin typeface="Arial Black"/>
              </a:rPr>
              <a:t>Relevant international project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680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“Science and Technology Project“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of MS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ed by the World Bank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m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improving NIS, started in 20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RDS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pro</a:t>
            </a: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ject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Intellectual Property Infrastructure for the Research and Development Sector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”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imed at introducing IPR system in academic sphere, started in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TEMPUS project </a:t>
            </a: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“Stimulating Croatia’s Entrepreneurial Activities and Technology transfer in Education – CRE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” has been approved by the European Commission in August 2005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reate national university system for supporting entrepreneurial activities and technology transfer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URO-INFO Centre -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European information and communication centre Zagreb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was established at the Croatian Chamber of Economy, started in 2005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88cc"/>
                </a:solidFill>
                <a:latin typeface="Times New Roman"/>
              </a:rPr>
              <a:t>Towards Lisbon</a:t>
            </a:r>
            <a:br>
              <a:rPr sz="3200"/>
            </a:b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63010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these activities provide a platform for certain satisfaction with the innovation poli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lthou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oatia has no concrete “National 3% Action Plan”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r “National Lisbon plan”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here is mix of polici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should move Croatia’s orientation towards Lisbon goal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 knowledge socie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8760" y="5445000"/>
            <a:ext cx="49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4724280"/>
            <a:ext cx="6337440" cy="587160"/>
          </a:xfrm>
          <a:prstGeom prst="rect">
            <a:avLst/>
          </a:prstGeom>
          <a:solidFill>
            <a:srgbClr val="99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es Croatian NIS follow the path towards knowledge  econom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772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88cc"/>
                </a:solidFill>
                <a:latin typeface="Arial Black"/>
              </a:rPr>
              <a:t>Benchmark ecxercise – Croatia</a:t>
            </a:r>
            <a:endParaRPr b="0" lang="en-US" sz="28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1989000"/>
          <a:ext cx="7777080" cy="3311640"/>
        </p:xfrm>
        <a:graphic>
          <a:graphicData uri="http://schemas.openxmlformats.org/drawingml/2006/table">
            <a:tbl>
              <a:tblPr/>
              <a:tblGrid>
                <a:gridCol w="1666800"/>
                <a:gridCol w="2265480"/>
                <a:gridCol w="2044800"/>
                <a:gridCol w="1800000"/>
              </a:tblGrid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AND HUMAN 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ORP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LOGICAL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ND INNOVATION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FORM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971640" y="60213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5805360"/>
            <a:ext cx="727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ource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TRATA-ETAN Expert group for benchmarking national research policies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EC DG Research, June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19280" y="1484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Simple model of 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 rot="1911600">
            <a:off x="250560" y="2349360"/>
            <a:ext cx="237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pu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 rot="20048400">
            <a:off x="5867280" y="2420640"/>
            <a:ext cx="2590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utpu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88cc"/>
                </a:solidFill>
                <a:latin typeface="Times New Roman"/>
              </a:rPr>
              <a:t>Components of NIS - definition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413000"/>
            <a:ext cx="4038480" cy="2185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RESERCH INTENS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is a national pool of knowledge that makes a basis for the creation and adoption of new technologies and innov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2920" y="1413000"/>
            <a:ext cx="4038840" cy="2185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HUMAN CAPIT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represents the knowledge and skills embodied in individuals that make them capable of taking advantage of knowledge and new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3789360"/>
            <a:ext cx="4038480" cy="244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BSORPT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ION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 CAPAC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is the ability of a company to recognize, accept and exploit new technologies. It is highly interdependent with innovation performance</a:t>
            </a:r>
            <a:r>
              <a:rPr b="0" lang="hr-HR" sz="1400" spc="-1" strike="noStrike">
                <a:solidFill>
                  <a:srgbClr val="003300"/>
                </a:solidFill>
                <a:latin typeface="Arial"/>
              </a:rPr>
              <a:t>. It is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capacity  is  closely connected to the inf</a:t>
            </a:r>
            <a:r>
              <a:rPr b="0" lang="hr-HR" sz="1400" spc="-1" strike="noStrike">
                <a:solidFill>
                  <a:srgbClr val="0033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a</a:t>
            </a:r>
            <a:r>
              <a:rPr b="0" lang="hr-HR" sz="1400" spc="-1" strike="noStrike">
                <a:solidFill>
                  <a:srgbClr val="0033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tru</a:t>
            </a:r>
            <a:r>
              <a:rPr b="0" lang="hr-HR" sz="1400" spc="-1" strike="noStrike">
                <a:solidFill>
                  <a:srgbClr val="003300"/>
                </a:solidFill>
                <a:latin typeface="Arial"/>
              </a:rPr>
              <a:t>ctu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re and channels that enable diffusion of innovation such as </a:t>
            </a:r>
            <a:r>
              <a:rPr b="0" lang="hr-HR" sz="1400" spc="-1" strike="noStrike">
                <a:solidFill>
                  <a:srgbClr val="003300"/>
                </a:solidFill>
                <a:latin typeface="Arial"/>
              </a:rPr>
              <a:t>ICT,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quality management</a:t>
            </a:r>
            <a:r>
              <a:rPr b="0" lang="hr-HR" sz="1400" spc="-1" strike="noStrike">
                <a:solidFill>
                  <a:srgbClr val="003300"/>
                </a:solidFill>
                <a:latin typeface="Arial"/>
              </a:rPr>
              <a:t>, etc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3789360"/>
            <a:ext cx="4038480" cy="25192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TECHNOLOGICAL AND INNOVATION 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rather complex area that should indicate the degree of capitalization of science or transformation of research and human capacities into inovativnnes, competitiveness  and  produc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88cc"/>
                </a:solidFill>
                <a:latin typeface="Times New Roman"/>
              </a:rPr>
              <a:t>Starting points of the presentation</a:t>
            </a:r>
            <a:r>
              <a:rPr b="0" lang="hr-HR" sz="3600" spc="-1" strike="noStrike">
                <a:solidFill>
                  <a:srgbClr val="0088cc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6589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nnovation syste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n Croatia is rather complex  but not coherent set of institutions mutually interrelated to pursue the same mission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of “using knowledge for development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ag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ng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hind NISs of other European countries (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benchmark analysi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nnovation polic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n Croatia is not an integrated policy but a narrowly-shaped program for fostering science-industry co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fore, the Croatian innovation policy  should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meet the reality</a:t>
            </a:r>
            <a:r>
              <a:rPr b="1" lang="hr-HR" sz="1800" spc="-1" strike="noStrike">
                <a:solidFill>
                  <a:srgbClr val="3333ff"/>
                </a:solidFill>
                <a:latin typeface="Times New Roman"/>
              </a:rPr>
              <a:t>”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nd to be adjusted to the specific development needs of Croatia determined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4653000"/>
            <a:ext cx="287964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chnology adv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conomic progres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cial 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4581360"/>
            <a:ext cx="3095640" cy="87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of the country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using innovation (knowledge) as a main driving force of economic grow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4724280"/>
            <a:ext cx="647640" cy="503280"/>
          </a:xfrm>
          <a:prstGeom prst="rightArrow">
            <a:avLst>
              <a:gd name="adj1" fmla="val 50000"/>
              <a:gd name="adj2" fmla="val 3217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422100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14480 h 576360"/>
              <a:gd name="textAreaBottom" fmla="*/ 350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2898935"/>
                <a:lnTo>
                  <a:pt x="7200" y="21110"/>
                </a:lnTo>
                <a:lnTo>
                  <a:pt x="0" y="17280"/>
                </a:lnTo>
                <a:lnTo>
                  <a:pt x="7200" y="12470"/>
                </a:lnTo>
                <a:lnTo>
                  <a:pt x="7200" y="16662"/>
                </a:lnTo>
                <a:arcTo wR="21600" hR="8576" stAng="2898935" swAng="-2878561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32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8cc"/>
                </a:solidFill>
                <a:latin typeface="Times New Roman"/>
              </a:rPr>
              <a:t>Components of NIS as composite indicators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1268280"/>
            <a:ext cx="4038480" cy="2160720"/>
          </a:xfrm>
          <a:prstGeom prst="rect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ff"/>
                </a:solidFill>
                <a:latin typeface="Times New Roman"/>
              </a:rPr>
              <a:t>RESEARCH CAPAC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Gross domestic expenditures in R&amp;D (GERD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Total number of researchers  (FTE) per 1000 labour force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Number of scientific publications per million pop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3280" y="1268280"/>
            <a:ext cx="4111920" cy="2160720"/>
          </a:xfrm>
          <a:prstGeom prst="rect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ff"/>
                </a:solidFill>
                <a:latin typeface="Arial"/>
              </a:rPr>
              <a:t>INTELECTUAL 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Total public expend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t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u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re on tertiary education as a percentage of GD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Percentage of population aged 25-64 with upper secondary educati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New PhDs in S&amp;E fields per 1000 population aged  25-3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8360" y="3573360"/>
            <a:ext cx="4038480" cy="3097440"/>
          </a:xfrm>
          <a:prstGeom prst="rect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BSORPT</a:t>
            </a:r>
            <a:r>
              <a:rPr b="0" lang="hr-HR" sz="1400" spc="-1" strike="noStrike">
                <a:solidFill>
                  <a:srgbClr val="0066ff"/>
                </a:solidFill>
                <a:latin typeface="Arial"/>
              </a:rPr>
              <a:t>ION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CAPAC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Number of ISO certifications  9000  per million inh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bit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Number of Internet Hosts per 10 000 inhabitant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Researchers (FTE) in business sector  as a percentage of total researchers (FTE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716360" y="3573360"/>
            <a:ext cx="3959280" cy="3097440"/>
          </a:xfrm>
          <a:prstGeom prst="rect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TECHNOLOGICAL AND INNOVATION PERFORM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tent applications (PCT)  per million population (techn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logical ou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put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High-tech exports as a percentage of manufactured exports (competi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ti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v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n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es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R&amp;D financed by industry  (BERD) as percentage of GDP a measure of intrinsic interest and demand of industry for R&amp;D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8cc"/>
                </a:solidFill>
                <a:latin typeface="Times New Roman"/>
              </a:rPr>
              <a:t>CALCULATION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03280" y="1267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r main task was to determine the relative position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Croatia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n NIS measured by composite indicato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relation to the t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wo bas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ets of countr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EU 25 – all the European member st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 10 –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the 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w member st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to see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iations or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ergence of each country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and Croati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the average of the basic set of count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8cc"/>
                </a:solidFill>
                <a:latin typeface="Times New Roman"/>
              </a:rPr>
              <a:t>Calculation of composite indicators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6912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n order t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and to correl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posite indicators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necessary to transform various sub- indicators that are measured in different unites into the s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method calculates z-scores or standardized units of the number of standard deviations from the mean, using the following formula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 (above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ethod for calculation composite indicators is taken over from Towards a European research Area: Key Figures 2002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2276640"/>
            <a:ext cx="504720" cy="48564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19280" y="2133720"/>
            <a:ext cx="180036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E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Per capita unit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2133720"/>
            <a:ext cx="208764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Should be convert 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the single measur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4410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88cc"/>
                </a:solidFill>
                <a:latin typeface="Arial Black"/>
              </a:rPr>
              <a:t>Results – Research intensity vs. Human capital</a:t>
            </a:r>
            <a:endParaRPr b="0" lang="en-US" sz="20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5640" y="1125000"/>
            <a:ext cx="6985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ee the relative position of Croatia we put into the relationship each of the composite indicator against each other. We receive 6 graph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as follow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836720" y="2095560"/>
          <a:ext cx="3846600" cy="403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6720" y="2095560"/>
                    <a:ext cx="384660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88cc"/>
                </a:solidFill>
                <a:latin typeface="Arial Black"/>
              </a:rPr>
              <a:t>Results – Graph 2 .Research intensity vs. Absorption capacity</a:t>
            </a:r>
            <a:endParaRPr b="0" lang="en-US" sz="20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357200" y="1295280"/>
          <a:ext cx="543888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7200" y="1295280"/>
                    <a:ext cx="543888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8cc"/>
                </a:solidFill>
                <a:latin typeface="Arial Black"/>
              </a:rPr>
              <a:t>Results: Graph 3. Research intensity vs. Performance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295280" y="1411200"/>
            <a:ext cx="556272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8cc"/>
                </a:solidFill>
                <a:latin typeface="Arial Black"/>
              </a:rPr>
              <a:t>Results: Graph 4. Human capital vs Absorption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042920" y="1341360"/>
          <a:ext cx="5329440" cy="45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341360"/>
                    <a:ext cx="5329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8cc"/>
                </a:solidFill>
                <a:latin typeface="Arial Black"/>
              </a:rPr>
              <a:t>Results: Graph 5 Human capital vs Performance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00000" y="1341360"/>
          <a:ext cx="633600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341360"/>
                    <a:ext cx="63360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8cc"/>
                </a:solidFill>
                <a:latin typeface="Arial Black"/>
              </a:rPr>
              <a:t>Results: Graph 6.</a:t>
            </a:r>
            <a:r>
              <a:rPr b="0" lang="hr-HR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hr-HR" sz="2400" spc="-1" strike="noStrike">
                <a:solidFill>
                  <a:srgbClr val="0088cc"/>
                </a:solidFill>
                <a:latin typeface="Arial Black"/>
              </a:rPr>
              <a:t>Absorption vs performance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16000" y="1557360"/>
          <a:ext cx="55436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55436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88cc"/>
                </a:solidFill>
                <a:latin typeface="Arial Black"/>
              </a:rPr>
              <a:t>Results – Croatia and EU 25</a:t>
            </a:r>
            <a:endParaRPr b="0" lang="en-US" sz="20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94920" y="1052280"/>
            <a:ext cx="6877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EU 25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possible to identify  at least three groups of countri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 that are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significantly above EU 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the components of NIS: Sweden, Finland, Denmark, Germany, Untied Kingdom, and (Netherlands with the exception of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H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se countries are the most efficient in the transition towards knowledge economy and in utilization of   knowledge  factors and innovation for economic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 that are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bout EU 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uch as Belgium, France, Austria, Ireland and Luxembourg (with the exception of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H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 Those countries are catching up with the first group in knowledge based econom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 which are in almost all composite indicators (with some oscillations)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below EU averag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group comprises all the new member states, but also southeastern countries like Greece, Spain, Italy, Portugal and Cyprus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cc0066"/>
                </a:solidFill>
                <a:latin typeface="Arial"/>
              </a:rPr>
              <a:t>…</a:t>
            </a:r>
            <a:r>
              <a:rPr b="1" lang="hr-HR" sz="1800" spc="-1" strike="noStrike">
                <a:solidFill>
                  <a:srgbClr val="cc0066"/>
                </a:solidFill>
                <a:latin typeface="Arial"/>
              </a:rPr>
              <a:t>.Croat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88cc"/>
                </a:solidFill>
                <a:latin typeface="Times New Roman"/>
              </a:rPr>
              <a:t>Content of the presentation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entation consists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 the three par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Current state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 Croatian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NI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institutional and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anizational set-up, main stakeholders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atian innovation policy – policy framework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documents), main programs and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truments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Results of the pilot benchmark analysis of the Croatian NIS and NISs of EU countries to stress the critical points of the Croatian N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Brief discussion of the socio-cultural inertia and the lack of policy learning that are perceived as the main obstacles to faster development of Croat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Arial Black"/>
              </a:rPr>
              <a:t>EU 25 (+ Croatia) Composite indicators – divergence from average, 2001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11280" y="2108160"/>
          <a:ext cx="7848360" cy="3198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108160"/>
                    <a:ext cx="784836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Arial Black"/>
              </a:rPr>
              <a:t>Divergence of Croatia from EU 25 average in composite indicators, 2001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55640" y="1638360"/>
          <a:ext cx="7129440" cy="3981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638360"/>
                    <a:ext cx="712944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Arial Black"/>
              </a:rPr>
              <a:t>EU 10 (+ Croatia) Composite indicators – divergence from average, 2001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94920" y="1295280"/>
            <a:ext cx="630108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position of Croatia in relation to the new member states (EU 10) is not much different from its position among all (25) EU countri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also possible to make the distinction between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roups of countries among new member st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11280" y="2421000"/>
          <a:ext cx="7777080" cy="3435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421000"/>
                    <a:ext cx="7777080" cy="34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7636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1" lang="hr-HR" sz="3200" spc="-1" strike="noStrike">
                <a:solidFill>
                  <a:srgbClr val="0088cc"/>
                </a:solidFill>
                <a:latin typeface="Arial Black"/>
              </a:rPr>
              <a:t>Results - Croatia and EU 10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 that are in all four or at least three components of NI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bove average such as: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Czech Republic, Estonia,</a:t>
            </a:r>
            <a:r>
              <a:rPr b="1" lang="hr-HR" sz="1800" spc="-1" strike="noStrike">
                <a:solidFill>
                  <a:srgbClr val="cc0066"/>
                </a:solidFill>
                <a:latin typeface="Arial"/>
              </a:rPr>
              <a:t>Hu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ngary and Sloven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r-HR" sz="1800" spc="-1" strike="noStrike">
                <a:solidFill>
                  <a:srgbClr val="3366ff"/>
                </a:solidFill>
                <a:latin typeface="Arial"/>
              </a:rPr>
              <a:t>Czech Republic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and Sloven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finitely the leading countries in innovation capabi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ntries that are above (or about) average in 2 components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Cyprus, Lithuania, and Slovak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ntries with three or four components below EU 10averge –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Lat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ur components)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Po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hree components) and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Croat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ree compon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Arial Black"/>
              </a:rPr>
              <a:t>Croatia- divergence from EU 10 in selected indicators,2001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comparison with EU 10 Croatia is better in only one composite indicator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research capac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one sub-indicator –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high-tech expo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rcRect l="0" t="20549" r="0" b="19081"/>
          <a:stretch/>
        </p:blipFill>
        <p:spPr>
          <a:xfrm>
            <a:off x="324000" y="2276640"/>
            <a:ext cx="777708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88cc"/>
                </a:solidFill>
                <a:latin typeface="Times New Roman"/>
              </a:rPr>
              <a:t>GERD is in constant upswing line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27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88cc"/>
                </a:solidFill>
                <a:latin typeface="Times New Roman"/>
              </a:rPr>
              <a:t>GERD – Croatia is topping the list of the New member states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7920000" cy="4448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494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476360" y="6093000"/>
          <a:ext cx="5715000" cy="25848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gure 5.5</a:t>
                      </a: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ross domestic expenditure of R&amp;D (GERD), 2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88cc"/>
                </a:solidFill>
                <a:latin typeface="Times New Roman"/>
              </a:rPr>
              <a:t>A pool of researchers in Croatia is bigger than in majority of the New member states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775280" cy="4537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479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47640" y="6093000"/>
          <a:ext cx="6264360" cy="303120"/>
        </p:xfrm>
        <a:graphic>
          <a:graphicData uri="http://schemas.openxmlformats.org/drawingml/2006/table">
            <a:tbl>
              <a:tblPr/>
              <a:tblGrid>
                <a:gridCol w="62643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researchers (FTE) per 1000 labour force in Croatia and EU 25,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88cc"/>
                </a:solidFill>
                <a:latin typeface="Arial Black"/>
              </a:rPr>
              <a:t>However… </a:t>
            </a:r>
            <a:r>
              <a:rPr b="1" lang="hr-HR" sz="3200" spc="-1" strike="noStrike">
                <a:solidFill>
                  <a:srgbClr val="b9131f"/>
                </a:solidFill>
                <a:latin typeface="Arial Black"/>
              </a:rPr>
              <a:t>i</a:t>
            </a:r>
            <a:r>
              <a:rPr b="0" lang="hr-HR" sz="3600" spc="-1" strike="noStrike">
                <a:solidFill>
                  <a:srgbClr val="cc0066"/>
                </a:solidFill>
                <a:latin typeface="Arial Black"/>
              </a:rPr>
              <a:t>n human capital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71640" y="2496960"/>
          <a:ext cx="6553080" cy="345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496960"/>
                    <a:ext cx="6553080" cy="34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556272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66"/>
                </a:solidFill>
                <a:latin typeface="Arial"/>
              </a:rPr>
              <a:t>we are on the bottom of the list of the New member state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66"/>
                </a:solidFill>
                <a:latin typeface="Arial Black"/>
              </a:rPr>
              <a:t>In absorption capacity ….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556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we are before Lithuania which is on the bottom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400040" y="1873080"/>
          <a:ext cx="6485040" cy="36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0040" y="1873080"/>
                    <a:ext cx="648504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88cc"/>
                </a:solidFill>
                <a:latin typeface="Times New Roman"/>
              </a:rPr>
              <a:t>Beginnings…</a:t>
            </a:r>
            <a:endParaRPr b="0" lang="en-US" sz="28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Since 2000 Croatia made significant effort in establishing national innovation system </a:t>
            </a:r>
            <a:r>
              <a:rPr b="0" lang="hr-HR" sz="1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and introducing innovation policy</a:t>
            </a:r>
            <a:r>
              <a:rPr b="0" lang="en-US" sz="18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endeavors were additionally supported by th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Times New Roman"/>
              </a:rPr>
              <a:t>Accession negotiations with the European Union (E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pened on the 4th October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ff"/>
                </a:solidFill>
                <a:latin typeface="Times New Roman"/>
              </a:rPr>
              <a:t>…</a:t>
            </a:r>
            <a:r>
              <a:rPr b="0" lang="hr-HR" sz="1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brought Lisbon and Barcelona targets into strategic policy agendas</a:t>
            </a:r>
            <a:r>
              <a:rPr b="0" lang="hr-HR" sz="1800" spc="-1" strike="noStrike">
                <a:solidFill>
                  <a:srgbClr val="3333ff"/>
                </a:solidFill>
                <a:latin typeface="Times New Roman"/>
              </a:rPr>
              <a:t> of Croati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creening process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for  both the s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...have be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successfully finalized with overall conclusions th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55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e  legal and institutional point of Croatian systems are harmonized with th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acqu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55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rther development is needed….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4292640"/>
            <a:ext cx="3348000" cy="792000"/>
          </a:xfrm>
          <a:prstGeom prst="flowChartPredefined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&amp;D and 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Chapter 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4365720"/>
            <a:ext cx="3348000" cy="792000"/>
          </a:xfrm>
          <a:prstGeom prst="flowChartPredefined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ovation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pter 20.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149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4149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27640" y="4076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66"/>
                </a:solidFill>
                <a:latin typeface="Arial Black"/>
              </a:rPr>
              <a:t>In innovation performance capacity…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5562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we are below EU 10 ave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544760" y="1951200"/>
          <a:ext cx="5979960" cy="346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4760" y="1951200"/>
                    <a:ext cx="5979960" cy="34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88cc"/>
                </a:solidFill>
                <a:latin typeface="Times New Roman"/>
              </a:rPr>
              <a:t>Collapse of illusions</a:t>
            </a:r>
            <a:endParaRPr b="0" lang="en-US" sz="40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666144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.that we are maybe better than the previous transition countres in human capital or innovation capacit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n both groups of countries Croatia is lagging the most i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66"/>
                </a:solidFill>
                <a:latin typeface="Times New Roman"/>
              </a:rPr>
              <a:t>absorption capacity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</a:rPr>
              <a:t>human capi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rcRect l="0" t="19815" r="0" b="0"/>
          <a:stretch/>
        </p:blipFill>
        <p:spPr>
          <a:xfrm>
            <a:off x="539640" y="2708280"/>
            <a:ext cx="7704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88cc"/>
                </a:solidFill>
                <a:latin typeface="Times New Roman"/>
              </a:rPr>
              <a:t>Croatian NIS – critical components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294920" y="1294920"/>
            <a:ext cx="2705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MEANS THAT THE MOST CRITICAL COMPONENTS OF THE CROATIAN NIS A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88000" y="1341360"/>
            <a:ext cx="2705040" cy="23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lity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research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an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ization of Croati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859280" y="3860640"/>
            <a:ext cx="270504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in tertiary educa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new scientists in engineer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ucated labor for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2997360"/>
            <a:ext cx="718920" cy="502920"/>
          </a:xfrm>
          <a:custGeom>
            <a:avLst/>
            <a:gdLst>
              <a:gd name="textAreaLeft" fmla="*/ 125640 w 718920"/>
              <a:gd name="textAreaRight" fmla="*/ 521280 w 718920"/>
              <a:gd name="textAreaTop" fmla="*/ 67320 h 502920"/>
              <a:gd name="textAreaBottom" fmla="*/ 43560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24360" y="3716280"/>
            <a:ext cx="718920" cy="360360"/>
          </a:xfrm>
          <a:custGeom>
            <a:avLst/>
            <a:gdLst>
              <a:gd name="textAreaLeft" fmla="*/ 125640 w 718920"/>
              <a:gd name="textAreaRight" fmla="*/ 521280 w 7189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R&amp;D sector: structural imbalances in number of researchers and R&amp;D investments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19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analysis of R&amp;D sector in the narrow sense, in terms of  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vestment in R&amp;D and number of researchers in public vs. private sector reveals that R&amp;D </a:t>
            </a:r>
            <a:r>
              <a:rPr b="1" lang="en-US" sz="1600" spc="-1" strike="noStrike">
                <a:solidFill>
                  <a:srgbClr val="ff00ff"/>
                </a:solidFill>
                <a:latin typeface="Times New Roman"/>
              </a:rPr>
              <a:t>sectors is suffering the serious structural imbalanc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since public sector significantly domint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vate sector while in developed countries industry and business sectors in both research manpower and investments largely predominate the public se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ile in developed countries about 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- 80 percent of researchers are employed in business sphere in Croatia, the situation is just the opposite.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ubic sector, (HE and government employs 85%) of researches, while business sector employs modest 15 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9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6840360" cy="2952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468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124000" y="6021360"/>
          <a:ext cx="4686480" cy="455760"/>
        </p:xfrm>
        <a:graphic>
          <a:graphicData uri="http://schemas.openxmlformats.org/drawingml/2006/table">
            <a:tbl>
              <a:tblPr/>
              <a:tblGrid>
                <a:gridCol w="46864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archers (%) in public and business sectors in selected countries,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R&amp;D sector: structural imbalances in R&amp;D investments between public and private sector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71640" y="1294920"/>
            <a:ext cx="72007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sector in Croatia  invests 0,45 % of GDP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Business sector invests in EU 15 countries more than 1 % of GDP from 0,27 in Portugal to 3,32 in Sweden 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fore, the development of R&amp;D sector should, presumably, involve further development of public sector R&amp;D to catch up with European standards but concerted actions of both government and private business for strengthening industrial research capacities are seriously need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87280" y="2887560"/>
          <a:ext cx="7201080" cy="311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2887560"/>
                    <a:ext cx="720108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8cc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15640" y="764640"/>
            <a:ext cx="705636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tional innovation system of Croatia is </a:t>
            </a: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underdevelop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comparison with both – all the member states of EU – 25 and new member states – EU 10 countries that belonged to transition countries as well as Croat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oatia is </a:t>
            </a: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lagging behind in knowledge based fac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growth that commonly shape the new techno-economic paradigm – knowledge economy such as: qualification structure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f the labor force, technology capabilities of companies, research capacity in industry, computerization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oatia is </a:t>
            </a: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competitiv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EU countries only </a:t>
            </a: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in research intens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hat reflects the present orientation of innovation policy primarily towards </a:t>
            </a: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supply sid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terms of number of researchers and investments in R&amp;D in public sect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 support the thesis that  Science policy in Croatia is standard policy based on a </a:t>
            </a: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linear model of innov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which science is a prime mover of technology developmen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88cc"/>
                </a:solidFill>
                <a:latin typeface="Times New Roman"/>
              </a:rPr>
              <a:t>CONCLUSIONS (cont.)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021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licymakers in Croati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capitalization of scie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innovation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gins and ends with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, science and innovation policy is primarily </a:t>
            </a: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focused on public scie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eparate from production and entrepreneurshi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hr-HR" sz="2400" spc="-1" strike="noStrike">
                <a:solidFill>
                  <a:srgbClr val="ff00ff"/>
                </a:solidFill>
                <a:latin typeface="Times New Roman"/>
              </a:rPr>
              <a:t>Innovation policy is a part of science polic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that i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alized and dominated by MSOS as the main financer and consumer of R&amp;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inistry of economy runs its own programs for business development mainly </a:t>
            </a:r>
            <a:r>
              <a:rPr b="0" lang="hr-HR" sz="2400" spc="-1" strike="noStrike">
                <a:solidFill>
                  <a:srgbClr val="ff00ff"/>
                </a:solidFill>
                <a:latin typeface="Times New Roman"/>
              </a:rPr>
              <a:t>unware of the innovation polic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8cc"/>
                </a:solidFill>
                <a:latin typeface="Times New Roman"/>
              </a:rPr>
              <a:t>The main reasons for </a:t>
            </a:r>
            <a:r>
              <a:rPr b="0" lang="hr-HR" sz="3200" spc="-1" strike="noStrike">
                <a:solidFill>
                  <a:srgbClr val="0088cc"/>
                </a:solidFill>
                <a:latin typeface="Times New Roman"/>
              </a:rPr>
              <a:t>underdeveloped innovation policy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6516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re perceived in the socio-cultural inertia and lack of policy learn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policymakers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shoul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dersta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complexity of the innovation proces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– innovation is essentially the result of the </a:t>
            </a: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interactive proces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between many actors and sectors (science, companies, financial sector, legal conditions, ec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at there is a need to create </a:t>
            </a: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conditions for their interactions and combination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of different kinds of knowledge: scientific, engineering, production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Lisbon agenda requests a shift from the conventional science policy towards integrated and pro-active innovation polic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that means integration of science, industry and technology polic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88cc"/>
                </a:solidFill>
                <a:latin typeface="Times New Roman"/>
              </a:rPr>
              <a:t>Is integrated innovation policy possible in Croatia?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63010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owever, integrated innovation policy should </a:t>
            </a: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significantly influence both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Science polic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(science organization, evaluation and institutional set-ups), pushing it towards the norms and values of a concepts close to “new knowledge production” and “triple helix” that are not welcome in our scientific community 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Industrial polic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that is today reduced to privatization of state-owned companies and financial rehabilitation of weak industries but corresponds to neo-liberalism that is a dominant economic doctrine in Croat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ONFRONTATION  WITH THE SOCIO-CULTURAL  NORMS AND VALU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71640" y="228600"/>
            <a:ext cx="5832360" cy="896760"/>
          </a:xfrm>
          <a:prstGeom prst="wedgeRoundRectCallout">
            <a:avLst>
              <a:gd name="adj1" fmla="val -8384"/>
              <a:gd name="adj2" fmla="val 56194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S CROATIAN DEVELOPMENT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ON THE CROSS-RO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200400" y="1523880"/>
          <a:ext cx="253836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523880"/>
                    <a:ext cx="25383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762120" y="4724280"/>
            <a:ext cx="2369880" cy="990720"/>
          </a:xfrm>
          <a:prstGeom prst="wedgeEllipseCallout">
            <a:avLst>
              <a:gd name="adj1" fmla="val 45379"/>
              <a:gd name="adj2" fmla="val -83013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4800600"/>
            <a:ext cx="1852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9966"/>
                </a:solidFill>
                <a:latin typeface="Arial"/>
                <a:ea typeface="Arial"/>
              </a:rPr>
              <a:t>Standard industrial policy</a:t>
            </a:r>
            <a:r>
              <a:rPr b="1" lang="hr-HR" sz="2400" spc="-1" strike="noStrike">
                <a:solidFill>
                  <a:srgbClr val="3399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981080"/>
            <a:ext cx="2590920" cy="1219320"/>
          </a:xfrm>
          <a:prstGeom prst="wedgeEllipseCallout">
            <a:avLst>
              <a:gd name="adj1" fmla="val 65625"/>
              <a:gd name="adj2" fmla="val -43361"/>
            </a:avLst>
          </a:prstGeom>
          <a:solidFill>
            <a:srgbClr val="ffffcc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21337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Arial"/>
              </a:rPr>
              <a:t>SCIENC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72200" y="1676520"/>
            <a:ext cx="2144880" cy="1143000"/>
          </a:xfrm>
          <a:prstGeom prst="wedgeEllipseCallout">
            <a:avLst>
              <a:gd name="adj1" fmla="val -71097"/>
              <a:gd name="adj2" fmla="val -6111"/>
            </a:avLst>
          </a:prstGeom>
          <a:solidFill>
            <a:srgbClr val="ffff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00720" y="1916280"/>
            <a:ext cx="220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I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00720" y="3068640"/>
            <a:ext cx="2374920" cy="1511280"/>
          </a:xfrm>
          <a:prstGeom prst="wedgeEllipseCallout">
            <a:avLst>
              <a:gd name="adj1" fmla="val -73930"/>
              <a:gd name="adj2" fmla="val -36555"/>
            </a:avLst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04880" y="350208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cc"/>
                </a:solidFill>
                <a:latin typeface="Arial"/>
                <a:ea typeface="Arial"/>
              </a:rPr>
              <a:t>Fostering knowle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cc"/>
                </a:solidFill>
                <a:latin typeface="Arial"/>
                <a:ea typeface="Arial"/>
              </a:rPr>
              <a:t>based factors of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3284640"/>
            <a:ext cx="1871640" cy="1282680"/>
          </a:xfrm>
          <a:prstGeom prst="cloudCallout">
            <a:avLst>
              <a:gd name="adj1" fmla="val -10898"/>
              <a:gd name="adj2" fmla="val 9232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573360"/>
            <a:ext cx="23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33cc"/>
                </a:solidFill>
                <a:latin typeface="Arial"/>
                <a:ea typeface="Arial"/>
              </a:rPr>
              <a:t>Privatizatio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33cc"/>
                </a:solidFill>
                <a:latin typeface="Arial"/>
                <a:ea typeface="Arial"/>
              </a:rPr>
              <a:t>rehabil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5724360" y="4724280"/>
            <a:ext cx="2095560" cy="1405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echnology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62520" y="5240160"/>
            <a:ext cx="855720" cy="289080"/>
          </a:xfrm>
          <a:custGeom>
            <a:avLst/>
            <a:gdLst/>
            <a:ahLst/>
            <a:rect l="l" t="t" r="r" b="b"/>
            <a:pathLst>
              <a:path w="539" h="182">
                <a:moveTo>
                  <a:pt x="0" y="173"/>
                </a:moveTo>
                <a:cubicBezTo>
                  <a:pt x="18" y="145"/>
                  <a:pt x="32" y="115"/>
                  <a:pt x="55" y="91"/>
                </a:cubicBezTo>
                <a:cubicBezTo>
                  <a:pt x="85" y="61"/>
                  <a:pt x="114" y="35"/>
                  <a:pt x="137" y="0"/>
                </a:cubicBezTo>
                <a:cubicBezTo>
                  <a:pt x="155" y="6"/>
                  <a:pt x="173" y="8"/>
                  <a:pt x="183" y="27"/>
                </a:cubicBezTo>
                <a:cubicBezTo>
                  <a:pt x="192" y="44"/>
                  <a:pt x="201" y="82"/>
                  <a:pt x="201" y="82"/>
                </a:cubicBezTo>
                <a:cubicBezTo>
                  <a:pt x="204" y="109"/>
                  <a:pt x="193" y="142"/>
                  <a:pt x="210" y="164"/>
                </a:cubicBezTo>
                <a:cubicBezTo>
                  <a:pt x="215" y="170"/>
                  <a:pt x="315" y="131"/>
                  <a:pt x="329" y="128"/>
                </a:cubicBezTo>
                <a:cubicBezTo>
                  <a:pt x="335" y="119"/>
                  <a:pt x="339" y="107"/>
                  <a:pt x="347" y="100"/>
                </a:cubicBezTo>
                <a:cubicBezTo>
                  <a:pt x="363" y="86"/>
                  <a:pt x="402" y="64"/>
                  <a:pt x="402" y="64"/>
                </a:cubicBezTo>
                <a:cubicBezTo>
                  <a:pt x="413" y="107"/>
                  <a:pt x="406" y="151"/>
                  <a:pt x="439" y="182"/>
                </a:cubicBezTo>
                <a:cubicBezTo>
                  <a:pt x="476" y="176"/>
                  <a:pt x="495" y="181"/>
                  <a:pt x="521" y="155"/>
                </a:cubicBezTo>
                <a:cubicBezTo>
                  <a:pt x="529" y="147"/>
                  <a:pt x="539" y="128"/>
                  <a:pt x="539" y="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Institutional set-up for R&amp;D and innovation in</a:t>
            </a: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Croatia</a:t>
            </a: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 (1/2)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4360" y="1101600"/>
            <a:ext cx="770400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Institutional framework for innovation policy management</a:t>
            </a: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 and implementation (2/2)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16000" y="1295280"/>
            <a:ext cx="604836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Documents relevant for innovation policy</a:t>
            </a:r>
            <a:r>
              <a:rPr b="1" lang="hr-HR" sz="2000" spc="-1" strike="noStrike">
                <a:solidFill>
                  <a:srgbClr val="0088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1268280"/>
          <a:ext cx="8229600" cy="5381640"/>
        </p:xfrm>
        <a:graphic>
          <a:graphicData uri="http://schemas.openxmlformats.org/drawingml/2006/table">
            <a:tbl>
              <a:tblPr/>
              <a:tblGrid>
                <a:gridCol w="946080"/>
                <a:gridCol w="72835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The National Science and Research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roatian Program for Innovative Technological Development (HIT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Croatia base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 on knowledge and the application of knowledge” adopted by Croatian Academy of Sciences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 and A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Strategy of Development of the Republic of Croatia in the 21 Century- Science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Strategic plan of the National Foundation for Science 2004 –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55 recommendations of The National Competitiveness Council for increased competitiveness of Croat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National 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cience and 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echnology 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olicy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 2005-2010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accepted 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 by the 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National 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Scientific 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Counc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Strategic Framework for Development 2006-2013, Central State Office for Strategic Developmnet (15.05. 2006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88cc"/>
                </a:solidFill>
                <a:latin typeface="Times New Roman"/>
              </a:rPr>
              <a:t>The first innovation policy program -Program HITRA</a:t>
            </a:r>
            <a:endParaRPr b="0" lang="en-US" sz="28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8cc"/>
                </a:solidFill>
                <a:latin typeface="Arial"/>
              </a:rPr>
              <a:t>Croatian Program for Innovative Technological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88cc"/>
                </a:solidFill>
                <a:latin typeface="Times New Roman"/>
              </a:rPr>
              <a:t>First government innovation policy program  (adopted in 200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ilding up efficient national innovation syste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Long term goal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stering science-industry cooper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talization of industrial R&amp;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uraging commercialization of the research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urrent task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pecialy designed to foster science –industry co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rovides a framework for direct cooperation between entrepreneurs and scientific institutes/univers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468360" y="907920"/>
          <a:ext cx="8280360" cy="4732560"/>
        </p:xfrm>
        <a:graphic>
          <a:graphicData uri="http://schemas.openxmlformats.org/drawingml/2006/table">
            <a:tbl>
              <a:tblPr/>
              <a:tblGrid>
                <a:gridCol w="1887480"/>
                <a:gridCol w="1889280"/>
                <a:gridCol w="450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Program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projects</a:t>
                      </a: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s of the policy measures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</a:t>
                      </a:r>
                      <a:r>
                        <a:rPr b="0" lang="hr-HR" sz="2800" spc="-1" strike="noStrike">
                          <a:solidFill>
                            <a:srgbClr val="af67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” technology projects (TP)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ly promising products, processes and services prior to their commercial use (prototype/pilot stage)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laborativ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 technology projects (STIRP)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disciplinary, cooperative research for launching new or developing the existing technological areas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 (Jezg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and technological NUCLEUS concentration of R&amp;D resources (experts, equipment, instruments) to gain critical mass for research based services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ledge-based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.</a:t>
                      </a:r>
                      <a:r>
                        <a:rPr b="0" lang="hr-HR" sz="1800" spc="-1" strike="noStrike">
                          <a:solidFill>
                            <a:srgbClr val="af67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AZUM</a:t>
                      </a:r>
                      <a:r>
                        <a:rPr b="0" lang="hr-HR" sz="1800" spc="-1" strike="noStrike">
                          <a:solidFill>
                            <a:srgbClr val="af67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ization of research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rough  companies (start-up, spin-offs, expansion…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498760" y="465120"/>
            <a:ext cx="4965840" cy="336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84360" y="4508640"/>
            <a:ext cx="122544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11280" y="5516640"/>
            <a:ext cx="165564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4:24:19Z</dcterms:created>
  <dc:creator>jsvarc</dc:creator>
  <dc:description/>
  <dc:language>en-US</dc:language>
  <cp:lastModifiedBy>jsvarc</cp:lastModifiedBy>
  <dcterms:modified xsi:type="dcterms:W3CDTF">2006-09-27T14:47:46Z</dcterms:modified>
  <cp:revision>143</cp:revision>
  <dc:subject/>
  <dc:title>Slide 1</dc:title>
</cp:coreProperties>
</file>