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FAA8-5752-4E40-9394-8DAD79C83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904760" y="3982680"/>
            <a:ext cx="60195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AD36-BDE7-49DC-AA0B-C580D559D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04760" y="39826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240" y="39826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73D8-54A8-47AB-9C1B-6E00F5F3F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39840" y="8380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4920" y="8380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904760" y="39826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39840" y="39826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4920" y="39826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A14E-EC4B-42C3-9D66-AF81CA5FC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54A0-A14F-44B7-9677-ADC305A4C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8C50-BBEA-4A35-8514-2F7A5D353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3C74-EDF1-4764-BA66-EDA8F47FB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7688-754E-4A7E-88AE-F2ABFD155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5534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0622-FAFF-4EA3-A87A-D95B974DE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904760" y="39826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4DA7-6182-4528-9975-BBFE741BF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240" y="39826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1E86-F5DB-4DAA-A33A-E4EC3CAE4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04760" y="3982680"/>
            <a:ext cx="60195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001D-71B4-4821-9654-D139BAD71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82440"/>
            <a:ext cx="9144000" cy="702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532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8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7E88-4DAE-475B-80AC-C2151040F125}" type="slidenum">
              <a:rPr b="0" lang="en-US" sz="1400" spc="-1" strike="noStrike">
                <a:solidFill>
                  <a:srgbClr val="ff8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sirin.elci@focusinnovation.ne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5120" y="236196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Turkish S&amp;T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P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olicy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b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etween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F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ocus on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R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esearch and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I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nnovation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Sirin El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宋体"/>
              </a:rPr>
              <a:t>eptember 2006, Ljubljana, Sloven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Funding of innovation 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for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financing R&amp;D and innovation projects of enterprises (grants and loa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funds doubled since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ax incentives for R&amp;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x exemption accounting to 40 percent of R&amp;D expenditures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exemptions from corporate and personnel income taxes for R&amp;D activities in technopark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Need to focus seed and early stage funding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0426-BF55-4DF0-AF6B-5A5E2BE0E1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ff8000"/>
                </a:solidFill>
                <a:latin typeface="Verdana"/>
              </a:rPr>
              <a:t>ccess to finance</a:t>
            </a: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 by</a:t>
            </a:r>
            <a:br>
              <a:rPr sz="2000"/>
            </a:b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8000"/>
                </a:solidFill>
                <a:latin typeface="Verdana"/>
              </a:rPr>
              <a:t>innovative start-ups</a:t>
            </a: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he level of venture capital investments is very low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Only 3 registered VC companies and around a dozen off-shore PE fu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fund size for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V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ab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USD 400 millio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annual investments are not more than USD 100 millio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VCCs and PE fund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fer to invest in expansion stage and do not target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innovative 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-tech industries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for supporting innovative start-ups are almost non-existen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Only a few visible business angels activities –no B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4745-9854-4A6F-8019-27B9EFFDBA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Supply side issues 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stability of the macro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vironment until rec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suffic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DI leve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mature pension funds and insurance markets that make fund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ising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l size and limited liquidity of the capital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sufficient exit mech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egislative barri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ack of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licies to support development of the venture capital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6C95-06A5-4C1C-938A-120D71C107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Demand side issue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ural and managerial pract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Family-owned companies with weak corporate governance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Reluctance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hare ideas, ownership and control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formal econ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w levels of awareness of venture capital invest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ited capabilities of firms and entrepreneurs to transform their ideas into business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024E-2074-4548-9AE1-BAAF88670D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Transformation of Research </a:t>
            </a:r>
            <a:br>
              <a:rPr sz="2000"/>
            </a:b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into Innovation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R&amp;D commercialisation at universities is of particular importance for Turkey si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universiti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cent of the country’s R&amp;D sp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cent of research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evel of scientific output is high but not transformed i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nov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ld ranking</a:t>
            </a:r>
            <a:r>
              <a:rPr b="0" lang="tr-TR" sz="16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number of publications by scientists</a:t>
            </a:r>
            <a:r>
              <a:rPr b="0" lang="tr-T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d from 41st to</a:t>
            </a:r>
            <a:r>
              <a:rPr b="0" lang="tr-TR" sz="1600" spc="-1" strike="noStrike">
                <a:solidFill>
                  <a:srgbClr val="000000"/>
                </a:solidFill>
                <a:latin typeface="Verdana"/>
              </a:rPr>
              <a:t> 19th in 15 yea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2A05-38B0-42E7-A43A-A18223655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Transformation of Research </a:t>
            </a:r>
            <a:br>
              <a:rPr sz="2000"/>
            </a:b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into Innovation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Regulatory barri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sufficient incentives, such as academic promotion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k of specialized institutions and intermediarie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k of early stage financing and other means to finance start up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(for R&amp;D commerci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02F0-B54D-4214-8D33-339923EF1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Recommendation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Develo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ng options from the early to the later stages of innovative businesse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courage companies to move to formal sector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Benchmark and revis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C regulations according to international best pract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Desig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venture capital initiatives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o help development of the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rovide tax and other incentives to stimulate private investments in innovative busin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Encourage establishment of B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A119-5B9D-4751-A3AD-5DDDF653B7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Recommendation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mprove the regulatory environment to stimulate R&amp;D commercialisation and creation of university spin-of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Develop mechanisms to stimulate establishment of technology transfer offices at univers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rovide 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ed and start-up funding for academic entrepreneurial activitie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While designing the measures consider regional disparities and stimulate regional policy-making and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rain, educate and raise awar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4FFC-66C9-4644-8652-E14E5596DF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To conclude...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urkish Government took an important step by increasing the investments in research and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build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effective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S&amp;T governance syst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Expectations a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ha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cent decisions taken for the design o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novation strategies and support mechanisms are pursued with equal enthusiasm and dedicatio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me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an integrated approach for research and innovatio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as well as by the integration of innovation in other policy are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CE8B-16EF-4E63-BD79-4F2D137AA0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irin.elci@focusinnovation.net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5078-39E0-40BD-B6EA-5EA19AB596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Outline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urkish research policy an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novation policy and challe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Creation of innovative fi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R&amp;D commercial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AA7B-AD25-4D56-838D-F338DCD46C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Research policy-making </a:t>
            </a:r>
            <a:br>
              <a:rPr sz="2000"/>
            </a:b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and implementation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esearch policy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dat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k to early sixtie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an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form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n integral part of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national development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l-developed institutional framework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for policy-making and implemet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Direct involvement of the Government through the Supreme Council of Science and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icy measures for funding research and development 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25C1-6F68-4DFC-8ED5-1CCB1137A3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R&amp;D performance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GER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ains at a low level (0.67 percent in 2004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gher education sector performs a significant proportion of total R&amp;D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(67.9 percent in 2004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iness sector accounts only for 24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.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percent of total R&amp;D spe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B9F9-E3D4-42D0-B2D1-DBDA544A76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Big steps forward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High leve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it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me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rais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R&amp;D investment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s –2010 targe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iev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n R&amp;D intensity of 2 percent with the private sector contributing to half of the total amou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increase the number of full-time equivalent researchers to 40,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crease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ublic funds for R&amp;D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otal amount of funds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in 2005 and 2006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approx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€1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.5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llion as opposed to €1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llion allocated for five years between 2000 and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urkish Research Area” (TARAL) as a platform for the private and public sectors and non-governmental organisations to strategically focus and collaborate for R&amp;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37C9-AE5C-4DB6-9300-B578063496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Research alone is not sufficient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verage growth rate over the last four years was the second highest since 1950 (~8 percent) but economic growth did not reduce unem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university graduates are unemploy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ow level of investments in</a:t>
            </a:r>
            <a:r>
              <a:rPr b="0" i="1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knowledge factors (innovation, skills and technology)</a:t>
            </a:r>
            <a:r>
              <a:rPr b="0" i="1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-drivers for productivity and growth which produces jo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arge regional dispar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EE2D-252C-43C2-9DB9-9783984296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Need to invest in innovation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Weak innovation performance and less politic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emphasis on innovation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until very recentl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in Sept. 2006, steps to design national innovation strategies and an action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Verdana"/>
              </a:rPr>
              <a:t>European Innovation Scoreboard-The 2005 Summary Innovation Index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Verdana"/>
              </a:rPr>
              <a:t>EC, 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3573360"/>
            <a:ext cx="5977080" cy="268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B8C3-B3DD-45FF-8824-BD40F35C55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Main issue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imited number and diversity of innovation support meas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or availability of appropriate financing option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for innovative compa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Underdeveloped venture capital and business angels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A lack of early stage financing and other private means to finance innovative start-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E527-BD76-4E3D-8F65-2BC38DB2B7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Main issue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Weak regulatory and incentive regime that does not sufficiently encourage scientists and universities to transform applied knowledge into innovation and high business develop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bsence of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nd sector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olicies and systems of inno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9B07-746E-4E3B-8B5F-C4704D3576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2:12:44Z</dcterms:created>
  <dc:creator>Sirin ELCI</dc:creator>
  <dc:description/>
  <dc:language>en-US</dc:language>
  <cp:lastModifiedBy>Sirin ELCI</cp:lastModifiedBy>
  <dcterms:modified xsi:type="dcterms:W3CDTF">2006-09-28T04:48:52Z</dcterms:modified>
  <cp:revision>258</cp:revision>
  <dc:subject/>
  <dc:title>Slide 1</dc:title>
</cp:coreProperties>
</file>