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5440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398556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8276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488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8028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488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8028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453F-8008-49EF-9302-862BB582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120" y="142848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FF1A-9CAE-409F-BACD-F9FCDD29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0AEB-A7C4-4614-94A4-9703E4E6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65CE-5D7E-42F2-B0E8-7BD63144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DE0B-812B-46AA-9447-64DCECC9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04760" y="-17172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177A0-F41F-4A6C-81E0-3830798F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5529-9417-466D-A51B-4FAC8EBE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142848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8276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8A6B-F065-4F76-ADF4-9D3611D0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5C5E-FD3B-4ED4-9BCB-44475214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120" y="398556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5A1C-D530-4788-B606-7D22A371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98276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F563-9197-4D95-84FE-44A71B34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9488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8028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12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9488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8028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76FD-7860-455B-B9C0-8286B7AD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04760" y="-17172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276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228600"/>
            <a:ext cx="1600200" cy="7086240"/>
            <a:chOff x="0" y="-228600"/>
            <a:chExt cx="1600200" cy="7086240"/>
          </a:xfrm>
        </p:grpSpPr>
        <p:sp>
          <p:nvSpPr>
            <p:cNvPr id="1" name=""/>
            <p:cNvSpPr/>
            <p:nvPr/>
          </p:nvSpPr>
          <p:spPr>
            <a:xfrm>
              <a:off x="0" y="-228600"/>
              <a:ext cx="1600200" cy="708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8960" y="158400"/>
              <a:ext cx="1392480" cy="1267200"/>
              <a:chOff x="138960" y="158400"/>
              <a:chExt cx="1392480" cy="1267200"/>
            </a:xfrm>
          </p:grpSpPr>
          <p:sp>
            <p:nvSpPr>
              <p:cNvPr id="3" name=""/>
              <p:cNvSpPr/>
              <p:nvPr/>
            </p:nvSpPr>
            <p:spPr>
              <a:xfrm>
                <a:off x="1069200" y="583200"/>
                <a:ext cx="462240" cy="52344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318" y="198"/>
                    </a:moveTo>
                    <a:lnTo>
                      <a:pt x="318" y="318"/>
                    </a:lnTo>
                    <a:lnTo>
                      <a:pt x="1" y="99"/>
                    </a:lnTo>
                    <a:lnTo>
                      <a:pt x="0" y="108"/>
                    </a:lnTo>
                    <a:lnTo>
                      <a:pt x="46" y="0"/>
                    </a:lnTo>
                    <a:lnTo>
                      <a:pt x="318" y="19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8960" y="583200"/>
                <a:ext cx="462240" cy="52344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0" y="198"/>
                    </a:moveTo>
                    <a:lnTo>
                      <a:pt x="0" y="318"/>
                    </a:lnTo>
                    <a:lnTo>
                      <a:pt x="316" y="99"/>
                    </a:lnTo>
                    <a:lnTo>
                      <a:pt x="318" y="108"/>
                    </a:lnTo>
                    <a:lnTo>
                      <a:pt x="271" y="0"/>
                    </a:lnTo>
                    <a:lnTo>
                      <a:pt x="0" y="19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219240" y="158400"/>
                <a:ext cx="1193400" cy="1267200"/>
                <a:chOff x="219240" y="158400"/>
                <a:chExt cx="1193400" cy="126720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218880" y="158400"/>
                  <a:ext cx="1191240" cy="126576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19960" y="158400"/>
                  <a:ext cx="596880" cy="126720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411" y="772"/>
                      </a:moveTo>
                      <a:lnTo>
                        <a:pt x="411" y="637"/>
                      </a:lnTo>
                      <a:lnTo>
                        <a:pt x="127" y="75"/>
                      </a:lnTo>
                      <a:lnTo>
                        <a:pt x="0" y="0"/>
                      </a:lnTo>
                      <a:lnTo>
                        <a:pt x="411" y="772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19960" y="158400"/>
                  <a:ext cx="1192680" cy="126000"/>
                </a:xfrm>
                <a:custGeom>
                  <a:avLst/>
                  <a:gdLst/>
                  <a:ahLst/>
                  <a:rect l="l" t="t" r="r" b="b"/>
                  <a:pathLst>
                    <a:path w="823" h="77">
                      <a:moveTo>
                        <a:pt x="0" y="0"/>
                      </a:moveTo>
                      <a:lnTo>
                        <a:pt x="127" y="76"/>
                      </a:lnTo>
                      <a:lnTo>
                        <a:pt x="712" y="76"/>
                      </a:lnTo>
                      <a:lnTo>
                        <a:pt x="8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15760" y="158400"/>
                  <a:ext cx="596520" cy="126720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0" y="772"/>
                      </a:moveTo>
                      <a:lnTo>
                        <a:pt x="0" y="637"/>
                      </a:lnTo>
                      <a:lnTo>
                        <a:pt x="283" y="75"/>
                      </a:lnTo>
                      <a:lnTo>
                        <a:pt x="411" y="0"/>
                      </a:lnTo>
                      <a:lnTo>
                        <a:pt x="0" y="772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138960" y="925560"/>
                <a:ext cx="1389600" cy="178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1bb9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609120" y="1428480"/>
            <a:ext cx="85345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3809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imes New Roman"/>
              </a:rPr>
              <a:t>Europeanization of Romanian S&amp;T System - Ljubljana, 28-29 September</a:t>
            </a:r>
            <a:r>
              <a:rPr b="1" i="1" lang="ro-RO" sz="1400" spc="-1" strike="noStrike">
                <a:solidFill>
                  <a:srgbClr val="000000"/>
                </a:solidFill>
                <a:latin typeface="Times New Roman"/>
              </a:rPr>
              <a:t> 2006</a:t>
            </a:r>
            <a:r>
              <a:rPr b="1" lang="ro-R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nextslide"/>
          </p:cNvPr>
          <p:cNvSpPr/>
          <p:nvPr/>
        </p:nvSpPr>
        <p:spPr>
          <a:xfrm flipH="1" rot="10800000">
            <a:off x="685800" y="6364080"/>
            <a:ext cx="533520" cy="417240"/>
          </a:xfrm>
          <a:prstGeom prst="triangle">
            <a:avLst>
              <a:gd name="adj" fmla="val 49995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264960" y="6364440"/>
            <a:ext cx="497160" cy="417240"/>
          </a:xfrm>
          <a:prstGeom prst="triangle">
            <a:avLst>
              <a:gd name="adj" fmla="val 49995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8006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0"/>
            <a:ext cx="114156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5840" y="4038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2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DAB4-97D3-4929-9A98-5F30DE9F4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 flipH="1" rot="10800000">
            <a:off x="950760" y="6173640"/>
            <a:ext cx="649440" cy="570240"/>
          </a:xfrm>
          <a:prstGeom prst="triangle">
            <a:avLst>
              <a:gd name="adj" fmla="val 49995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0760" y="6172200"/>
            <a:ext cx="325440" cy="571680"/>
          </a:xfrm>
          <a:custGeom>
            <a:avLst/>
            <a:gdLst/>
            <a:ahLst/>
            <a:rect l="l" t="t" r="r" b="b"/>
            <a:pathLst>
              <a:path w="206" h="360">
                <a:moveTo>
                  <a:pt x="205" y="359"/>
                </a:moveTo>
                <a:lnTo>
                  <a:pt x="205" y="296"/>
                </a:lnTo>
                <a:lnTo>
                  <a:pt x="63" y="35"/>
                </a:lnTo>
                <a:lnTo>
                  <a:pt x="0" y="0"/>
                </a:lnTo>
                <a:lnTo>
                  <a:pt x="205" y="359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50760" y="6170760"/>
            <a:ext cx="650880" cy="58680"/>
          </a:xfrm>
          <a:custGeom>
            <a:avLst/>
            <a:gdLst/>
            <a:ahLst/>
            <a:rect l="l" t="t" r="r" b="b"/>
            <a:pathLst>
              <a:path w="411" h="37">
                <a:moveTo>
                  <a:pt x="0" y="0"/>
                </a:moveTo>
                <a:lnTo>
                  <a:pt x="63" y="36"/>
                </a:lnTo>
                <a:lnTo>
                  <a:pt x="355" y="36"/>
                </a:lnTo>
                <a:lnTo>
                  <a:pt x="410" y="0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74760" y="6172200"/>
            <a:ext cx="326880" cy="571680"/>
          </a:xfrm>
          <a:custGeom>
            <a:avLst/>
            <a:gdLst/>
            <a:ahLst/>
            <a:rect l="l" t="t" r="r" b="b"/>
            <a:pathLst>
              <a:path w="206" h="360">
                <a:moveTo>
                  <a:pt x="0" y="359"/>
                </a:moveTo>
                <a:lnTo>
                  <a:pt x="0" y="296"/>
                </a:lnTo>
                <a:lnTo>
                  <a:pt x="141" y="35"/>
                </a:lnTo>
                <a:lnTo>
                  <a:pt x="205" y="0"/>
                </a:lnTo>
                <a:lnTo>
                  <a:pt x="0" y="359"/>
                </a:lnTo>
              </a:path>
            </a:pathLst>
          </a:custGeom>
          <a:solidFill>
            <a:srgbClr val="0066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341280" y="6173640"/>
            <a:ext cx="649440" cy="570240"/>
          </a:xfrm>
          <a:prstGeom prst="triangle">
            <a:avLst>
              <a:gd name="adj" fmla="val 49995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8040" y="6172200"/>
            <a:ext cx="327240" cy="571680"/>
          </a:xfrm>
          <a:custGeom>
            <a:avLst/>
            <a:gdLst/>
            <a:ahLst/>
            <a:rect l="l" t="t" r="r" b="b"/>
            <a:pathLst>
              <a:path w="206" h="360">
                <a:moveTo>
                  <a:pt x="205" y="0"/>
                </a:moveTo>
                <a:lnTo>
                  <a:pt x="205" y="62"/>
                </a:lnTo>
                <a:lnTo>
                  <a:pt x="64" y="323"/>
                </a:lnTo>
                <a:lnTo>
                  <a:pt x="0" y="359"/>
                </a:lnTo>
                <a:lnTo>
                  <a:pt x="205" y="0"/>
                </a:lnTo>
              </a:path>
            </a:pathLst>
          </a:custGeom>
          <a:solidFill>
            <a:srgbClr val="0066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1280" y="6684840"/>
            <a:ext cx="650880" cy="59040"/>
          </a:xfrm>
          <a:custGeom>
            <a:avLst/>
            <a:gdLst/>
            <a:ahLst/>
            <a:rect l="l" t="t" r="r" b="b"/>
            <a:pathLst>
              <a:path w="411" h="37">
                <a:moveTo>
                  <a:pt x="0" y="36"/>
                </a:moveTo>
                <a:lnTo>
                  <a:pt x="64" y="0"/>
                </a:lnTo>
                <a:lnTo>
                  <a:pt x="355" y="0"/>
                </a:lnTo>
                <a:lnTo>
                  <a:pt x="410" y="36"/>
                </a:lnTo>
                <a:lnTo>
                  <a:pt x="0" y="36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0480" y="6172200"/>
            <a:ext cx="325440" cy="571680"/>
          </a:xfrm>
          <a:custGeom>
            <a:avLst/>
            <a:gdLst/>
            <a:ahLst/>
            <a:rect l="l" t="t" r="r" b="b"/>
            <a:pathLst>
              <a:path w="206" h="360">
                <a:moveTo>
                  <a:pt x="0" y="0"/>
                </a:moveTo>
                <a:lnTo>
                  <a:pt x="0" y="62"/>
                </a:lnTo>
                <a:lnTo>
                  <a:pt x="142" y="323"/>
                </a:lnTo>
                <a:lnTo>
                  <a:pt x="205" y="359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181480" y="0"/>
            <a:ext cx="3657240" cy="6477120"/>
            <a:chOff x="5181480" y="0"/>
            <a:chExt cx="3657240" cy="6477120"/>
          </a:xfrm>
        </p:grpSpPr>
        <p:sp>
          <p:nvSpPr>
            <p:cNvPr id="65" name=""/>
            <p:cNvSpPr/>
            <p:nvPr/>
          </p:nvSpPr>
          <p:spPr>
            <a:xfrm>
              <a:off x="5752440" y="0"/>
              <a:ext cx="251388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181480" y="446760"/>
              <a:ext cx="3657240" cy="3297600"/>
              <a:chOff x="5181480" y="446760"/>
              <a:chExt cx="3657240" cy="3297600"/>
            </a:xfrm>
          </p:grpSpPr>
          <p:sp>
            <p:nvSpPr>
              <p:cNvPr id="67" name=""/>
              <p:cNvSpPr/>
              <p:nvPr/>
            </p:nvSpPr>
            <p:spPr>
              <a:xfrm>
                <a:off x="5181480" y="1551960"/>
                <a:ext cx="1212480" cy="136008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0" y="566"/>
                    </a:moveTo>
                    <a:lnTo>
                      <a:pt x="0" y="906"/>
                    </a:lnTo>
                    <a:lnTo>
                      <a:pt x="1014" y="283"/>
                    </a:lnTo>
                    <a:lnTo>
                      <a:pt x="1018" y="307"/>
                    </a:lnTo>
                    <a:lnTo>
                      <a:pt x="869" y="0"/>
                    </a:lnTo>
                    <a:lnTo>
                      <a:pt x="0" y="566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25880" y="1551960"/>
                <a:ext cx="1212840" cy="136008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1018" y="566"/>
                    </a:moveTo>
                    <a:lnTo>
                      <a:pt x="1018" y="906"/>
                    </a:lnTo>
                    <a:lnTo>
                      <a:pt x="3" y="283"/>
                    </a:lnTo>
                    <a:lnTo>
                      <a:pt x="0" y="307"/>
                    </a:lnTo>
                    <a:lnTo>
                      <a:pt x="148" y="0"/>
                    </a:lnTo>
                    <a:lnTo>
                      <a:pt x="1018" y="566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5451480" y="446760"/>
                <a:ext cx="3132360" cy="3297600"/>
                <a:chOff x="5451480" y="446760"/>
                <a:chExt cx="3132360" cy="3297600"/>
              </a:xfrm>
            </p:grpSpPr>
            <p:sp>
              <p:nvSpPr>
                <p:cNvPr id="70" name=""/>
                <p:cNvSpPr/>
                <p:nvPr/>
              </p:nvSpPr>
              <p:spPr>
                <a:xfrm flipH="1" rot="10800000">
                  <a:off x="5451480" y="446760"/>
                  <a:ext cx="3131280" cy="329616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451480" y="446760"/>
                  <a:ext cx="1566000" cy="3297600"/>
                </a:xfrm>
                <a:custGeom>
                  <a:avLst/>
                  <a:gdLst/>
                  <a:ahLst/>
                  <a:rect l="l" t="t" r="r" b="b"/>
                  <a:pathLst>
                    <a:path w="1316" h="2199">
                      <a:moveTo>
                        <a:pt x="1315" y="2198"/>
                      </a:moveTo>
                      <a:lnTo>
                        <a:pt x="1315" y="1815"/>
                      </a:lnTo>
                      <a:lnTo>
                        <a:pt x="409" y="214"/>
                      </a:lnTo>
                      <a:lnTo>
                        <a:pt x="0" y="0"/>
                      </a:lnTo>
                      <a:lnTo>
                        <a:pt x="1315" y="2198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51480" y="446760"/>
                  <a:ext cx="3132360" cy="325440"/>
                </a:xfrm>
                <a:custGeom>
                  <a:avLst/>
                  <a:gdLst/>
                  <a:ahLst/>
                  <a:rect l="l" t="t" r="r" b="b"/>
                  <a:pathLst>
                    <a:path w="2632" h="217">
                      <a:moveTo>
                        <a:pt x="0" y="0"/>
                      </a:moveTo>
                      <a:lnTo>
                        <a:pt x="409" y="216"/>
                      </a:lnTo>
                      <a:lnTo>
                        <a:pt x="2279" y="216"/>
                      </a:lnTo>
                      <a:lnTo>
                        <a:pt x="26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016040" y="446760"/>
                  <a:ext cx="1567440" cy="3297600"/>
                </a:xfrm>
                <a:custGeom>
                  <a:avLst/>
                  <a:gdLst/>
                  <a:ahLst/>
                  <a:rect l="l" t="t" r="r" b="b"/>
                  <a:pathLst>
                    <a:path w="1317" h="2199">
                      <a:moveTo>
                        <a:pt x="0" y="2198"/>
                      </a:moveTo>
                      <a:lnTo>
                        <a:pt x="0" y="1815"/>
                      </a:lnTo>
                      <a:lnTo>
                        <a:pt x="906" y="214"/>
                      </a:lnTo>
                      <a:lnTo>
                        <a:pt x="1316" y="0"/>
                      </a:lnTo>
                      <a:lnTo>
                        <a:pt x="0" y="2198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5181480" y="2445480"/>
                <a:ext cx="3652560" cy="464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1bb9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5562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itute of National Econ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7E0A-5381-4A56-B903-A8114B7EE0A8}" type="datetime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4, Oct. 11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4.xml"/><Relationship Id="rId4" Type="http://schemas.openxmlformats.org/officeDocument/2006/relationships/image" Target="../media/image1.jpeg"/><Relationship Id="rId5" Type="http://schemas.openxmlformats.org/officeDocument/2006/relationships/slide" Target="slide5.xml"/><Relationship Id="rId6" Type="http://schemas.openxmlformats.org/officeDocument/2006/relationships/image" Target="../media/image1.jpeg"/><Relationship Id="rId7" Type="http://schemas.openxmlformats.org/officeDocument/2006/relationships/hyperlink" Target="mailto:avass@presidency.ro" TargetMode="External"/><Relationship Id="rId8" Type="http://schemas.openxmlformats.org/officeDocument/2006/relationships/hyperlink" Target="mailto:avass@presidency.ro" TargetMode="External"/><Relationship Id="rId9" Type="http://schemas.openxmlformats.org/officeDocument/2006/relationships/hyperlink" Target="mailto:andreea_vass@yahoo.com" TargetMode="External"/><Relationship Id="rId10" Type="http://schemas.openxmlformats.org/officeDocument/2006/relationships/hyperlink" Target="mailto:andreea_vass@yahoo.com" TargetMode="External"/><Relationship Id="rId11" Type="http://schemas.openxmlformats.org/officeDocument/2006/relationships/hyperlink" Target="mailto:andreea_vass@yahoo.com" TargetMode="External"/><Relationship Id="rId12" Type="http://schemas.openxmlformats.org/officeDocument/2006/relationships/hyperlink" Target="mailto:andreea_vass@yahoo.com" TargetMode="External"/><Relationship Id="rId13" Type="http://schemas.openxmlformats.org/officeDocument/2006/relationships/slide" Target="slide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609480" y="1447920"/>
            <a:ext cx="557280" cy="34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4479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46" y="38"/>
                </a:lnTo>
                <a:lnTo>
                  <a:pt x="346" y="346"/>
                </a:lnTo>
                <a:lnTo>
                  <a:pt x="384" y="384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4479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8" y="346"/>
                </a:lnTo>
                <a:lnTo>
                  <a:pt x="346" y="346"/>
                </a:lnTo>
                <a:lnTo>
                  <a:pt x="384" y="384"/>
                </a:lnTo>
                <a:lnTo>
                  <a:pt x="0" y="384"/>
                </a:lnTo>
                <a:lnTo>
                  <a:pt x="0" y="0"/>
                </a:lnTo>
                <a:lnTo>
                  <a:pt x="38" y="38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609480" y="2133720"/>
            <a:ext cx="557280" cy="34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1337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46" y="38"/>
                </a:lnTo>
                <a:lnTo>
                  <a:pt x="346" y="346"/>
                </a:lnTo>
                <a:lnTo>
                  <a:pt x="384" y="384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1337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8" y="346"/>
                </a:lnTo>
                <a:lnTo>
                  <a:pt x="346" y="346"/>
                </a:lnTo>
                <a:lnTo>
                  <a:pt x="384" y="384"/>
                </a:lnTo>
                <a:lnTo>
                  <a:pt x="0" y="384"/>
                </a:lnTo>
                <a:lnTo>
                  <a:pt x="0" y="0"/>
                </a:lnTo>
                <a:lnTo>
                  <a:pt x="38" y="38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5" action="ppaction://hlinksldjump"/>
          </p:cNvPr>
          <p:cNvSpPr/>
          <p:nvPr/>
        </p:nvSpPr>
        <p:spPr>
          <a:xfrm>
            <a:off x="609480" y="2819520"/>
            <a:ext cx="557280" cy="342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4280" y="2819520"/>
            <a:ext cx="55872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46" y="38"/>
                </a:lnTo>
                <a:lnTo>
                  <a:pt x="346" y="346"/>
                </a:lnTo>
                <a:lnTo>
                  <a:pt x="384" y="384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8195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8" y="346"/>
                </a:lnTo>
                <a:lnTo>
                  <a:pt x="346" y="346"/>
                </a:lnTo>
                <a:lnTo>
                  <a:pt x="384" y="384"/>
                </a:lnTo>
                <a:lnTo>
                  <a:pt x="0" y="384"/>
                </a:lnTo>
                <a:lnTo>
                  <a:pt x="0" y="0"/>
                </a:lnTo>
                <a:lnTo>
                  <a:pt x="38" y="38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71600"/>
            <a:ext cx="2514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cap="sq" w="57240">
            <a:solidFill>
              <a:srgbClr val="00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C</a:t>
            </a:r>
            <a:r>
              <a:rPr b="1" lang="ro-RO" sz="2400" spc="-1" strike="noStrike">
                <a:solidFill>
                  <a:srgbClr val="006633"/>
                </a:solidFill>
                <a:latin typeface="Times New Roman"/>
              </a:rPr>
              <a:t>ontent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880" y="4038480"/>
            <a:ext cx="6477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6633"/>
                </a:solidFill>
                <a:latin typeface="Times New Roman"/>
              </a:rPr>
              <a:t>Europeanization of </a:t>
            </a:r>
            <a:br>
              <a:rPr sz="3800"/>
            </a:br>
            <a:r>
              <a:rPr b="1" lang="ro-RO" sz="3800" spc="-1" strike="noStrike">
                <a:solidFill>
                  <a:srgbClr val="006633"/>
                </a:solidFill>
                <a:latin typeface="Times New Roman"/>
              </a:rPr>
              <a:t>Romanian S&amp;T system. </a:t>
            </a:r>
            <a:br>
              <a:rPr sz="3800"/>
            </a:br>
            <a:r>
              <a:rPr b="1" lang="ro-RO" sz="3800" spc="-1" strike="noStrike">
                <a:solidFill>
                  <a:srgbClr val="006633"/>
                </a:solidFill>
                <a:latin typeface="Times New Roman"/>
              </a:rPr>
              <a:t>How far it has advanced?</a:t>
            </a:r>
            <a:endParaRPr b="0" lang="en-US" sz="3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76160" y="57909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reea V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Advisor -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Romanian Presidential Administration, 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de-DE" sz="1600" spc="-1" strike="noStrike" u="sng">
                <a:solidFill>
                  <a:srgbClr val="0665c6"/>
                </a:solidFill>
                <a:uFillTx/>
                <a:latin typeface="Times New Roman"/>
                <a:hlinkClick r:id="rId7"/>
              </a:rPr>
              <a:t>avass@</a:t>
            </a:r>
            <a:r>
              <a:rPr b="0" lang="ro-RO" sz="1600" spc="-1" strike="noStrike" u="sng">
                <a:solidFill>
                  <a:srgbClr val="0665c6"/>
                </a:solidFill>
                <a:uFillTx/>
                <a:latin typeface="Times New Roman"/>
                <a:hlinkClick r:id="rId8"/>
              </a:rPr>
              <a:t>presidency.ro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Researcher –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Institute of National Economy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de-DE" sz="1600" spc="-1" strike="noStrike" u="sng">
                <a:solidFill>
                  <a:srgbClr val="0665c6"/>
                </a:solidFill>
                <a:uFillTx/>
                <a:latin typeface="Times New Roman"/>
                <a:hlinkClick r:id="rId9"/>
              </a:rPr>
              <a:t>a</a:t>
            </a:r>
            <a:r>
              <a:rPr b="0" lang="ro-RO" sz="1600" spc="-1" strike="noStrike" u="sng">
                <a:solidFill>
                  <a:srgbClr val="0665c6"/>
                </a:solidFill>
                <a:uFillTx/>
                <a:latin typeface="Times New Roman"/>
                <a:hlinkClick r:id="rId10"/>
              </a:rPr>
              <a:t>ndreea_</a:t>
            </a:r>
            <a:r>
              <a:rPr b="0" lang="de-DE" sz="1600" spc="-1" strike="noStrike" u="sng">
                <a:solidFill>
                  <a:srgbClr val="0665c6"/>
                </a:solidFill>
                <a:uFillTx/>
                <a:latin typeface="Times New Roman"/>
                <a:hlinkClick r:id="rId11"/>
              </a:rPr>
              <a:t>vass@</a:t>
            </a:r>
            <a:r>
              <a:rPr b="0" lang="ro-RO" sz="1600" spc="-1" strike="noStrike" u="sng">
                <a:solidFill>
                  <a:srgbClr val="0665c6"/>
                </a:solidFill>
                <a:uFillTx/>
                <a:latin typeface="Times New Roman"/>
                <a:hlinkClick r:id="rId12"/>
              </a:rPr>
              <a:t>yahoo.com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3860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6633"/>
                </a:solidFill>
                <a:latin typeface="Times New Roman"/>
              </a:rPr>
              <a:t>1. Economic gaps between Romania and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2711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6600"/>
                </a:solidFill>
                <a:latin typeface="Times New Roman"/>
              </a:rPr>
              <a:t>3. C</a:t>
            </a:r>
            <a:r>
              <a:rPr b="1" i="1" lang="en-GB" sz="1800" spc="-1" strike="noStrike">
                <a:solidFill>
                  <a:srgbClr val="006600"/>
                </a:solidFill>
                <a:latin typeface="Times New Roman"/>
              </a:rPr>
              <a:t>hallenges </a:t>
            </a:r>
            <a:r>
              <a:rPr b="1" i="1" lang="ro-RO" sz="1800" spc="-1" strike="noStrike">
                <a:solidFill>
                  <a:srgbClr val="006600"/>
                </a:solidFill>
                <a:latin typeface="Times New Roman"/>
              </a:rPr>
              <a:t>vs.</a:t>
            </a:r>
            <a:r>
              <a:rPr b="1" i="1" lang="en-GB" sz="1800" spc="-1" strike="noStrike">
                <a:solidFill>
                  <a:srgbClr val="006600"/>
                </a:solidFill>
                <a:latin typeface="Times New Roman"/>
              </a:rPr>
              <a:t> objectives and priorities related to the business RDI intensity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3" action="ppaction://hlinksldjump"/>
          </p:cNvPr>
          <p:cNvSpPr/>
          <p:nvPr/>
        </p:nvSpPr>
        <p:spPr>
          <a:xfrm>
            <a:off x="609480" y="3505320"/>
            <a:ext cx="557280" cy="342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5053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8" y="346"/>
                </a:lnTo>
                <a:lnTo>
                  <a:pt x="346" y="346"/>
                </a:lnTo>
                <a:lnTo>
                  <a:pt x="384" y="384"/>
                </a:lnTo>
                <a:lnTo>
                  <a:pt x="0" y="384"/>
                </a:lnTo>
                <a:lnTo>
                  <a:pt x="0" y="0"/>
                </a:lnTo>
                <a:lnTo>
                  <a:pt x="38" y="38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5053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46" y="38"/>
                </a:lnTo>
                <a:lnTo>
                  <a:pt x="346" y="346"/>
                </a:lnTo>
                <a:lnTo>
                  <a:pt x="384" y="384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3443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6600"/>
                </a:solidFill>
                <a:latin typeface="Times New Roman"/>
              </a:rPr>
              <a:t>4. P</a:t>
            </a:r>
            <a:r>
              <a:rPr b="1" i="1" lang="en-GB" sz="1800" spc="-1" strike="noStrike">
                <a:solidFill>
                  <a:srgbClr val="006600"/>
                </a:solidFill>
                <a:latin typeface="Times New Roman"/>
              </a:rPr>
              <a:t>olicy instruments in place </a:t>
            </a:r>
            <a:r>
              <a:rPr b="1" i="1" lang="ro-RO" sz="1800" spc="-1" strike="noStrike">
                <a:solidFill>
                  <a:srgbClr val="006600"/>
                </a:solidFill>
                <a:latin typeface="Times New Roman"/>
              </a:rPr>
              <a:t>during 2007 –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2025720"/>
            <a:ext cx="44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6600"/>
                </a:solidFill>
                <a:latin typeface="Times New Roman"/>
              </a:rPr>
              <a:t>2. Key</a:t>
            </a:r>
            <a:r>
              <a:rPr b="1" i="1" lang="en-GB" sz="1800" spc="-1" strike="noStrike">
                <a:solidFill>
                  <a:srgbClr val="006600"/>
                </a:solidFill>
                <a:latin typeface="Times New Roman"/>
              </a:rPr>
              <a:t> challenges of the NIS with respect to R&amp;D intensity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Times New Roman"/>
              </a:rPr>
              <a:t>4. P</a:t>
            </a:r>
            <a:r>
              <a:rPr b="1" lang="en-GB" sz="4400" spc="-1" strike="noStrike">
                <a:solidFill>
                  <a:srgbClr val="006600"/>
                </a:solidFill>
                <a:latin typeface="Times New Roman"/>
              </a:rPr>
              <a:t>olicy instruments in place </a:t>
            </a:r>
            <a:r>
              <a:rPr b="1" lang="ro-RO" sz="4400" spc="-1" strike="noStrike">
                <a:solidFill>
                  <a:srgbClr val="006600"/>
                </a:solidFill>
                <a:latin typeface="Times New Roman"/>
              </a:rPr>
              <a:t>during 2007 – 2013</a:t>
            </a: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blic policies have focused 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until now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strengthening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human resourc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research capac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Research Institut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University sec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fewer measures geared towards the development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novative performance in indust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33"/>
                </a:solidFill>
                <a:latin typeface="Times New Roman"/>
              </a:rPr>
              <a:t>4.1.</a:t>
            </a:r>
            <a:r>
              <a:rPr b="0" lang="ro-RO" sz="32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6633"/>
                </a:solidFill>
                <a:latin typeface="Times New Roman"/>
              </a:rPr>
              <a:t>NATIONAL PLAN FOR R&amp;D AND INNOVATION (NPRDI) 2007-2013</a:t>
            </a:r>
            <a:endParaRPr b="0" lang="en-US" sz="3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219320"/>
            <a:ext cx="914400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15480" y="2800440"/>
            <a:ext cx="75960" cy="26287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37080" y="1676520"/>
            <a:ext cx="1387440" cy="69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.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conomic Competi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80200" y="1676520"/>
            <a:ext cx="1388880" cy="69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. 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cial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295280"/>
            <a:ext cx="7391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 Narrow"/>
              </a:rPr>
              <a:t>3 STRATEGIC OBJECTIVES correlated with 6 PROGRA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96040" y="2387520"/>
            <a:ext cx="1220760" cy="3041640"/>
          </a:xfrm>
          <a:prstGeom prst="upArrow">
            <a:avLst>
              <a:gd name="adj1" fmla="val 60954"/>
              <a:gd name="adj2" fmla="val 16218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370240"/>
            <a:ext cx="1172880" cy="3058920"/>
          </a:xfrm>
          <a:prstGeom prst="upArrow">
            <a:avLst>
              <a:gd name="adj1" fmla="val 57556"/>
              <a:gd name="adj2" fmla="val 1486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89440" y="2387520"/>
            <a:ext cx="1095120" cy="3041640"/>
          </a:xfrm>
          <a:prstGeom prst="upArrow">
            <a:avLst>
              <a:gd name="adj1" fmla="val 54157"/>
              <a:gd name="adj2" fmla="val 16960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4824360"/>
            <a:ext cx="6561000" cy="50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400" spc="-1" strike="noStrike">
                <a:solidFill>
                  <a:srgbClr val="000000"/>
                </a:solidFill>
                <a:latin typeface="Arial Narrow"/>
              </a:rPr>
              <a:t>Indicators syz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400" spc="-1" strike="noStrike">
                <a:solidFill>
                  <a:srgbClr val="000000"/>
                </a:solidFill>
                <a:latin typeface="Arial Narrow"/>
              </a:rPr>
              <a:t>for 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4884840"/>
            <a:ext cx="1371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11,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 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12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....  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1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884840"/>
            <a:ext cx="1325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21,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 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22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....  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2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4884840"/>
            <a:ext cx="15242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i="1" lang="ro-RO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1,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 I</a:t>
            </a:r>
            <a:r>
              <a:rPr b="1" i="1" lang="ro-RO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....  I3</a:t>
            </a:r>
            <a:r>
              <a:rPr b="1" i="1" lang="ro-RO" sz="16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362320" y="2801880"/>
            <a:ext cx="484200" cy="8366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362320" y="3120840"/>
            <a:ext cx="484200" cy="5173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370240" y="3467160"/>
            <a:ext cx="484200" cy="171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3727440"/>
            <a:ext cx="484200" cy="873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70240" y="3638520"/>
            <a:ext cx="484200" cy="2635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63800" y="2666880"/>
            <a:ext cx="479736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71720" y="2998800"/>
            <a:ext cx="4797360" cy="29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3800" y="3340080"/>
            <a:ext cx="479736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35440" y="2666880"/>
            <a:ext cx="2290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1. 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</a:rPr>
              <a:t>Human resources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35440" y="2998800"/>
            <a:ext cx="2987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02. Capacit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35440" y="3344760"/>
            <a:ext cx="2733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3. Id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</a:rPr>
              <a:t>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54440" y="3727440"/>
            <a:ext cx="479736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63800" y="4057560"/>
            <a:ext cx="4797360" cy="29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54440" y="4398840"/>
            <a:ext cx="4797360" cy="33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35440" y="3727440"/>
            <a:ext cx="3479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4. Competitiv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</a:rPr>
              <a:t>eness through partner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35440" y="4057560"/>
            <a:ext cx="2805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5. Inova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</a:rPr>
              <a:t>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35440" y="4405320"/>
            <a:ext cx="3090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06. 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stitutional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70240" y="3678120"/>
            <a:ext cx="476280" cy="5716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3036960"/>
            <a:ext cx="1625400" cy="1268280"/>
            <a:chOff x="762120" y="3036960"/>
            <a:chExt cx="1625400" cy="1268280"/>
          </a:xfrm>
        </p:grpSpPr>
        <p:sp>
          <p:nvSpPr>
            <p:cNvPr id="262" name=""/>
            <p:cNvSpPr/>
            <p:nvPr/>
          </p:nvSpPr>
          <p:spPr>
            <a:xfrm>
              <a:off x="762120" y="3036960"/>
              <a:ext cx="1625400" cy="1164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440" y="3092040"/>
              <a:ext cx="1549080" cy="12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000000"/>
                  </a:solidFill>
                  <a:latin typeface="Arial Narrow"/>
                </a:rPr>
                <a:t>NPRD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000000"/>
                  </a:solidFill>
                  <a:latin typeface="Arial Narrow"/>
                </a:rPr>
                <a:t>2007 - 20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815240" y="2730600"/>
            <a:ext cx="642960" cy="2046240"/>
            <a:chOff x="7815240" y="2730600"/>
            <a:chExt cx="642960" cy="2046240"/>
          </a:xfrm>
        </p:grpSpPr>
        <p:sp>
          <p:nvSpPr>
            <p:cNvPr id="265" name=""/>
            <p:cNvSpPr/>
            <p:nvPr/>
          </p:nvSpPr>
          <p:spPr>
            <a:xfrm>
              <a:off x="7815240" y="2730600"/>
              <a:ext cx="64296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15240" y="3054600"/>
              <a:ext cx="64296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15240" y="3396240"/>
              <a:ext cx="64296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15240" y="3765240"/>
              <a:ext cx="642960" cy="25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15240" y="4096800"/>
              <a:ext cx="64296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15240" y="4443480"/>
              <a:ext cx="64296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391520" y="5429160"/>
            <a:ext cx="1523880" cy="590760"/>
          </a:xfrm>
          <a:prstGeom prst="rect">
            <a:avLst/>
          </a:prstGeom>
          <a:solidFill>
            <a:srgbClr val="00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d5b029"/>
                </a:solidFill>
                <a:latin typeface="Arial Narrow"/>
                <a:ea typeface="Arial Narrow"/>
              </a:rPr>
              <a:t>Analysis and co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00160" y="6040440"/>
            <a:ext cx="7662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1668600"/>
            <a:ext cx="1387440" cy="69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.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 Narrow"/>
              </a:rPr>
              <a:t>Knowledge 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Investments model of the NPRDI 2007 - 2013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295280"/>
            <a:ext cx="9144000" cy="502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97720" y="4025880"/>
            <a:ext cx="30312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4383720" y="3202560"/>
            <a:ext cx="1471680" cy="1282680"/>
          </a:xfrm>
          <a:prstGeom prst="downArrow">
            <a:avLst>
              <a:gd name="adj1" fmla="val 63861"/>
              <a:gd name="adj2" fmla="val 2143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16560" y="3422520"/>
            <a:ext cx="1309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</a:rPr>
              <a:t>For achieving the strategic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1820880"/>
            <a:ext cx="3581280" cy="892080"/>
          </a:xfrm>
          <a:prstGeom prst="rect">
            <a:avLst/>
          </a:prstGeom>
          <a:solidFill>
            <a:srgbClr val="ffff99">
              <a:alpha val="73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 Narrow"/>
              </a:rPr>
              <a:t>Romanian science progress promoted in accordance with the knowledge economy standards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  <a:ea typeface="Arial Narrow"/>
              </a:rPr>
              <a:t>, </a:t>
            </a:r>
            <a:r>
              <a:rPr b="1" lang="ro-RO" sz="13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 order to guarantee health, prosperity and well-being through inventions, learning and innov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558720" y="3622320"/>
            <a:ext cx="1600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gram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55920" y="4664160"/>
            <a:ext cx="3019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95520" y="2978280"/>
            <a:ext cx="0" cy="167004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595520" y="4648320"/>
            <a:ext cx="30160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2978280"/>
            <a:ext cx="247680" cy="163008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1630080"/>
              <a:gd name="textAreaBottom" fmla="*/ 1618200 h 1630080"/>
            </a:gdLst>
            <a:ahLst/>
            <a:rect l="textAreaLeft" t="textAreaTop" r="textAreaRight" b="textAreaBottom"/>
            <a:pathLst>
              <a:path w="21600" h="141983">
                <a:moveTo>
                  <a:pt x="3600" y="0"/>
                </a:moveTo>
                <a:arcTo wR="3600" hR="3600" stAng="16200000" swAng="-5400000"/>
                <a:lnTo>
                  <a:pt x="0" y="138383"/>
                </a:lnTo>
                <a:arcTo wR="3600" hR="3600" stAng="10800000" swAng="-5400000"/>
                <a:lnTo>
                  <a:pt x="18000" y="1419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92400" y="2978280"/>
            <a:ext cx="257040" cy="163008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820">
                <a:moveTo>
                  <a:pt x="3600" y="0"/>
                </a:moveTo>
                <a:arcTo wR="3600" hR="3600" stAng="16200000" swAng="-5400000"/>
                <a:lnTo>
                  <a:pt x="0" y="133220"/>
                </a:lnTo>
                <a:arcTo wR="3600" hR="3600" stAng="10800000" swAng="-5400000"/>
                <a:lnTo>
                  <a:pt x="18000" y="1368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43040" y="2978280"/>
            <a:ext cx="257400" cy="1630080"/>
          </a:xfrm>
          <a:custGeom>
            <a:avLst/>
            <a:gdLst>
              <a:gd name="textAreaLeft" fmla="*/ 12240 w 257400"/>
              <a:gd name="textAreaRight" fmla="*/ 245160 w 25740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629">
                <a:moveTo>
                  <a:pt x="3600" y="0"/>
                </a:moveTo>
                <a:arcTo wR="3600" hR="3600" stAng="16200000" swAng="-5400000"/>
                <a:lnTo>
                  <a:pt x="0" y="133029"/>
                </a:lnTo>
                <a:arcTo wR="3600" hR="3600" stAng="10800000" swAng="-5400000"/>
                <a:lnTo>
                  <a:pt x="18000" y="136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98960" y="2978280"/>
            <a:ext cx="257040" cy="163008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820">
                <a:moveTo>
                  <a:pt x="3600" y="0"/>
                </a:moveTo>
                <a:arcTo wR="3600" hR="3600" stAng="16200000" swAng="-5400000"/>
                <a:lnTo>
                  <a:pt x="0" y="133220"/>
                </a:lnTo>
                <a:arcTo wR="3600" hR="3600" stAng="10800000" swAng="-5400000"/>
                <a:lnTo>
                  <a:pt x="18000" y="1368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0360" y="2978280"/>
            <a:ext cx="257040" cy="163008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820">
                <a:moveTo>
                  <a:pt x="3600" y="0"/>
                </a:moveTo>
                <a:arcTo wR="3600" hR="3600" stAng="16200000" swAng="-5400000"/>
                <a:lnTo>
                  <a:pt x="0" y="133220"/>
                </a:lnTo>
                <a:arcTo wR="3600" hR="3600" stAng="10800000" swAng="-5400000"/>
                <a:lnTo>
                  <a:pt x="18000" y="1368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49800" y="2978280"/>
            <a:ext cx="257040" cy="163008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820">
                <a:moveTo>
                  <a:pt x="3600" y="0"/>
                </a:moveTo>
                <a:arcTo wR="3600" hR="3600" stAng="16200000" swAng="-5400000"/>
                <a:lnTo>
                  <a:pt x="0" y="133220"/>
                </a:lnTo>
                <a:arcTo wR="3600" hR="3600" stAng="10800000" swAng="-5400000"/>
                <a:lnTo>
                  <a:pt x="18000" y="1368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8880" y="2978280"/>
            <a:ext cx="257400" cy="1630080"/>
          </a:xfrm>
          <a:custGeom>
            <a:avLst/>
            <a:gdLst>
              <a:gd name="textAreaLeft" fmla="*/ 12240 w 257400"/>
              <a:gd name="textAreaRight" fmla="*/ 245160 w 25740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629">
                <a:moveTo>
                  <a:pt x="3600" y="0"/>
                </a:moveTo>
                <a:arcTo wR="3600" hR="3600" stAng="16200000" swAng="-5400000"/>
                <a:lnTo>
                  <a:pt x="0" y="133029"/>
                </a:lnTo>
                <a:arcTo wR="3600" hR="3600" stAng="10800000" swAng="-5400000"/>
                <a:lnTo>
                  <a:pt x="18000" y="136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2996280" y="3064680"/>
            <a:ext cx="183960" cy="2646360"/>
          </a:xfrm>
          <a:custGeom>
            <a:avLst/>
            <a:gdLst>
              <a:gd name="textAreaLeft" fmla="*/ 8640 w 183960"/>
              <a:gd name="textAreaRight" fmla="*/ 175320 w 183960"/>
              <a:gd name="textAreaTop" fmla="*/ 8640 h 2646360"/>
              <a:gd name="textAreaBottom" fmla="*/ 2637720 h 2646360"/>
            </a:gdLst>
            <a:ahLst/>
            <a:rect l="textAreaLeft" t="textAreaTop" r="textAreaRight" b="textAreaBottom"/>
            <a:pathLst>
              <a:path w="21600" h="310163">
                <a:moveTo>
                  <a:pt x="3600" y="0"/>
                </a:moveTo>
                <a:arcTo wR="3600" hR="3600" stAng="16200000" swAng="-5400000"/>
                <a:lnTo>
                  <a:pt x="0" y="306563"/>
                </a:lnTo>
                <a:arcTo wR="3600" hR="3600" stAng="10800000" swAng="-5400000"/>
                <a:lnTo>
                  <a:pt x="18000" y="310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2997720" y="1823040"/>
            <a:ext cx="182520" cy="2647800"/>
          </a:xfrm>
          <a:custGeom>
            <a:avLst/>
            <a:gdLst>
              <a:gd name="textAreaLeft" fmla="*/ 8640 w 182520"/>
              <a:gd name="textAreaRight" fmla="*/ 173880 w 182520"/>
              <a:gd name="textAreaTop" fmla="*/ 8640 h 2647800"/>
              <a:gd name="textAreaBottom" fmla="*/ 2639160 h 2647800"/>
            </a:gdLst>
            <a:ahLst/>
            <a:rect l="textAreaLeft" t="textAreaTop" r="textAreaRight" b="textAreaBottom"/>
            <a:pathLst>
              <a:path w="21600" h="312775">
                <a:moveTo>
                  <a:pt x="3600" y="0"/>
                </a:moveTo>
                <a:arcTo wR="3600" hR="3600" stAng="16200000" swAng="-5400000"/>
                <a:lnTo>
                  <a:pt x="0" y="309175"/>
                </a:lnTo>
                <a:arcTo wR="3600" hR="3600" stAng="10800000" swAng="-5400000"/>
                <a:lnTo>
                  <a:pt x="18000" y="312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2993040" y="2048400"/>
            <a:ext cx="191880" cy="2647800"/>
          </a:xfrm>
          <a:custGeom>
            <a:avLst/>
            <a:gdLst>
              <a:gd name="textAreaLeft" fmla="*/ 9360 w 191880"/>
              <a:gd name="textAreaRight" fmla="*/ 182520 w 191880"/>
              <a:gd name="textAreaTop" fmla="*/ 9360 h 2647800"/>
              <a:gd name="textAreaBottom" fmla="*/ 2638440 h 2647800"/>
            </a:gdLst>
            <a:ahLst/>
            <a:rect l="textAreaLeft" t="textAreaTop" r="textAreaRight" b="textAreaBottom"/>
            <a:pathLst>
              <a:path w="21600" h="297546">
                <a:moveTo>
                  <a:pt x="3600" y="0"/>
                </a:moveTo>
                <a:arcTo wR="3600" hR="3600" stAng="16200000" swAng="-5400000"/>
                <a:lnTo>
                  <a:pt x="0" y="293946"/>
                </a:lnTo>
                <a:arcTo wR="3600" hR="3600" stAng="10800000" swAng="-5400000"/>
                <a:lnTo>
                  <a:pt x="18000" y="2975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2993040" y="2308680"/>
            <a:ext cx="191880" cy="2647800"/>
          </a:xfrm>
          <a:custGeom>
            <a:avLst/>
            <a:gdLst>
              <a:gd name="textAreaLeft" fmla="*/ 9360 w 191880"/>
              <a:gd name="textAreaRight" fmla="*/ 182520 w 191880"/>
              <a:gd name="textAreaTop" fmla="*/ 9360 h 2647800"/>
              <a:gd name="textAreaBottom" fmla="*/ 2638440 h 2647800"/>
            </a:gdLst>
            <a:ahLst/>
            <a:rect l="textAreaLeft" t="textAreaTop" r="textAreaRight" b="textAreaBottom"/>
            <a:pathLst>
              <a:path w="21600" h="297546">
                <a:moveTo>
                  <a:pt x="3600" y="0"/>
                </a:moveTo>
                <a:arcTo wR="3600" hR="3600" stAng="16200000" swAng="-5400000"/>
                <a:lnTo>
                  <a:pt x="0" y="293946"/>
                </a:lnTo>
                <a:arcTo wR="3600" hR="3600" stAng="10800000" swAng="-5400000"/>
                <a:lnTo>
                  <a:pt x="18000" y="2975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2996640" y="2557440"/>
            <a:ext cx="184320" cy="2647800"/>
          </a:xfrm>
          <a:custGeom>
            <a:avLst/>
            <a:gdLst>
              <a:gd name="textAreaLeft" fmla="*/ 9000 w 184320"/>
              <a:gd name="textAreaRight" fmla="*/ 175320 w 184320"/>
              <a:gd name="textAreaTop" fmla="*/ 9000 h 2647800"/>
              <a:gd name="textAreaBottom" fmla="*/ 2638800 h 2647800"/>
            </a:gdLst>
            <a:ahLst/>
            <a:rect l="textAreaLeft" t="textAreaTop" r="textAreaRight" b="textAreaBottom"/>
            <a:pathLst>
              <a:path w="21600" h="309726">
                <a:moveTo>
                  <a:pt x="3600" y="0"/>
                </a:moveTo>
                <a:arcTo wR="3600" hR="3600" stAng="16200000" swAng="-5400000"/>
                <a:lnTo>
                  <a:pt x="0" y="306126"/>
                </a:lnTo>
                <a:arcTo wR="3600" hR="3600" stAng="10800000" swAng="-5400000"/>
                <a:lnTo>
                  <a:pt x="18000" y="3097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2993400" y="2798640"/>
            <a:ext cx="190800" cy="2647800"/>
          </a:xfrm>
          <a:custGeom>
            <a:avLst/>
            <a:gdLst>
              <a:gd name="textAreaLeft" fmla="*/ 9000 w 190800"/>
              <a:gd name="textAreaRight" fmla="*/ 181800 w 190800"/>
              <a:gd name="textAreaTop" fmla="*/ 9000 h 2647800"/>
              <a:gd name="textAreaBottom" fmla="*/ 2638800 h 2647800"/>
            </a:gdLst>
            <a:ahLst/>
            <a:rect l="textAreaLeft" t="textAreaTop" r="textAreaRight" b="textAreaBottom"/>
            <a:pathLst>
              <a:path w="21600" h="299227">
                <a:moveTo>
                  <a:pt x="3600" y="0"/>
                </a:moveTo>
                <a:arcTo wR="3600" hR="3600" stAng="16200000" swAng="-5400000"/>
                <a:lnTo>
                  <a:pt x="0" y="295627"/>
                </a:lnTo>
                <a:arcTo wR="3600" hR="3600" stAng="10800000" swAng="-5400000"/>
                <a:lnTo>
                  <a:pt x="18000" y="299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28600" y="2741760"/>
            <a:ext cx="3670560" cy="180720"/>
          </a:xfrm>
          <a:prstGeom prst="downArrow">
            <a:avLst>
              <a:gd name="adj1" fmla="val 84593"/>
              <a:gd name="adj2" fmla="val 76352"/>
            </a:avLst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59320" y="3139920"/>
            <a:ext cx="768240" cy="7336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59320" y="3124080"/>
            <a:ext cx="78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her RDI instit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3002040"/>
            <a:ext cx="1119240" cy="4982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3048120"/>
            <a:ext cx="1504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terpr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30400" y="3865680"/>
            <a:ext cx="1214280" cy="439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30400" y="3772080"/>
            <a:ext cx="1136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</a:rPr>
              <a:t>N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8640" y="3308400"/>
            <a:ext cx="1109520" cy="650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7080" y="3327480"/>
            <a:ext cx="10065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</a:t>
            </a:r>
            <a:r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from Acade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22680" y="1589040"/>
            <a:ext cx="3649680" cy="14400"/>
          </a:xfrm>
          <a:prstGeom prst="line">
            <a:avLst/>
          </a:prstGeom>
          <a:ln w="28440">
            <a:solidFill>
              <a:srgbClr val="0066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8204040" y="1593720"/>
            <a:ext cx="5040" cy="1216080"/>
          </a:xfrm>
          <a:prstGeom prst="line">
            <a:avLst/>
          </a:prstGeom>
          <a:ln w="2844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6934680" y="3581640"/>
            <a:ext cx="2845080" cy="11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</a:rPr>
              <a:t>Integrated Indicators system for RDI results evaluation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d effects monitoring in accordance with the three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3611520"/>
            <a:ext cx="1670040" cy="6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Economy Competitiveness increase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97720" y="3316320"/>
            <a:ext cx="303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2895480"/>
            <a:ext cx="1670040" cy="59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</a:t>
            </a: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nowledge creation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25600" y="1371600"/>
            <a:ext cx="3068640" cy="406440"/>
          </a:xfrm>
          <a:prstGeom prst="rect">
            <a:avLst/>
          </a:prstGeom>
          <a:solidFill>
            <a:srgbClr val="ccecff"/>
          </a:solidFill>
          <a:ln w="19080">
            <a:solidFill>
              <a:srgbClr val="1201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vest</a:t>
            </a: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ments in RDI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23960" y="5230800"/>
            <a:ext cx="4471920" cy="939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1. </a:t>
            </a:r>
            <a:r>
              <a:rPr b="1" lang="ro-RO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Scientific relev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2. </a:t>
            </a:r>
            <a:r>
              <a:rPr b="1" lang="ro-RO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Impact</a:t>
            </a: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 (economic, social, </a:t>
            </a:r>
            <a:r>
              <a:rPr b="1" lang="ro-RO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environment</a:t>
            </a: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3. Fezabilit</a:t>
            </a:r>
            <a:r>
              <a:rPr b="1" lang="ro-RO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y</a:t>
            </a: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 (</a:t>
            </a:r>
            <a:r>
              <a:rPr b="1" lang="ro-RO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potential transfer of the RDI results in production </a:t>
            </a: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06680" y="4719600"/>
            <a:ext cx="1319040" cy="4618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 Narrow"/>
              </a:rPr>
              <a:t>Thematic 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97360" y="4738680"/>
            <a:ext cx="1385640" cy="442800"/>
          </a:xfrm>
          <a:prstGeom prst="rect">
            <a:avLst/>
          </a:prstGeom>
          <a:solidFill>
            <a:srgbClr val="000080">
              <a:alpha val="79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 Narrow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 Narrow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5334120"/>
            <a:ext cx="13780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rite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21440" y="1447920"/>
            <a:ext cx="1158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0840" y="3605040"/>
            <a:ext cx="1044360" cy="576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3505320"/>
            <a:ext cx="1125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Universit</a:t>
            </a: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18240" y="4724280"/>
            <a:ext cx="303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4417920"/>
            <a:ext cx="1704960" cy="68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</a:t>
            </a: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cial quality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1976400"/>
            <a:ext cx="1024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i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s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03840" y="2286000"/>
            <a:ext cx="199224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RDI STRATEGIC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33"/>
                </a:solidFill>
                <a:latin typeface="Times New Roman"/>
              </a:rPr>
              <a:t>4.2. National Strategic Referance Framework 2007 – 2013 </a:t>
            </a:r>
            <a:br>
              <a:rPr sz="3600"/>
            </a:br>
            <a:r>
              <a:rPr b="1" lang="ro-RO" sz="3600" spc="-1" strike="noStrike">
                <a:solidFill>
                  <a:srgbClr val="006633"/>
                </a:solidFill>
                <a:latin typeface="Times New Roman"/>
              </a:rPr>
              <a:t>                                     </a:t>
            </a:r>
            <a:r>
              <a:rPr b="1" i="1" lang="ro-RO" sz="2800" spc="-1" strike="noStrike">
                <a:solidFill>
                  <a:srgbClr val="006633"/>
                </a:solidFill>
                <a:latin typeface="Times New Roman"/>
              </a:rPr>
              <a:t>– draft, aprilie 2006</a:t>
            </a:r>
            <a:endParaRPr b="0" lang="en-US" sz="2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733040"/>
            <a:ext cx="8381880" cy="18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loca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 f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7,3 mld. EURO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) -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matic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or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ic Infrastructure to EU Stand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Improving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Long Term Competitiveness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 of the Romanian Economy ~</a:t>
            </a:r>
            <a:r>
              <a:rPr b="0" lang="ro-RO" sz="1800" spc="-1" strike="noStrike" u="sng">
                <a:solidFill>
                  <a:srgbClr val="006600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 and More Efficient Use of Romania’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uman Capi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ing Effectiv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nistrative Capac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5257800" cy="27432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467480" y="5181480"/>
            <a:ext cx="1600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Ministry of Public Financ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4.3.</a:t>
            </a:r>
            <a:r>
              <a:rPr b="0" lang="ro-RO" sz="40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006633"/>
                </a:solidFill>
                <a:latin typeface="Times New Roman"/>
              </a:rPr>
              <a:t>National Export Strategy</a:t>
            </a: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, 2005-2009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533520" y="1447920"/>
          <a:ext cx="8534160" cy="4952520"/>
        </p:xfrm>
        <a:graphic>
          <a:graphicData uri="http://schemas.openxmlformats.org/drawingml/2006/table">
            <a:tbl>
              <a:tblPr/>
              <a:tblGrid>
                <a:gridCol w="461880"/>
                <a:gridCol w="6243480"/>
                <a:gridCol w="1828800"/>
              </a:tblGrid>
              <a:tr h="1164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TRATEGY OBJECTIVES</a:t>
                      </a:r>
                      <a:r>
                        <a:rPr b="1" lang="ro-RO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6633"/>
                          </a:solidFill>
                          <a:latin typeface="Times New Roman"/>
                        </a:rPr>
                        <a:t>R&amp;D and Innovation for promoting the export potential of enterpri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de-DE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cessary funds</a:t>
                      </a:r>
                      <a:r>
                        <a:rPr b="1" i="1" lang="ro-RO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de-DE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l Euro annually / out of which from the state budg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MS Mincho"/>
                        </a:rPr>
                        <a:t>600/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006600"/>
                          </a:solidFill>
                          <a:uFillTx/>
                          <a:latin typeface="Times New Roman"/>
                          <a:ea typeface="MS Mincho"/>
                        </a:rPr>
                        <a:t>Bridging technology gaps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: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 more rapid deployment of advanced technologies in all economic sectors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and the implementation of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ustainable technological development patterns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at sectoral lev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00/ 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006600"/>
                          </a:solidFill>
                          <a:uFillTx/>
                          <a:latin typeface="Times New Roman"/>
                          <a:ea typeface="MS Mincho"/>
                        </a:rPr>
                        <a:t>Bridging competitiveness gaps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: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ncreasing the capacity of enterprises to cope with the pace of technological evolution and competition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at european and international level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/ 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006600"/>
                          </a:solidFill>
                          <a:uFillTx/>
                          <a:latin typeface="Times New Roman"/>
                          <a:ea typeface="MS Mincho"/>
                        </a:rPr>
                        <a:t>High value added exports</a:t>
                      </a:r>
                      <a:r>
                        <a:rPr b="0" lang="de-DE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MS Mincho"/>
                        </a:rPr>
                        <a:t>: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the development of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&amp;D and innovation activities in enterprises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</a:t>
                      </a: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especially in high- tech domai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/ 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 u="sng">
                          <a:solidFill>
                            <a:srgbClr val="006600"/>
                          </a:solidFill>
                          <a:uFillTx/>
                          <a:latin typeface="Times New Roman"/>
                          <a:ea typeface="MS Mincho"/>
                        </a:rPr>
                        <a:t>Towards global markets</a:t>
                      </a: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: promotion of </a:t>
                      </a:r>
                      <a:r>
                        <a:rPr b="1" lang="ro-R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iable technological clusters</a:t>
                      </a: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able to become competitors on the global mark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 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1676520" y="6476040"/>
            <a:ext cx="731520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700" spc="-1" strike="noStrike">
                <a:solidFill>
                  <a:srgbClr val="000000"/>
                </a:solidFill>
                <a:latin typeface="Times New Roman"/>
              </a:rPr>
              <a:t>Financial resources: </a:t>
            </a:r>
            <a:r>
              <a:rPr b="1" i="1" lang="de-DE" sz="1700" spc="-1" strike="noStrike">
                <a:solidFill>
                  <a:srgbClr val="000000"/>
                </a:solidFill>
                <a:latin typeface="Times New Roman"/>
                <a:ea typeface="MS Mincho"/>
              </a:rPr>
              <a:t>EU structural funds + state budget fun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0" y="1828800"/>
            <a:ext cx="5410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ank you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4080" y="152280"/>
            <a:ext cx="5943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1. Economic gaps between Romania and EU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219320"/>
            <a:ext cx="9001080" cy="5437080"/>
            <a:chOff x="380880" y="1219320"/>
            <a:chExt cx="9001080" cy="5437080"/>
          </a:xfrm>
        </p:grpSpPr>
        <p:grpSp>
          <p:nvGrpSpPr>
            <p:cNvPr id="135" name=""/>
            <p:cNvGrpSpPr/>
            <p:nvPr/>
          </p:nvGrpSpPr>
          <p:grpSpPr>
            <a:xfrm>
              <a:off x="380880" y="1219320"/>
              <a:ext cx="9001080" cy="5437080"/>
              <a:chOff x="380880" y="1219320"/>
              <a:chExt cx="9001080" cy="543708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80880" y="1219320"/>
                <a:ext cx="9001080" cy="5437080"/>
                <a:chOff x="380880" y="1219320"/>
                <a:chExt cx="9001080" cy="5437080"/>
              </a:xfrm>
            </p:grpSpPr>
            <p:graphicFrame>
              <p:nvGraphicFramePr>
                <p:cNvPr id="137" name=""/>
                <p:cNvGraphicFramePr/>
                <p:nvPr/>
              </p:nvGraphicFramePr>
              <p:xfrm>
                <a:off x="380880" y="1219320"/>
                <a:ext cx="9001080" cy="54370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3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80880" y="1219320"/>
                          <a:ext cx="9001080" cy="5437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39" name=""/>
                <p:cNvSpPr/>
                <p:nvPr/>
              </p:nvSpPr>
              <p:spPr>
                <a:xfrm flipV="1">
                  <a:off x="1752480" y="3045960"/>
                  <a:ext cx="7445520" cy="129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52480" y="3374280"/>
                  <a:ext cx="7445520" cy="3744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7564320" y="2319840"/>
                <a:ext cx="1548000" cy="49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006600"/>
                    </a:solidFill>
                    <a:latin typeface="Arial"/>
                  </a:rPr>
                  <a:t>EU</a:t>
                </a:r>
                <a:r>
                  <a:rPr b="1" lang="en-US" sz="1600" spc="-1" strike="noStrike">
                    <a:solidFill>
                      <a:srgbClr val="006600"/>
                    </a:solidFill>
                    <a:latin typeface="Arial"/>
                  </a:rPr>
                  <a:t>-15, </a:t>
                </a:r>
                <a:r>
                  <a:rPr b="1" i="1" lang="en-US" sz="1600" spc="-1" strike="noStrike">
                    <a:solidFill>
                      <a:srgbClr val="006600"/>
                    </a:solidFill>
                    <a:latin typeface="Arial"/>
                  </a:rPr>
                  <a:t>2005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6600"/>
                    </a:solidFill>
                    <a:latin typeface="Arial"/>
                  </a:rPr>
                  <a:t>25.283 Euro/loc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64320" y="3596400"/>
                <a:ext cx="1549440" cy="49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006600"/>
                    </a:solidFill>
                    <a:latin typeface="Arial"/>
                  </a:rPr>
                  <a:t>EU</a:t>
                </a:r>
                <a:r>
                  <a:rPr b="1" lang="en-US" sz="1600" spc="-1" strike="noStrike">
                    <a:solidFill>
                      <a:srgbClr val="006600"/>
                    </a:solidFill>
                    <a:latin typeface="Arial"/>
                  </a:rPr>
                  <a:t>-25, </a:t>
                </a:r>
                <a:r>
                  <a:rPr b="1" i="1" lang="en-US" sz="1600" spc="-1" strike="noStrike">
                    <a:solidFill>
                      <a:srgbClr val="006600"/>
                    </a:solidFill>
                    <a:latin typeface="Arial"/>
                  </a:rPr>
                  <a:t>20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6600"/>
                    </a:solidFill>
                    <a:latin typeface="Arial"/>
                  </a:rPr>
                  <a:t>23.290 Euro/lo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flipV="1">
              <a:off x="2041560" y="2270880"/>
              <a:ext cx="244440" cy="382104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590920" y="3847320"/>
              <a:ext cx="244440" cy="136476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029200" y="4083840"/>
              <a:ext cx="228600" cy="102492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548320" y="3374640"/>
              <a:ext cx="318960" cy="154584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172200" y="2901600"/>
              <a:ext cx="228600" cy="94608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619280" y="0"/>
            <a:ext cx="1504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Innovation performance of Romania relative to EU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931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696080" y="4789440"/>
            <a:ext cx="129564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uropean Trend Chart on Innovation,  European Commission</a:t>
            </a:r>
            <a:r>
              <a:rPr b="0" i="1" lang="ro-RO" sz="1400" spc="-1" strike="noStrike">
                <a:solidFill>
                  <a:srgbClr val="000000"/>
                </a:solidFill>
                <a:latin typeface="Times New Roman"/>
              </a:rPr>
              <a:t>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120" y="-7632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00"/>
                </a:solidFill>
                <a:latin typeface="Times New Roman"/>
              </a:rPr>
              <a:t>2. Key</a:t>
            </a:r>
            <a:r>
              <a:rPr b="1" lang="en-GB" sz="4000" spc="-1" strike="noStrike">
                <a:solidFill>
                  <a:srgbClr val="006600"/>
                </a:solidFill>
                <a:latin typeface="Times New Roman"/>
              </a:rPr>
              <a:t> challenges of the NIS with respect to R&amp;D intensity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8534520" cy="49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ely weak R&amp;D and innovation syste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t suffered during the transition years from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state fu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ed demand for their services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ly recently show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igns of recovery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R&amp;D is performed in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search Institute s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large number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tor-based organizations performing applied R&amp;D, many of which are state-owned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dustry performs little R&amp;D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imari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dium-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s not attuned to innovatio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very low level of public funding of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only 10% of innovative firms receiving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ania is strongly committed to reaching the Barcelona targets by 2010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How will public</a:t>
            </a:r>
            <a:r>
              <a:rPr b="0" lang="ro-RO" sz="40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6600"/>
                </a:solidFill>
                <a:latin typeface="Times New Roman"/>
              </a:rPr>
              <a:t>R&amp;D intensity</a:t>
            </a:r>
            <a:r>
              <a:rPr b="1" lang="ro-RO" sz="4000" spc="-1" strike="noStrike">
                <a:solidFill>
                  <a:srgbClr val="006600"/>
                </a:solidFill>
                <a:latin typeface="Times New Roman"/>
              </a:rPr>
              <a:t> reach the Barcelona target?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833480" y="1371600"/>
          <a:ext cx="688500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371600"/>
                    <a:ext cx="68850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981080" y="5499000"/>
            <a:ext cx="678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Ministry of Education and Research </a:t>
            </a:r>
            <a:r>
              <a:rPr b="1" i="1" lang="fr-FR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National Authority for Scientific Research 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</a:rPr>
              <a:t>projections in accordance with the Law 379/2005 of the state budget and the Medium-term Fiscal Management Strategy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76520" y="0"/>
            <a:ext cx="7467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How will business</a:t>
            </a:r>
            <a:r>
              <a:rPr b="0" lang="ro-RO" sz="40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6600"/>
                </a:solidFill>
                <a:latin typeface="Times New Roman"/>
              </a:rPr>
              <a:t>R&amp;D intensity</a:t>
            </a:r>
            <a:r>
              <a:rPr b="1" lang="ro-RO" sz="4000" spc="-1" strike="noStrike">
                <a:solidFill>
                  <a:srgbClr val="006600"/>
                </a:solidFill>
                <a:latin typeface="Times New Roman"/>
              </a:rPr>
              <a:t> reach the Barcelona target</a:t>
            </a:r>
            <a:r>
              <a:rPr b="1" lang="ro-RO" sz="4000" spc="-1" strike="noStrike">
                <a:solidFill>
                  <a:srgbClr val="ff0000"/>
                </a:solidFill>
                <a:latin typeface="Times New Roman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28800" y="1371600"/>
          <a:ext cx="688500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71600"/>
                    <a:ext cx="68850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981080" y="571500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Ministry of Education and Research </a:t>
            </a:r>
            <a:r>
              <a:rPr b="1" i="1" lang="fr-FR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National Authority for Scientific Research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54840" y="1644120"/>
            <a:ext cx="347760" cy="1219320"/>
            <a:chOff x="6954840" y="1644120"/>
            <a:chExt cx="347760" cy="1219320"/>
          </a:xfrm>
        </p:grpSpPr>
        <p:sp>
          <p:nvSpPr>
            <p:cNvPr id="163" name=""/>
            <p:cNvSpPr/>
            <p:nvPr/>
          </p:nvSpPr>
          <p:spPr>
            <a:xfrm flipH="1">
              <a:off x="7139520" y="1648440"/>
              <a:ext cx="8640" cy="1210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54840" y="1811880"/>
              <a:ext cx="19692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151760" y="1644120"/>
              <a:ext cx="150840" cy="39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143840" y="2860920"/>
              <a:ext cx="130320" cy="2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289240" y="1655640"/>
            <a:ext cx="1444680" cy="77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ROMANIAN ACADEM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8,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65680" y="1697040"/>
            <a:ext cx="0" cy="4716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86280" y="1655640"/>
            <a:ext cx="1300320" cy="50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NATIONAL RDI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PL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5440" y="838080"/>
            <a:ext cx="1655640" cy="692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227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010227"/>
                </a:solidFill>
                <a:latin typeface="Impact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838080"/>
            <a:ext cx="2590560" cy="6778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227"/>
                </a:solidFill>
                <a:latin typeface="Impact"/>
              </a:rPr>
              <a:t>RESEARCH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227"/>
                </a:solidFill>
                <a:latin typeface="Impact"/>
              </a:rPr>
              <a:t>OF THE ROMANIAN ACADEMY AND OTHER BRANCH ACADEM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3040" y="838080"/>
            <a:ext cx="2051280" cy="692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227"/>
                </a:solidFill>
                <a:latin typeface="Impact"/>
              </a:rPr>
              <a:t>NATIONAL RDI INSTITU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227"/>
                </a:solidFill>
                <a:latin typeface="Impact"/>
              </a:rPr>
              <a:t>(MEdR – NASR, OTHER MINIS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838080"/>
            <a:ext cx="1665360" cy="7048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227"/>
                </a:solidFill>
                <a:latin typeface="Impact"/>
              </a:rPr>
              <a:t>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70160" y="2513160"/>
            <a:ext cx="1468440" cy="938160"/>
          </a:xfrm>
          <a:prstGeom prst="rect">
            <a:avLst/>
          </a:prstGeom>
          <a:solidFill>
            <a:srgbClr val="d5b02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MEdR – NA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8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4797360"/>
            <a:ext cx="2976840" cy="7653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ECONOMIC CONTRACTS” – NATIONAL RD INSTITUTIONS, UNIVERSITIES, RDI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5638680"/>
            <a:ext cx="1508400" cy="533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227"/>
                </a:solidFill>
                <a:latin typeface="Arial"/>
              </a:rPr>
              <a:t>PRIVATE 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39000">
            <a:off x="1900080" y="4772160"/>
            <a:ext cx="306720" cy="641160"/>
          </a:xfrm>
          <a:prstGeom prst="rightArrow">
            <a:avLst>
              <a:gd name="adj1" fmla="val 47574"/>
              <a:gd name="adj2" fmla="val 50662"/>
            </a:avLst>
          </a:prstGeom>
          <a:solidFill>
            <a:srgbClr val="00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92000">
            <a:off x="1890360" y="5470560"/>
            <a:ext cx="306360" cy="639720"/>
          </a:xfrm>
          <a:prstGeom prst="rightArrow">
            <a:avLst>
              <a:gd name="adj1" fmla="val 47574"/>
              <a:gd name="adj2" fmla="val 50662"/>
            </a:avLst>
          </a:prstGeom>
          <a:solidFill>
            <a:srgbClr val="00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11840" y="2254320"/>
            <a:ext cx="1274760" cy="260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03920" y="2666880"/>
            <a:ext cx="1282680" cy="42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NUCLEUS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3200400"/>
            <a:ext cx="12952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SECTORAL PL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11840" y="3657600"/>
            <a:ext cx="1274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S&amp;T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11840" y="4159080"/>
            <a:ext cx="1274760" cy="34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S&amp;T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08600" y="5477040"/>
            <a:ext cx="1278000" cy="23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MO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08600" y="5765760"/>
            <a:ext cx="12780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160" y="2362320"/>
            <a:ext cx="1888920" cy="1306440"/>
          </a:xfrm>
          <a:prstGeom prst="ellipse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316240"/>
            <a:ext cx="16081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b029"/>
                </a:solidFill>
                <a:latin typeface="Impact"/>
              </a:rPr>
              <a:t>G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5b029"/>
                </a:solidFill>
                <a:latin typeface="Arial"/>
              </a:rPr>
              <a:t>0,38 % in PIB</a:t>
            </a:r>
            <a:r>
              <a:rPr b="1" lang="ro-RO" sz="2100" spc="-1" strike="noStrike">
                <a:solidFill>
                  <a:srgbClr val="d5b02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2000" y="4757760"/>
            <a:ext cx="1738080" cy="1224000"/>
          </a:xfrm>
          <a:prstGeom prst="ellipse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1960" y="4876920"/>
            <a:ext cx="1478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5b029"/>
                </a:solidFill>
                <a:latin typeface="Arial"/>
              </a:rPr>
              <a:t>BE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5b029"/>
                </a:solidFill>
                <a:latin typeface="Arial"/>
              </a:rPr>
              <a:t>0,42 % in PIB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0560" y="3625920"/>
            <a:ext cx="1468440" cy="102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ALL THE OTHER MINIS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10227"/>
                </a:solidFill>
                <a:latin typeface="Arial"/>
              </a:rPr>
              <a:t>Sectoral Programmes</a:t>
            </a:r>
            <a:r>
              <a:rPr b="1" lang="ro-RO" sz="1200" spc="-1" strike="noStrike">
                <a:solidFill>
                  <a:srgbClr val="010227"/>
                </a:solidFill>
                <a:latin typeface="Arial"/>
              </a:rPr>
              <a:t> -</a:t>
            </a: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 10,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0560" y="1666800"/>
            <a:ext cx="1552680" cy="771480"/>
          </a:xfrm>
          <a:prstGeom prst="rect">
            <a:avLst/>
          </a:prstGeom>
          <a:solidFill>
            <a:srgbClr val="d5b02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COMPETITION   9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08600" y="2590920"/>
            <a:ext cx="1550880" cy="792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GRA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2,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08600" y="3505320"/>
            <a:ext cx="1550880" cy="900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Capital expenses, management - 2,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733920" y="2021040"/>
            <a:ext cx="260280" cy="1871640"/>
            <a:chOff x="3733920" y="2021040"/>
            <a:chExt cx="260280" cy="1871640"/>
          </a:xfrm>
        </p:grpSpPr>
        <p:sp>
          <p:nvSpPr>
            <p:cNvPr id="195" name=""/>
            <p:cNvSpPr/>
            <p:nvPr/>
          </p:nvSpPr>
          <p:spPr>
            <a:xfrm flipH="1">
              <a:off x="3875760" y="2030040"/>
              <a:ext cx="6840" cy="18583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733920" y="2956680"/>
              <a:ext cx="260280" cy="43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890160" y="2021040"/>
              <a:ext cx="100440" cy="43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879720" y="3888360"/>
              <a:ext cx="100440" cy="43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 flipV="1">
            <a:off x="5553000" y="2021040"/>
            <a:ext cx="115920" cy="28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665680" y="1588680"/>
            <a:ext cx="141480" cy="81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981080" y="2120760"/>
            <a:ext cx="297000" cy="1711080"/>
            <a:chOff x="1981080" y="2120760"/>
            <a:chExt cx="297000" cy="1711080"/>
          </a:xfrm>
        </p:grpSpPr>
        <p:sp>
          <p:nvSpPr>
            <p:cNvPr id="202" name=""/>
            <p:cNvSpPr/>
            <p:nvPr/>
          </p:nvSpPr>
          <p:spPr>
            <a:xfrm>
              <a:off x="2115720" y="2133000"/>
              <a:ext cx="0" cy="16988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2990880"/>
              <a:ext cx="297000" cy="9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115720" y="2120760"/>
              <a:ext cx="150120" cy="57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02040" y="3797640"/>
              <a:ext cx="147960" cy="24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315200" y="1600200"/>
            <a:ext cx="13510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15.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1905120"/>
            <a:ext cx="1447560" cy="33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227"/>
                </a:solidFill>
                <a:latin typeface="Times New Roman"/>
              </a:rPr>
              <a:t>………………</a:t>
            </a:r>
            <a:r>
              <a:rPr b="0" lang="en-US" sz="1200" spc="-1" strike="noStrike">
                <a:solidFill>
                  <a:srgbClr val="010227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254320"/>
            <a:ext cx="1524240" cy="33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02.AGRI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92920" y="2558880"/>
            <a:ext cx="1274760" cy="33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01. RELAN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65680" y="6413400"/>
            <a:ext cx="114480" cy="65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14480"/>
            <a:ext cx="914400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Black"/>
              </a:rPr>
              <a:t>RDI SYSTEM IN ROMANIA</a:t>
            </a:r>
            <a:r>
              <a:rPr b="0" lang="ro-RO" sz="2400" spc="-1" strike="noStrike">
                <a:solidFill>
                  <a:srgbClr val="006633"/>
                </a:solidFill>
                <a:latin typeface="Arial Black"/>
              </a:rPr>
              <a:t>,</a:t>
            </a:r>
            <a:r>
              <a:rPr b="0" lang="ro-RO" sz="3200" spc="-1" strike="noStrike">
                <a:solidFill>
                  <a:srgbClr val="006633"/>
                </a:solidFill>
                <a:latin typeface="Arial Black"/>
              </a:rPr>
              <a:t> 200</a:t>
            </a:r>
            <a:r>
              <a:rPr b="0" lang="en-US" sz="3200" spc="-1" strike="noStrike">
                <a:solidFill>
                  <a:srgbClr val="006633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11840" y="5149800"/>
            <a:ext cx="127476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INFRA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11840" y="4540320"/>
            <a:ext cx="1274760" cy="565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CEE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10227"/>
                </a:solidFill>
                <a:latin typeface="Arial"/>
              </a:rPr>
              <a:t>Excellence</a:t>
            </a:r>
            <a:r>
              <a:rPr b="0" i="1" lang="ro-RO" sz="900" spc="-1" strike="noStrike">
                <a:solidFill>
                  <a:srgbClr val="010227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10227"/>
                </a:solidFill>
                <a:latin typeface="Arial"/>
              </a:rPr>
              <a:t>research frame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043760" y="4540320"/>
            <a:ext cx="347760" cy="1512360"/>
            <a:chOff x="7043760" y="4540320"/>
            <a:chExt cx="347760" cy="1512360"/>
          </a:xfrm>
        </p:grpSpPr>
        <p:sp>
          <p:nvSpPr>
            <p:cNvPr id="215" name=""/>
            <p:cNvSpPr/>
            <p:nvPr/>
          </p:nvSpPr>
          <p:spPr>
            <a:xfrm flipH="1">
              <a:off x="7228440" y="4545360"/>
              <a:ext cx="8640" cy="1501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3760" y="4748040"/>
              <a:ext cx="196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240680" y="4540320"/>
              <a:ext cx="150840" cy="50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232760" y="6049440"/>
              <a:ext cx="130320" cy="3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412040" y="4343400"/>
            <a:ext cx="150336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IV. ACRED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4844880"/>
            <a:ext cx="1503360" cy="412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III. INT.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378400"/>
            <a:ext cx="1523880" cy="412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II. HUMAN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91520" y="5911920"/>
            <a:ext cx="1523880" cy="412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I. COMPLEX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6124680"/>
            <a:ext cx="1295280" cy="304560"/>
          </a:xfrm>
          <a:prstGeom prst="rect">
            <a:avLst/>
          </a:prstGeom>
          <a:solidFill>
            <a:srgbClr val="7de1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00"/>
                </a:solidFill>
                <a:latin typeface="Times New Roman"/>
              </a:rPr>
              <a:t>3. C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</a:rPr>
              <a:t>hallenges related to the business RDI intensity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w technologies come out of imports and FD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ost productive enterprises are engaged in assembly activities, in sub-contracting regi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% of the enterprises in manuf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ave R&amp;D activities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005: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19% of the active enterprises are innovativ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13% of small enterprises and 21% of medium-sized companies, cooperation with foreign companies less than 2% of SME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The R&amp;D activity is not the main source of innovatio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nnovation expenditures: cca. 3% from the total turnover of the innovative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75% of the innovations relate to products and proce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53% of technological innovations result in the acquisition of new machinery and equipment (of which SMEs represent 59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005: 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50 international trademarks submitted from Roman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(as compared to the Czech R. - 500 and Hungary – 40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6633"/>
                </a:solidFill>
                <a:latin typeface="Times New Roman"/>
              </a:rPr>
              <a:t>Cont. Scarce financial incentives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CAL INCENTIVES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DI do not includ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direct measures. Excep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xemption from the payment of local duties for 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RD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ctivities carried out within technological par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deducti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quipment and know-how im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as repealed by the new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w on the VAT and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tent implement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as repealed in 2002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hough acknowledged as one of the mostly used fiscal incentives in the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RD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lated measur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ferential payment of the taxes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ages in software and information technology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indust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TE AIDS SCHEMES FOR R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overnment Decision 651/24.05.2006 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approval state aid 2006-2013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 aids for RD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-ante not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uropean Commi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nly the following categories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 aids for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RD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to SME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 minim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tate ai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3:18:40Z</dcterms:created>
  <dc:creator>Razvan C. Nan</dc:creator>
  <dc:description/>
  <dc:language>en-US</dc:language>
  <cp:lastModifiedBy>Andreea Vass</cp:lastModifiedBy>
  <cp:lastPrinted>2001-09-13T14:22:07Z</cp:lastPrinted>
  <dcterms:modified xsi:type="dcterms:W3CDTF">2004-09-26T07:44:00Z</dcterms:modified>
  <cp:revision>1453</cp:revision>
  <dc:subject/>
  <dc:title>[Company Name]</dc:title>
</cp:coreProperties>
</file>