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080625" cy="7559675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982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01800" y="758880"/>
            <a:ext cx="499104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800" spc="-1" strike="noStrike">
                <a:solidFill>
                  <a:srgbClr val="0c1c8c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c1c8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79320" y="4741560"/>
            <a:ext cx="54374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658800"/>
                <a:tab algn="l" pos="1316160"/>
                <a:tab algn="l" pos="1974960"/>
                <a:tab algn="l" pos="263196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dt" idx="1"/>
          </p:nvPr>
        </p:nvSpPr>
        <p:spPr>
          <a:xfrm>
            <a:off x="3847680" y="-360"/>
            <a:ext cx="29480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658800"/>
                <a:tab algn="l" pos="1316160"/>
                <a:tab algn="l" pos="1974960"/>
                <a:tab algn="l" pos="263196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658800"/>
                <a:tab algn="l" pos="1316160"/>
                <a:tab algn="l" pos="1974960"/>
                <a:tab algn="l" pos="263196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948168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658800"/>
                <a:tab algn="l" pos="1316160"/>
                <a:tab algn="l" pos="1974960"/>
                <a:tab algn="l" pos="263196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658800"/>
                <a:tab algn="l" pos="1316160"/>
                <a:tab algn="l" pos="1974960"/>
                <a:tab algn="l" pos="263196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47680" y="9481680"/>
            <a:ext cx="29480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658800"/>
                <a:tab algn="l" pos="1316160"/>
                <a:tab algn="l" pos="1974960"/>
                <a:tab algn="l" pos="263196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658800"/>
                <a:tab algn="l" pos="1316160"/>
                <a:tab algn="l" pos="1974960"/>
                <a:tab algn="l" pos="263196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fld id="{9B5AADD6-BAB1-4D17-B0AB-B7E07E4E7B7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Magnifying_Transmitter" TargetMode="External"/><Relationship Id="rId2" Type="http://schemas.openxmlformats.org/officeDocument/2006/relationships/hyperlink" Target="http://en.wikipedia.org/wiki/Double_exposure" TargetMode="External"/><Relationship Id="rId3" Type="http://schemas.openxmlformats.org/officeDocument/2006/relationships/hyperlink" Target="http://en.wikipedia.org/wiki/Double_exposure" TargetMode="External"/><Relationship Id="rId4" Type="http://schemas.openxmlformats.org/officeDocument/2006/relationships/slide" Target="../slides/slide2.xml"/><Relationship Id="rId5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01800" y="75888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41560"/>
            <a:ext cx="54374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An effective system of priority setting and management is necessar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Transi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01800" y="75888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41560"/>
            <a:ext cx="54374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mall nations are inter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ource: European Commission (2006): International Scientific Cooperation – Target Country Participation in FP6 (2002-2006), a („mid term“) statistical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The data source for this statistical analysis is the database </a:t>
            </a:r>
            <a:r>
              <a:rPr b="1" i="1" lang="de-AT" sz="1200" spc="-1" strike="noStrike">
                <a:solidFill>
                  <a:srgbClr val="000000"/>
                </a:solidFill>
                <a:latin typeface="Arial"/>
              </a:rPr>
              <a:t>FP6 Contracts and Participants Database (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de-AT" sz="1200" spc="-1" strike="noStrike">
                <a:solidFill>
                  <a:srgbClr val="000000"/>
                </a:solidFill>
                <a:latin typeface="Arial"/>
              </a:rPr>
              <a:t>20060124) 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produced in February 2006 by the European Commission, DG Research, Directorate A. A CD-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was delivered to national representatives of the SP1 programme committee in February 200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Data on FP6 contracts and participants reflect the FP6 CPM (Contract &amp; Project Management) database 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on 24 January 2006. Cut-off date was January 24th 200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Extracted data in the database was quality checked and, where necessary, modified on the basis of in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idation rules. This “data cleaning” exercise was not validated by data own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The FP6 contracts database contains all contracts with status “signed”.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The total number of calls included in these analyses is 138 including all priorities and programmes. By the end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FP6 it is expected that about 213 calls will have been published.16 This mean that this data represent about 6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of all calls in FP6. The total number of contracts analysed in this report is 5327. It is expected that this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will be much higher at the end of FP6. Therefore, these analyses are to consider as mid term analysis for FP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01800" y="75888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41560"/>
            <a:ext cx="54374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Publicity picture of a participant sitting in his laboratory in Colorado Springs with his "</a:t>
            </a:r>
            <a:r>
              <a:rPr b="0" lang="de-AT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gnifying Transmitter</a:t>
            </a: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" generating millions of volts of electricity. The arcs are about 7 meters (22 ft) long. (Tesla's notes identify this as a </a:t>
            </a:r>
            <a:r>
              <a:rPr b="0" lang="de-AT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double </a:t>
            </a:r>
            <a:r>
              <a:rPr b="0" lang="de-AT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exposure</a:t>
            </a: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01800" y="75888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41560"/>
            <a:ext cx="54374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A more recent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Nobel Prize in Chemistry: as well as also Lavoslav Ruzicka who won the in 1939 – the first one Croatia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01800" y="75888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41560"/>
            <a:ext cx="54374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nother more recent and alive example – and most of all: an important resource that is in some countries not yet so well tapped (but here I‘m speaking not so much of a problem of the south-east european countries but rather from some old EU member states: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a Woma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01800" y="75888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41560"/>
            <a:ext cx="54374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ystem of innovation – relevant asp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ot the linear models of innovation: Science push, technology pull, market p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uman Resources – macro level: education and training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ut also: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esearch carried out – out of which some data pres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01800" y="75888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9320" y="4741560"/>
            <a:ext cx="54374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Look into detai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Weak business s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01800" y="75888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41560"/>
            <a:ext cx="54374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lovak re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o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&gt; within reach in this ind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01800" y="75888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41560"/>
            <a:ext cx="54374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esults output – measured e.g. by publications or pat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atent statistics show here as well, that the eu –average is not close, b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8920" y="1800000"/>
            <a:ext cx="97189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78920" y="4405320"/>
            <a:ext cx="97189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8920" y="1800000"/>
            <a:ext cx="4742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9160" y="1800000"/>
            <a:ext cx="4742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8920" y="4405320"/>
            <a:ext cx="4742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59160" y="4405320"/>
            <a:ext cx="4742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920" y="1800000"/>
            <a:ext cx="31291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65000" y="1800000"/>
            <a:ext cx="31291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50720" y="1800000"/>
            <a:ext cx="31291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78920" y="4405320"/>
            <a:ext cx="31291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65000" y="4405320"/>
            <a:ext cx="31291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750720" y="4405320"/>
            <a:ext cx="31291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78920" y="1800000"/>
            <a:ext cx="971892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8920" y="1800000"/>
            <a:ext cx="971892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8920" y="1800000"/>
            <a:ext cx="47426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9160" y="1800000"/>
            <a:ext cx="47426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52360" y="216000"/>
            <a:ext cx="6299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8920" y="1800000"/>
            <a:ext cx="4742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9160" y="1800000"/>
            <a:ext cx="47426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78920" y="4405320"/>
            <a:ext cx="4742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78920" y="1800000"/>
            <a:ext cx="971892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800000"/>
            <a:ext cx="47426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9160" y="1800000"/>
            <a:ext cx="4742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59160" y="4405320"/>
            <a:ext cx="4742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8920" y="1800000"/>
            <a:ext cx="4742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9160" y="1800000"/>
            <a:ext cx="4742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8920" y="4405320"/>
            <a:ext cx="97189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800000"/>
            <a:ext cx="97189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78920" y="4405320"/>
            <a:ext cx="97189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1800000"/>
            <a:ext cx="4742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9160" y="1800000"/>
            <a:ext cx="4742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78920" y="4405320"/>
            <a:ext cx="4742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59160" y="4405320"/>
            <a:ext cx="4742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8920" y="1800000"/>
            <a:ext cx="31291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65000" y="1800000"/>
            <a:ext cx="31291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50720" y="1800000"/>
            <a:ext cx="31291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78920" y="4405320"/>
            <a:ext cx="31291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65000" y="4405320"/>
            <a:ext cx="31291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750720" y="4405320"/>
            <a:ext cx="31291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78920" y="1800000"/>
            <a:ext cx="971892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8920" y="1800000"/>
            <a:ext cx="47426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59160" y="1800000"/>
            <a:ext cx="47426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52360" y="216000"/>
            <a:ext cx="6299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800000"/>
            <a:ext cx="4742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9160" y="1800000"/>
            <a:ext cx="47426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78920" y="4405320"/>
            <a:ext cx="4742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8920" y="1800000"/>
            <a:ext cx="47426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9160" y="1800000"/>
            <a:ext cx="4742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9160" y="4405320"/>
            <a:ext cx="4742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8920" y="1800000"/>
            <a:ext cx="4742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9160" y="1800000"/>
            <a:ext cx="4742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8920" y="4405320"/>
            <a:ext cx="97189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10760" r="0" b="0"/>
          <a:stretch/>
        </p:blipFill>
        <p:spPr>
          <a:xfrm>
            <a:off x="6905520" y="990720"/>
            <a:ext cx="3024360" cy="6424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8920" y="1800000"/>
            <a:ext cx="971892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49240" indent="-660240">
              <a:lnSpc>
                <a:spcPct val="95000"/>
              </a:lnSpc>
              <a:spcAft>
                <a:spcPts val="1426"/>
              </a:spcAft>
              <a:buClr>
                <a:srgbClr val="cc0000"/>
              </a:buClr>
              <a:buFont typeface="Symbol" charset="2"/>
              <a:buChar char="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336680" indent="-287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74312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214956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55600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55600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55600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79280" y="7020000"/>
            <a:ext cx="18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600" spc="-1" strike="noStrike">
                <a:solidFill>
                  <a:srgbClr val="d81126"/>
                </a:solidFill>
                <a:latin typeface="Univers 57 Condensed"/>
              </a:rPr>
              <a:t>Slide </a:t>
            </a:r>
            <a:fld id="{105E9BFF-13F9-471B-8209-F2DB4DA903F1}" type="slidenum">
              <a:rPr b="0" lang="en-US" sz="1600" spc="-1" strike="noStrike">
                <a:solidFill>
                  <a:srgbClr val="d81126"/>
                </a:solidFill>
                <a:latin typeface="Univers 57 Condense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rcRect l="0" t="10738" r="0" b="0"/>
          <a:stretch/>
        </p:blipFill>
        <p:spPr>
          <a:xfrm>
            <a:off x="6905520" y="152280"/>
            <a:ext cx="3024360" cy="7264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0360" y="1260000"/>
            <a:ext cx="6299280" cy="22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c1c8c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c1c8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24000" y="3600000"/>
            <a:ext cx="633384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3754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811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81126"/>
              </a:solidFill>
              <a:latin typeface="Arial"/>
            </a:endParaRPr>
          </a:p>
          <a:p>
            <a:pPr lvl="1" marL="375480" indent="-2815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811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81126"/>
              </a:solidFill>
              <a:latin typeface="Arial"/>
            </a:endParaRPr>
          </a:p>
          <a:p>
            <a:pPr lvl="2" marL="375480" indent="-2815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811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81126"/>
              </a:solidFill>
              <a:latin typeface="Arial"/>
            </a:endParaRPr>
          </a:p>
          <a:p>
            <a:pPr lvl="3" marL="375480" indent="-2815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811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81126"/>
              </a:solidFill>
              <a:latin typeface="Arial"/>
            </a:endParaRPr>
          </a:p>
          <a:p>
            <a:pPr lvl="4" marL="375480" indent="-2815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811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81126"/>
              </a:solidFill>
              <a:latin typeface="Arial"/>
            </a:endParaRPr>
          </a:p>
          <a:p>
            <a:pPr lvl="5" marL="375480" indent="-2815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811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81126"/>
              </a:solidFill>
              <a:latin typeface="Arial"/>
            </a:endParaRPr>
          </a:p>
          <a:p>
            <a:pPr lvl="6" marL="375480" indent="-2815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811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811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0360" y="1738080"/>
            <a:ext cx="6300720" cy="14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c1c8c"/>
                </a:solidFill>
                <a:latin typeface="Arial"/>
              </a:rPr>
              <a:t>Innovation Potential</a:t>
            </a:r>
            <a:br>
              <a:rPr sz="4800"/>
            </a:br>
            <a:r>
              <a:rPr b="0" lang="en-US" sz="4800" spc="-1" strike="noStrike">
                <a:solidFill>
                  <a:srgbClr val="0c1c8c"/>
                </a:solidFill>
                <a:latin typeface="Arial"/>
              </a:rPr>
              <a:t>in South East Europe</a:t>
            </a:r>
            <a:endParaRPr b="0" lang="en-US" sz="4800" spc="-1" strike="noStrike">
              <a:solidFill>
                <a:srgbClr val="0c1c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3640" y="4500720"/>
            <a:ext cx="6335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81126"/>
                </a:solidFill>
                <a:latin typeface="Arial"/>
              </a:rPr>
              <a:t>Why invest in science in SEE?</a:t>
            </a:r>
            <a:endParaRPr b="0" lang="en-US" sz="3200" spc="-1" strike="noStrike">
              <a:solidFill>
                <a:srgbClr val="d81126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81126"/>
                </a:solidFill>
                <a:latin typeface="Arial"/>
              </a:rPr>
              <a:t>Ljubljana, 28.09.2006</a:t>
            </a:r>
            <a:endParaRPr b="0" lang="en-US" sz="3200" spc="-1" strike="noStrike">
              <a:solidFill>
                <a:srgbClr val="d81126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81126"/>
                </a:solidFill>
                <a:latin typeface="Arial"/>
              </a:rPr>
              <a:t>Elke Dall</a:t>
            </a:r>
            <a:endParaRPr b="0" lang="en-US" sz="3200" spc="-1" strike="noStrike">
              <a:solidFill>
                <a:srgbClr val="d8112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Innovation Potenti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11120" y="5257800"/>
            <a:ext cx="77580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Arial"/>
              </a:rPr>
              <a:t>Governance &amp; Institu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2744640"/>
            <a:ext cx="56293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A National System of Innovation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the network of institutions in the public and private sectors whose activities and interactions initiate, import, modify and diffuse new technologies.“ (Freeman, 198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62520" y="4170240"/>
            <a:ext cx="56293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In transitional economies, a series of changes emerges from the need to reorient the research sys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Innovation Potenti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8125" t="14844" r="19999" b="12500"/>
          <a:stretch/>
        </p:blipFill>
        <p:spPr>
          <a:xfrm>
            <a:off x="76320" y="1295280"/>
            <a:ext cx="6629400" cy="5362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rcRect l="0" t="0" r="0" b="83971"/>
          <a:stretch/>
        </p:blipFill>
        <p:spPr>
          <a:xfrm>
            <a:off x="6905520" y="217440"/>
            <a:ext cx="3024360" cy="1154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133800" y="5257800"/>
            <a:ext cx="67446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Arial"/>
              </a:rPr>
              <a:t>International Networ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6705720"/>
            <a:ext cx="601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000" spc="-1" strike="noStrike">
                <a:solidFill>
                  <a:srgbClr val="292929"/>
                </a:solidFill>
                <a:latin typeface="Arial"/>
              </a:rPr>
              <a:t>Source: European Commission (2006): International Scientific Cooperation – Target Country Participation in FP6 (2002-2006), a („mid term“) statistical analy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1800000"/>
            <a:ext cx="971892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s. Elke D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cc0000"/>
                </a:solidFill>
                <a:latin typeface="Arial"/>
              </a:rPr>
              <a:t>Centre for Social Innovation (Z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nke Wienzeile 2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150 Vienna, Au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hone: + 43-1- 49 50 442 - 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x: + 43-1- 49 50 442 -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dall@zsi.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www.zsi.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www.see-science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905520" y="217440"/>
            <a:ext cx="3024360" cy="71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800" spc="-1" strike="noStrike">
                <a:solidFill>
                  <a:srgbClr val="000000"/>
                </a:solidFill>
                <a:latin typeface="Arial"/>
              </a:rPr>
              <a:t>Thank you for your attention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8920" y="1800000"/>
            <a:ext cx="971892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s. Elke D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cc0000"/>
                </a:solidFill>
                <a:latin typeface="Arial"/>
              </a:rPr>
              <a:t>Centre for Social Innovation (Z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nke Wienzeile 2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150 Vienna, Au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hone: + 43-1- 49 50 442 - 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x: + 43-1- 49 50 442 -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dall@zsi.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www.zsi.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www.see-science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905520" y="217440"/>
            <a:ext cx="3024360" cy="71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Innovation Potentials (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-36360"/>
            <a:ext cx="10080720" cy="75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Innovation Potenti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3733920" y="1828800"/>
            <a:ext cx="6095880" cy="4900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14280" y="2057400"/>
            <a:ext cx="5629320" cy="23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AT" sz="1800" spc="-1" strike="noStrike">
                <a:solidFill>
                  <a:srgbClr val="ffffff"/>
                </a:solidFill>
                <a:latin typeface="Arial"/>
              </a:rPr>
              <a:t>Nikola Tesla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 (July 9/10, 1856 – January 7, 1943) was a world-renowned Serbian inventor, physicist, mechanical engineer and electrical engineer. He was born in Smiljan, Croatia, then part of the Austrian Empi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Tesla is regarded as one of the most important inventors in hist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Innovation Potenti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>
            <a:lum bright="78000"/>
          </a:blip>
          <a:stretch/>
        </p:blipFill>
        <p:spPr>
          <a:xfrm>
            <a:off x="3733920" y="1828800"/>
            <a:ext cx="6095880" cy="4900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14280" y="2057400"/>
            <a:ext cx="56293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nobelpriz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Vladimir Prelog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July 23, 1906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– January 7, 1998) born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 in Sarajevo in the province of Bosnia, which then belonged to the Austrian-Hungarian Monarchy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, was a renowned Bosnian Croat chemist who worked in Prague, Zagreb and Zurich and won the Nobel Prize in chemistry (197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46840" y="1828800"/>
            <a:ext cx="30704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Innovation Potenti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>
            <a:lum bright="78000"/>
          </a:blip>
          <a:stretch/>
        </p:blipFill>
        <p:spPr>
          <a:xfrm>
            <a:off x="3733920" y="1828800"/>
            <a:ext cx="6095880" cy="4900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>
            <a:lum bright="72000"/>
          </a:blip>
          <a:stretch/>
        </p:blipFill>
        <p:spPr>
          <a:xfrm>
            <a:off x="7655040" y="1828800"/>
            <a:ext cx="2262240" cy="3200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>
            <a:lum bright="78000"/>
          </a:blip>
          <a:stretch/>
        </p:blipFill>
        <p:spPr>
          <a:xfrm>
            <a:off x="6846840" y="1828800"/>
            <a:ext cx="3070440" cy="4343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5334120" y="18288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14280" y="2057400"/>
            <a:ext cx="5629320" cy="16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Laura Mersini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is a theoretical physicist-cosmologist, currently at the University of North Carolina Chapel Hill. She received her undergraduate degree from the University of Tirana in her native Alba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49880" y="5703840"/>
            <a:ext cx="55285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Arial"/>
              </a:rPr>
              <a:t>Human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Innovation Potenti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1947960"/>
            <a:ext cx="48006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ＭＳ 明朝"/>
              </a:rPr>
              <a:t>Figure 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明朝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ＭＳ 明朝"/>
              </a:rPr>
              <a:t>The major building blocks of a system of inno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5515200" cy="3267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04920" y="5638680"/>
            <a:ext cx="48006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明朝"/>
              </a:rPr>
              <a:t>Source: OEC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934320" y="4191120"/>
            <a:ext cx="19144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Innovation Potenti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3749" t="17970" r="20625" b="13363"/>
          <a:stretch/>
        </p:blipFill>
        <p:spPr>
          <a:xfrm>
            <a:off x="228600" y="1693800"/>
            <a:ext cx="5715000" cy="478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04920" y="6396120"/>
            <a:ext cx="48006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明朝"/>
              </a:rPr>
              <a:t>Source: Gesellschaft zur Förderung der Forschung (2006): Research and Development in South East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Innovation Potenti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>
            <a:lum bright="90000"/>
          </a:blip>
          <a:srcRect l="13749" t="17970" r="20625" b="13363"/>
          <a:stretch/>
        </p:blipFill>
        <p:spPr>
          <a:xfrm>
            <a:off x="228600" y="1693800"/>
            <a:ext cx="5715000" cy="4783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>
            <a:grayscl/>
          </a:blip>
          <a:srcRect l="2276" t="30470" r="1686" b="26564"/>
          <a:stretch/>
        </p:blipFill>
        <p:spPr>
          <a:xfrm>
            <a:off x="304920" y="3124080"/>
            <a:ext cx="9601200" cy="3436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419440" y="1981080"/>
            <a:ext cx="44755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Arial"/>
              </a:rPr>
              <a:t>Financial Inpu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6396120"/>
            <a:ext cx="48006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明朝"/>
              </a:rPr>
              <a:t>Source: OEC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Innovation Potenti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23752" t="14844" r="20625" b="17188"/>
          <a:stretch/>
        </p:blipFill>
        <p:spPr>
          <a:xfrm>
            <a:off x="228600" y="1295280"/>
            <a:ext cx="5181480" cy="5064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769360" y="1981080"/>
            <a:ext cx="42055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Arial"/>
              </a:rPr>
              <a:t>Patent Outpu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6396120"/>
            <a:ext cx="48006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明朝"/>
              </a:rPr>
              <a:t>Source: Gesellschaft zur Förderung der Forschung (2006): Research and Development in South East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vor Kozmus</cp:lastModifiedBy>
  <dcterms:modified xsi:type="dcterms:W3CDTF">2006-09-28T11:14:47Z</dcterms:modified>
  <cp:revision>25</cp:revision>
  <dc:subject/>
  <dc:title>Titelseite mit Thema: SEE-Science.e</dc:title>
</cp:coreProperties>
</file>