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54F-B527-4D78-A477-6E0F4F1D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430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54E-484A-4B4F-AB12-3912EC35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430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56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66D-3CB0-4F4A-A265-BEA41CE4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710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86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430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710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986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726-4617-4EC7-A3B3-03BB0249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42A-308F-4D36-98DA-A086EBE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F9B-B61D-4C1B-83B8-2531EFAC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33E-F92F-40AB-89C2-F7EB3713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F55-4A4F-46C0-99FF-E2A2429B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1744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22C-FF9D-45E6-9B65-CADF6B8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E1C-54E0-49EA-B88B-9F82CC3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56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0E9-D608-4A7E-B24D-FFD754B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C92-E7A0-45D5-9FB0-2ADBFB8D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10628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027F-2B49-457D-B774-97B1A9756C76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5445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97392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2BA-4199-473F-B0AD-6A717CF37D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2523960" y="3514680"/>
            <a:ext cx="5867280" cy="81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Republic of Slov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ff"/>
                </a:solidFill>
                <a:latin typeface="Arial"/>
              </a:rPr>
              <a:t>Ministry  of Higher Education, Science and Techn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0800" cy="1015920"/>
          </a:xfrm>
          <a:prstGeom prst="rect">
            <a:avLst/>
          </a:prstGeom>
          <a:ln w="0">
            <a:noFill/>
          </a:ln>
        </p:spPr>
      </p:pic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6643800" y="6267600"/>
            <a:ext cx="233352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4720" y="2247840"/>
            <a:ext cx="827892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Arial"/>
              </a:rPr>
              <a:t>R&amp;D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Needs Analysis </a:t>
            </a:r>
            <a:r>
              <a:rPr b="0" lang="sl-SI" sz="3200" spc="-1" strike="noStrike">
                <a:solidFill>
                  <a:srgbClr val="ff9900"/>
                </a:solidFill>
                <a:latin typeface="Arial"/>
              </a:rPr>
              <a:t>of the </a:t>
            </a:r>
            <a:br>
              <a:rPr sz="3200"/>
            </a:br>
            <a:r>
              <a:rPr b="0" lang="sl-SI" sz="3200" spc="-1" strike="noStrike">
                <a:solidFill>
                  <a:srgbClr val="ff9900"/>
                </a:solidFill>
                <a:latin typeface="Arial"/>
              </a:rPr>
              <a:t>Western Balkan countri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6400" y="4460760"/>
            <a:ext cx="8067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Davor Kozmu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Ministry of Higher Education, Science and Technology, Slove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Ljubljana, 28 &amp; 29 September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9160" y="5994360"/>
            <a:ext cx="149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32960" y="6338880"/>
            <a:ext cx="1807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5400" y="218880"/>
            <a:ext cx="73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2200" y="1343160"/>
            <a:ext cx="7359480" cy="26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National fun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RTD in WBC i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l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otal of GDP(lowest BiH 0,05%, Macedonia 0,22%,Montenegro 0,3%, Serbia 0,32% and highest in Croatia 1,1%)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ing of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national strateg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favorable for RTD development and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stablishing of funding instrum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tate, private, international) grants, loans, tax redu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pecific Support A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W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U-CAR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gramme also for RTD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28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ONCLUSIONS – Where can EU help today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ce in the renewing of research equipment (technology transf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tom up” initiation and involvement in international projects (opening of Framework programmes, CAR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ing of National Contact Points (trai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building for policy makers (trai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 to E-network and scientific E-databases for researchers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, informatisation of librar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ANT, Web of Knowledge, Science Direct, GRID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, COBI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visas (mo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57320" y="339480"/>
            <a:ext cx="7332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bjectives of </a:t>
            </a:r>
            <a:r>
              <a:rPr b="0" lang="sl-SI" sz="2400" spc="-1" strike="noStrike">
                <a:solidFill>
                  <a:srgbClr val="ffcc66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1000" y="1485720"/>
            <a:ext cx="735984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bing National Systems of Research ( e.g. GERD - gross domestic expenditure on RTD, BERD – business expenditure on RTD, RTD-personnel by sectors and industries; productivity figures, PC and internet penetration) mapping of RTD stakeholders; </a:t>
            </a: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questionnaire for ministrie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gathering on Research priorities and programme management issues addressed in and by their national RTD programmes and funds as well as Bilateral Intergovernmental RTD Programmes; </a:t>
            </a: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questionnaire for ministrie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TD Cooperation Needs of the target Countries (Albania, BiH, Croatia, Macedonia, Montenegro and Serbia); </a:t>
            </a: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interviews with government representatives and researchers, survey among research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arget countrie</a:t>
            </a:r>
            <a:r>
              <a:rPr b="0" lang="sl-SI" sz="2400" spc="-1" strike="noStrike">
                <a:solidFill>
                  <a:srgbClr val="ffcc66"/>
                </a:solidFill>
                <a:latin typeface="Arial"/>
              </a:rPr>
              <a:t>s – WBC countrie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5040" y="1824120"/>
            <a:ext cx="405108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4880" y="2990520"/>
            <a:ext cx="733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urpose of gathering dat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520" y="3889440"/>
            <a:ext cx="7359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to identify priority issues in RTD of W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in identifying approaches to joint initi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at preparing web-based communication, E-database and RTD information of WB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7760" y="1695600"/>
            <a:ext cx="73598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Presentation and discussion with researchers and government representatives (workshops in WB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mall survey among the present researchers at the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61920" y="406440"/>
            <a:ext cx="733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Arial"/>
              </a:rPr>
              <a:t>Data collec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842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tructure of </a:t>
            </a:r>
            <a:r>
              <a:rPr b="0" lang="sl-SI" sz="2400" spc="-1" strike="noStrike">
                <a:solidFill>
                  <a:srgbClr val="ffcc66"/>
                </a:solidFill>
                <a:latin typeface="Arial"/>
              </a:rPr>
              <a:t>the study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(Needs Analysis Report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7600" y="1609560"/>
            <a:ext cx="70297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egories of the observation in the Needs analysis rep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grouped needs, suggestions and observations that we got with the interviews into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ategories. This categories are in accordance with categorization that is also used in EU documents “EU – Balkan countries Action Plan in S&amp;T” (Thesaloniki, 2003), “Shared Vision” and “Action Plan” (Brussels 200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1eb9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1.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2. HUMAN POT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3. INSTITUTION BUILDING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4. JOINT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5. FU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0" y="637920"/>
            <a:ext cx="733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28600" y="1031760"/>
            <a:ext cx="9144000" cy="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28600" y="1504800"/>
            <a:ext cx="9144000" cy="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790640"/>
            <a:ext cx="7359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Modernizing the equip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borat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of new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echnology and innovation p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national/regional level), new research capacities in mi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quipment of librar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books, scientific journals, informatization of librarires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– COBISS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cc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uropean multi-gigabit computer networ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ccess</a:t>
            </a: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 E-data bases and scientific E-journ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eb of Knowledge, Science direct, ISI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7240" y="628200"/>
            <a:ext cx="73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UMAN POTENTIA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1790640"/>
            <a:ext cx="7359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ing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brain dr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brain waste (connected with other problems: infrastructure, funding, mobility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Mo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grammes for researchers and profess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international and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regional collabo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researchers from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Business se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es not have the capacities to employ researchers (almost no research is done in private s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Visa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57320" y="676080"/>
            <a:ext cx="733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STITUTION BUILDING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2209320"/>
            <a:ext cx="735948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and defined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National Strategy for RT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mi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a national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trategy to attract the SME’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the research field 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aspect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building the network of</a:t>
            </a: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NCP’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through the project called ERA WEST BALK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240" y="828360"/>
            <a:ext cx="73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JOINT RESEARCH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2209320"/>
            <a:ext cx="735948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Low participation in EU Framework program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ing of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ndust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private sector at national and regional level for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joint collaboration with sci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ME’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Creation of international and regional netwo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8:39:48Z</dcterms:created>
  <dc:creator/>
  <dc:description/>
  <cp:keywords/>
  <dc:language>en-US</dc:language>
  <cp:lastModifiedBy>Davor Kozmus</cp:lastModifiedBy>
  <dcterms:modified xsi:type="dcterms:W3CDTF">2006-09-27T09:57:13Z</dcterms:modified>
  <cp:revision>104</cp:revision>
  <dc:subject/>
  <dc:title>See-Era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8044080</vt:r8>
  </property>
  <property fmtid="{D5CDD505-2E9C-101B-9397-08002B2CF9AE}" pid="3" name="_AuthorEmail">
    <vt:lpwstr>Stephan.Neuhaeuser@bmbwk.gv.at</vt:lpwstr>
  </property>
  <property fmtid="{D5CDD505-2E9C-101B-9397-08002B2CF9AE}" pid="4" name="_AuthorEmailDisplayName">
    <vt:lpwstr>Neuhäuser Stephan</vt:lpwstr>
  </property>
  <property fmtid="{D5CDD505-2E9C-101B-9397-08002B2CF9AE}" pid="5" name="_EmailSubject">
    <vt:lpwstr>WG: [Fwd: [See-era-talk] SWOT &amp; other things]</vt:lpwstr>
  </property>
  <property fmtid="{D5CDD505-2E9C-101B-9397-08002B2CF9AE}" pid="6" name="_ReviewingToolsShownOnce">
    <vt:lpwstr/>
  </property>
</Properties>
</file>