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5CAF-4E48-4066-A27F-454FAA1D9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EF90-2732-41B1-B6AA-1652CA95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40433-E89E-4FBE-8AE2-EFD7A9A27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C6A5B-C3C8-4D1F-853F-6E5DB0DF2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6D14B-D6A3-458B-ABBC-7353F8A8A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ADDE8-BD12-4081-A2FA-C1D2986C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D6BA6-8ACA-4665-8F6D-41812657C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8B959-8937-4A18-B151-1E62D7737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16EBA-3A2F-46B2-8F05-2834924DE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710AF-83AC-49BD-B98E-8FFD76E09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13631-B04A-4844-8DAF-28EDEBF2E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F1AE-6F02-43AE-8E37-57465CB6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3055A-21D0-425B-9EE1-24E793E92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955F6-E608-49D6-A0E0-82D66675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B965C-2136-4EDA-9202-9DA38688C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438F9-5659-440D-A50B-5114C5822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323F1-21A1-4F91-801B-16E76017A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66A8-E2C4-4E09-B6C1-6AA45ADF6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4199-74F4-4389-94B8-504001AD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DEFB-DEC5-498E-A835-435694AC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8F92-093B-4F10-B1C6-77B19699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09ED6-D0D7-4E22-A62C-C93044D4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DBDD0-A8EA-4248-B293-4568140B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2898-1ED4-4953-92A2-A96907421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EADB-DE38-4E50-A50E-03799EBC49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AF51-090D-4F64-9DE1-011C0811CE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19807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IENCE AND RESEARCH IN ALBANIA</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UARD SULSTAROVA</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RAL SCIENTIFIC SECRETARY, ALBANIAN ACADEMY </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 SCIENC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4" name=""/>
          <p:cNvSpPr/>
          <p:nvPr/>
        </p:nvSpPr>
        <p:spPr>
          <a:xfrm>
            <a:off x="685800" y="533520"/>
            <a:ext cx="7924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TIONAL CONFERENCE WHY INVEST IN SCIENCE IN SOUTH EASTERN EURO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29 SEPTEMBER 2006, Ljubljana, SLOVENIA</a:t>
            </a:r>
            <a:endParaRPr b="0" lang="en-US" sz="1400" spc="-1" strike="noStrike">
              <a:solidFill>
                <a:srgbClr val="ffffff"/>
              </a:solidFill>
              <a:latin typeface="Arial"/>
            </a:endParaRPr>
          </a:p>
        </p:txBody>
      </p:sp>
      <p:sp>
        <p:nvSpPr>
          <p:cNvPr id="4" name="PlaceHolder 3"/>
          <p:cNvSpPr>
            <a:spLocks noGrp="1"/>
          </p:cNvSpPr>
          <p:nvPr>
            <p:ph type="sldNum" idx="6"/>
          </p:nvPr>
        </p:nvSpPr>
        <p:spPr/>
        <p:txBody>
          <a:bodyPr/>
          <a:p>
            <a:fld id="{F20F19A7-A032-4ADD-9BE1-7A6DB3E853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 name=""/>
          <p:cNvGrpSpPr/>
          <p:nvPr/>
        </p:nvGrpSpPr>
        <p:grpSpPr>
          <a:xfrm>
            <a:off x="309600" y="1066680"/>
            <a:ext cx="7991280" cy="5178600"/>
            <a:chOff x="309600" y="1066680"/>
            <a:chExt cx="7991280" cy="5178600"/>
          </a:xfrm>
        </p:grpSpPr>
        <p:sp>
          <p:nvSpPr>
            <p:cNvPr id="106" name=""/>
            <p:cNvSpPr/>
            <p:nvPr/>
          </p:nvSpPr>
          <p:spPr>
            <a:xfrm>
              <a:off x="1950120" y="1066680"/>
              <a:ext cx="1762560" cy="399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dministrative</a:t>
              </a:r>
              <a:r>
                <a:rPr b="0" lang="en-US" sz="1200" spc="-1" strike="noStrike">
                  <a:solidFill>
                    <a:srgbClr val="ffffff"/>
                  </a:solidFill>
                  <a:latin typeface="Arial"/>
                </a:rPr>
                <a:t> </a:t>
              </a:r>
              <a:r>
                <a:rPr b="0" lang="en-US" sz="1200" spc="-1" strike="noStrike">
                  <a:solidFill>
                    <a:srgbClr val="4d4d4d"/>
                  </a:solidFill>
                  <a:latin typeface="Arial"/>
                </a:rPr>
                <a:t>bodies</a:t>
              </a:r>
              <a:endParaRPr b="0" lang="en-US" sz="1200" spc="-1" strike="noStrike">
                <a:solidFill>
                  <a:srgbClr val="ffffff"/>
                </a:solidFill>
                <a:latin typeface="Arial"/>
              </a:endParaRPr>
            </a:p>
          </p:txBody>
        </p:sp>
        <p:sp>
          <p:nvSpPr>
            <p:cNvPr id="107" name=""/>
            <p:cNvSpPr/>
            <p:nvPr/>
          </p:nvSpPr>
          <p:spPr>
            <a:xfrm>
              <a:off x="309600" y="1072440"/>
              <a:ext cx="1644840" cy="399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litical</a:t>
              </a:r>
              <a:r>
                <a:rPr b="0" lang="en-US" sz="1200" spc="-1" strike="noStrike">
                  <a:solidFill>
                    <a:srgbClr val="ffffff"/>
                  </a:solidFill>
                  <a:latin typeface="Arial"/>
                </a:rPr>
                <a:t> </a:t>
              </a:r>
              <a:r>
                <a:rPr b="0" lang="en-US" sz="1200" spc="-1" strike="noStrike">
                  <a:solidFill>
                    <a:srgbClr val="4d4d4d"/>
                  </a:solidFill>
                  <a:latin typeface="Arial"/>
                </a:rPr>
                <a:t>authorities</a:t>
              </a:r>
              <a:endParaRPr b="0" lang="en-US" sz="1200" spc="-1" strike="noStrike">
                <a:solidFill>
                  <a:srgbClr val="ffffff"/>
                </a:solidFill>
                <a:latin typeface="Arial"/>
              </a:endParaRPr>
            </a:p>
          </p:txBody>
        </p:sp>
        <p:sp>
          <p:nvSpPr>
            <p:cNvPr id="108" name=""/>
            <p:cNvSpPr/>
            <p:nvPr/>
          </p:nvSpPr>
          <p:spPr>
            <a:xfrm>
              <a:off x="3712680" y="1066680"/>
              <a:ext cx="2700720" cy="39967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Intermediary Organizations &amp; Funding agencies</a:t>
              </a:r>
              <a:endParaRPr b="0" lang="en-US" sz="800" spc="-1" strike="noStrike">
                <a:solidFill>
                  <a:srgbClr val="ffffff"/>
                </a:solidFill>
                <a:latin typeface="Arial"/>
              </a:endParaRPr>
            </a:p>
          </p:txBody>
        </p:sp>
        <p:sp>
          <p:nvSpPr>
            <p:cNvPr id="109" name=""/>
            <p:cNvSpPr/>
            <p:nvPr/>
          </p:nvSpPr>
          <p:spPr>
            <a:xfrm>
              <a:off x="544680" y="1896120"/>
              <a:ext cx="1057320" cy="58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rliament</a:t>
              </a:r>
              <a:endParaRPr b="0" lang="en-US" sz="1200" spc="-1" strike="noStrike">
                <a:solidFill>
                  <a:srgbClr val="ffffff"/>
                </a:solidFill>
                <a:latin typeface="Arial"/>
              </a:endParaRPr>
            </a:p>
          </p:txBody>
        </p:sp>
        <p:sp>
          <p:nvSpPr>
            <p:cNvPr id="110" name=""/>
            <p:cNvSpPr/>
            <p:nvPr/>
          </p:nvSpPr>
          <p:spPr>
            <a:xfrm>
              <a:off x="2307240" y="1778040"/>
              <a:ext cx="117504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Government</a:t>
              </a:r>
              <a:endParaRPr b="0" lang="en-US" sz="1200" spc="-1" strike="noStrike">
                <a:solidFill>
                  <a:srgbClr val="ffffff"/>
                </a:solidFill>
                <a:latin typeface="Arial"/>
              </a:endParaRPr>
            </a:p>
          </p:txBody>
        </p:sp>
        <p:sp>
          <p:nvSpPr>
            <p:cNvPr id="111" name=""/>
            <p:cNvSpPr/>
            <p:nvPr/>
          </p:nvSpPr>
          <p:spPr>
            <a:xfrm>
              <a:off x="2189880" y="3189240"/>
              <a:ext cx="1410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inistry of Education &amp; Science</a:t>
              </a:r>
              <a:endParaRPr b="0" lang="en-US" sz="1000" spc="-1" strike="noStrike">
                <a:solidFill>
                  <a:srgbClr val="ffffff"/>
                </a:solidFill>
                <a:latin typeface="Arial"/>
              </a:endParaRPr>
            </a:p>
          </p:txBody>
        </p:sp>
        <p:sp>
          <p:nvSpPr>
            <p:cNvPr id="112" name=""/>
            <p:cNvSpPr/>
            <p:nvPr/>
          </p:nvSpPr>
          <p:spPr>
            <a:xfrm>
              <a:off x="2307240" y="4011840"/>
              <a:ext cx="1175040" cy="47016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420600" y="1072440"/>
              <a:ext cx="1880280" cy="51728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ç</a:t>
              </a:r>
              <a:endParaRPr b="0" lang="en-US" sz="1200" spc="-1" strike="noStrike">
                <a:solidFill>
                  <a:srgbClr val="ffffff"/>
                </a:solidFill>
                <a:latin typeface="Arial"/>
              </a:endParaRPr>
            </a:p>
          </p:txBody>
        </p:sp>
        <p:sp>
          <p:nvSpPr>
            <p:cNvPr id="114" name=""/>
            <p:cNvSpPr/>
            <p:nvPr/>
          </p:nvSpPr>
          <p:spPr>
            <a:xfrm>
              <a:off x="6890760" y="1425600"/>
              <a:ext cx="939960" cy="58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3 National univers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8 Faculties</a:t>
              </a:r>
              <a:endParaRPr b="0" lang="en-US" sz="800" spc="-1" strike="noStrike">
                <a:solidFill>
                  <a:srgbClr val="ffffff"/>
                </a:solidFill>
                <a:latin typeface="Arial"/>
              </a:endParaRPr>
            </a:p>
          </p:txBody>
        </p:sp>
        <p:sp>
          <p:nvSpPr>
            <p:cNvPr id="115" name=""/>
            <p:cNvSpPr/>
            <p:nvPr/>
          </p:nvSpPr>
          <p:spPr>
            <a:xfrm>
              <a:off x="3978720" y="142560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Hydrocarbures</a:t>
              </a:r>
              <a:endParaRPr b="0" lang="en-US" sz="800" spc="-1" strike="noStrike">
                <a:solidFill>
                  <a:srgbClr val="ffffff"/>
                </a:solidFill>
                <a:latin typeface="Arial"/>
              </a:endParaRPr>
            </a:p>
          </p:txBody>
        </p:sp>
        <p:sp>
          <p:nvSpPr>
            <p:cNvPr id="116" name=""/>
            <p:cNvSpPr/>
            <p:nvPr/>
          </p:nvSpPr>
          <p:spPr>
            <a:xfrm>
              <a:off x="3978720" y="201312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Incubators</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f Agricultural Technology</a:t>
              </a:r>
              <a:endParaRPr b="0" lang="en-US" sz="900" spc="-1" strike="noStrike">
                <a:solidFill>
                  <a:srgbClr val="ffffff"/>
                </a:solidFill>
                <a:latin typeface="Arial"/>
              </a:endParaRPr>
            </a:p>
          </p:txBody>
        </p:sp>
        <p:sp>
          <p:nvSpPr>
            <p:cNvPr id="117" name=""/>
            <p:cNvSpPr/>
            <p:nvPr/>
          </p:nvSpPr>
          <p:spPr>
            <a:xfrm>
              <a:off x="3978720" y="3070800"/>
              <a:ext cx="114912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Centre for Efficiency Energy</a:t>
              </a:r>
              <a:endParaRPr b="0" lang="en-US" sz="800" spc="-1" strike="noStrike">
                <a:solidFill>
                  <a:srgbClr val="ffffff"/>
                </a:solidFill>
                <a:latin typeface="Arial"/>
              </a:endParaRPr>
            </a:p>
          </p:txBody>
        </p:sp>
        <p:sp>
          <p:nvSpPr>
            <p:cNvPr id="118" name=""/>
            <p:cNvSpPr/>
            <p:nvPr/>
          </p:nvSpPr>
          <p:spPr>
            <a:xfrm>
              <a:off x="3978720" y="354132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Accreditation of High Education</a:t>
              </a:r>
              <a:endParaRPr b="0" lang="en-US" sz="800" spc="-1" strike="noStrike">
                <a:solidFill>
                  <a:srgbClr val="ffffff"/>
                </a:solidFill>
                <a:latin typeface="Arial"/>
              </a:endParaRPr>
            </a:p>
          </p:txBody>
        </p:sp>
        <p:sp>
          <p:nvSpPr>
            <p:cNvPr id="119" name=""/>
            <p:cNvSpPr/>
            <p:nvPr/>
          </p:nvSpPr>
          <p:spPr>
            <a:xfrm>
              <a:off x="5164200" y="1425600"/>
              <a:ext cx="1020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General Directorate of Standards</a:t>
              </a:r>
              <a:endParaRPr b="0" lang="en-US" sz="800" spc="-1" strike="noStrike">
                <a:solidFill>
                  <a:srgbClr val="ffffff"/>
                </a:solidFill>
                <a:latin typeface="Arial"/>
              </a:endParaRPr>
            </a:p>
          </p:txBody>
        </p:sp>
        <p:sp>
          <p:nvSpPr>
            <p:cNvPr id="120" name=""/>
            <p:cNvSpPr/>
            <p:nvPr/>
          </p:nvSpPr>
          <p:spPr>
            <a:xfrm>
              <a:off x="5164200" y="2013120"/>
              <a:ext cx="1020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Directorate of the Marks &amp; Patents</a:t>
              </a:r>
              <a:endParaRPr b="0" lang="en-US" sz="900" spc="-1" strike="noStrike">
                <a:solidFill>
                  <a:srgbClr val="ffffff"/>
                </a:solidFill>
                <a:latin typeface="Arial"/>
              </a:endParaRPr>
            </a:p>
          </p:txBody>
        </p:sp>
        <p:sp>
          <p:nvSpPr>
            <p:cNvPr id="121" name=""/>
            <p:cNvSpPr/>
            <p:nvPr/>
          </p:nvSpPr>
          <p:spPr>
            <a:xfrm>
              <a:off x="5164200" y="2601720"/>
              <a:ext cx="1020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Office of Author Rights</a:t>
              </a:r>
              <a:endParaRPr b="0" lang="en-US" sz="800" spc="-1" strike="noStrike">
                <a:solidFill>
                  <a:srgbClr val="ffffff"/>
                </a:solidFill>
                <a:latin typeface="Arial"/>
              </a:endParaRPr>
            </a:p>
          </p:txBody>
        </p:sp>
        <p:sp>
          <p:nvSpPr>
            <p:cNvPr id="122" name=""/>
            <p:cNvSpPr/>
            <p:nvPr/>
          </p:nvSpPr>
          <p:spPr>
            <a:xfrm>
              <a:off x="5198400" y="3541320"/>
              <a:ext cx="939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hamber of Commerce &amp; Industry</a:t>
              </a:r>
              <a:endParaRPr b="0" lang="en-US" sz="900" spc="-1" strike="noStrike">
                <a:solidFill>
                  <a:srgbClr val="ffffff"/>
                </a:solidFill>
                <a:latin typeface="Arial"/>
              </a:endParaRPr>
            </a:p>
          </p:txBody>
        </p:sp>
        <p:sp>
          <p:nvSpPr>
            <p:cNvPr id="123" name=""/>
            <p:cNvSpPr/>
            <p:nvPr/>
          </p:nvSpPr>
          <p:spPr>
            <a:xfrm>
              <a:off x="3835080" y="4128840"/>
              <a:ext cx="2467800" cy="70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Foreign Agencies for support of Technological &amp; Economical Development: UNDP, World Bank, USAID, UNESCO, UNICEF, WHO, GTZ,……</a:t>
              </a:r>
              <a:endParaRPr b="0" lang="en-US" sz="800" spc="-1" strike="noStrike">
                <a:solidFill>
                  <a:srgbClr val="ffffff"/>
                </a:solidFill>
                <a:latin typeface="Arial"/>
              </a:endParaRPr>
            </a:p>
          </p:txBody>
        </p:sp>
        <p:sp>
          <p:nvSpPr>
            <p:cNvPr id="124" name=""/>
            <p:cNvSpPr/>
            <p:nvPr/>
          </p:nvSpPr>
          <p:spPr>
            <a:xfrm>
              <a:off x="3978720" y="2601720"/>
              <a:ext cx="114912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Calibration</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5" name=""/>
            <p:cNvSpPr/>
            <p:nvPr/>
          </p:nvSpPr>
          <p:spPr>
            <a:xfrm>
              <a:off x="2307240" y="2366640"/>
              <a:ext cx="1175040" cy="70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ncil of Scientific Policy and </a:t>
              </a:r>
              <a:r>
                <a:rPr b="0" lang="en-US" sz="1100" spc="-1" strike="noStrike">
                  <a:solidFill>
                    <a:srgbClr val="000000"/>
                  </a:solidFill>
                  <a:latin typeface="Arial"/>
                </a:rPr>
                <a:t>Technology Development</a:t>
              </a:r>
              <a:endParaRPr b="0" lang="en-US" sz="1100" spc="-1" strike="noStrike">
                <a:solidFill>
                  <a:srgbClr val="ffffff"/>
                </a:solidFill>
                <a:latin typeface="Arial"/>
              </a:endParaRPr>
            </a:p>
          </p:txBody>
        </p:sp>
        <p:sp>
          <p:nvSpPr>
            <p:cNvPr id="126" name=""/>
            <p:cNvSpPr/>
            <p:nvPr/>
          </p:nvSpPr>
          <p:spPr>
            <a:xfrm>
              <a:off x="6890760" y="2131200"/>
              <a:ext cx="939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cademy of Scienc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4 institutes</a:t>
              </a:r>
              <a:endParaRPr b="0" lang="en-US" sz="800" spc="-1" strike="noStrike">
                <a:solidFill>
                  <a:srgbClr val="ffffff"/>
                </a:solidFill>
                <a:latin typeface="Arial"/>
              </a:endParaRPr>
            </a:p>
          </p:txBody>
        </p:sp>
        <p:sp>
          <p:nvSpPr>
            <p:cNvPr id="127" name=""/>
            <p:cNvSpPr/>
            <p:nvPr/>
          </p:nvSpPr>
          <p:spPr>
            <a:xfrm>
              <a:off x="6890760" y="2718720"/>
              <a:ext cx="9399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Ministerial R&amp;D institutes: 24</a:t>
              </a:r>
              <a:endParaRPr b="0" lang="en-US" sz="800" spc="-1" strike="noStrike">
                <a:solidFill>
                  <a:srgbClr val="ffffff"/>
                </a:solidFill>
                <a:latin typeface="Arial"/>
              </a:endParaRPr>
            </a:p>
          </p:txBody>
        </p:sp>
        <p:sp>
          <p:nvSpPr>
            <p:cNvPr id="128" name=""/>
            <p:cNvSpPr/>
            <p:nvPr/>
          </p:nvSpPr>
          <p:spPr>
            <a:xfrm>
              <a:off x="6773040" y="3306240"/>
              <a:ext cx="117504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d4d4d"/>
                  </a:solidFill>
                  <a:latin typeface="Arial"/>
                </a:rPr>
                <a:t>Agricultural Experimental Research Centers</a:t>
              </a:r>
              <a:endParaRPr b="0" lang="en-US" sz="700" spc="-1" strike="noStrike">
                <a:solidFill>
                  <a:srgbClr val="ffffff"/>
                </a:solidFill>
                <a:latin typeface="Arial"/>
              </a:endParaRPr>
            </a:p>
          </p:txBody>
        </p:sp>
        <p:sp>
          <p:nvSpPr>
            <p:cNvPr id="129" name=""/>
            <p:cNvSpPr/>
            <p:nvPr/>
          </p:nvSpPr>
          <p:spPr>
            <a:xfrm>
              <a:off x="6537960" y="4717440"/>
              <a:ext cx="1645200" cy="10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d4d4d"/>
                  </a:solidFill>
                  <a:latin typeface="Arial"/>
                </a:rPr>
                <a:t>R&amp;D infrastructur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8 Internet Providers and Academic Network</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Gene Bank</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S&amp;T Libraries</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Scientific Natural Museum</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Botanic Park</a:t>
              </a:r>
              <a:endParaRPr b="0" lang="en-US" sz="800" spc="-1" strike="noStrike">
                <a:solidFill>
                  <a:srgbClr val="ffffff"/>
                </a:solidFill>
                <a:latin typeface="Arial"/>
              </a:endParaRPr>
            </a:p>
          </p:txBody>
        </p:sp>
        <p:sp>
          <p:nvSpPr>
            <p:cNvPr id="130" name=""/>
            <p:cNvSpPr/>
            <p:nvPr/>
          </p:nvSpPr>
          <p:spPr>
            <a:xfrm>
              <a:off x="5164200" y="3070800"/>
              <a:ext cx="1020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enter for the Energy</a:t>
              </a:r>
              <a:endParaRPr b="0" lang="en-US" sz="900" spc="-1" strike="noStrike">
                <a:solidFill>
                  <a:srgbClr val="ffffff"/>
                </a:solidFill>
                <a:latin typeface="Arial"/>
              </a:endParaRPr>
            </a:p>
          </p:txBody>
        </p:sp>
        <p:sp>
          <p:nvSpPr>
            <p:cNvPr id="131" name=""/>
            <p:cNvSpPr/>
            <p:nvPr/>
          </p:nvSpPr>
          <p:spPr>
            <a:xfrm>
              <a:off x="3247560" y="5304600"/>
              <a:ext cx="3173040" cy="940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ivate sector- R&amp;D Performers</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32" name=""/>
            <p:cNvSpPr/>
            <p:nvPr/>
          </p:nvSpPr>
          <p:spPr>
            <a:xfrm>
              <a:off x="3318120" y="5656680"/>
              <a:ext cx="93996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Multination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Companies</a:t>
              </a:r>
              <a:endParaRPr b="0" lang="en-US" sz="800" spc="-1" strike="noStrike">
                <a:solidFill>
                  <a:srgbClr val="ffffff"/>
                </a:solidFill>
                <a:latin typeface="Arial"/>
              </a:endParaRPr>
            </a:p>
          </p:txBody>
        </p:sp>
        <p:sp>
          <p:nvSpPr>
            <p:cNvPr id="133" name=""/>
            <p:cNvSpPr/>
            <p:nvPr/>
          </p:nvSpPr>
          <p:spPr>
            <a:xfrm>
              <a:off x="4258080" y="5656680"/>
              <a:ext cx="939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d4d4d"/>
                  </a:solidFill>
                  <a:latin typeface="Arial"/>
                </a:rPr>
                <a:t>Small &amp; Medium Enterprises</a:t>
              </a:r>
              <a:endParaRPr b="0" lang="en-US" sz="700" spc="-1" strike="noStrike">
                <a:solidFill>
                  <a:srgbClr val="ffffff"/>
                </a:solidFill>
                <a:latin typeface="Arial"/>
              </a:endParaRPr>
            </a:p>
          </p:txBody>
        </p:sp>
        <p:sp>
          <p:nvSpPr>
            <p:cNvPr id="134" name=""/>
            <p:cNvSpPr/>
            <p:nvPr/>
          </p:nvSpPr>
          <p:spPr>
            <a:xfrm>
              <a:off x="5315760" y="5656680"/>
              <a:ext cx="110448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0 private universities</a:t>
              </a:r>
              <a:endParaRPr b="0" lang="en-US" sz="800" spc="-1" strike="noStrike">
                <a:solidFill>
                  <a:srgbClr val="ffffff"/>
                </a:solidFill>
                <a:latin typeface="Arial"/>
              </a:endParaRPr>
            </a:p>
          </p:txBody>
        </p:sp>
      </p:grpSp>
      <p:sp>
        <p:nvSpPr>
          <p:cNvPr id="135" name=""/>
          <p:cNvSpPr/>
          <p:nvPr/>
        </p:nvSpPr>
        <p:spPr>
          <a:xfrm>
            <a:off x="533520" y="304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33520" y="4038480"/>
            <a:ext cx="10666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cadem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f Sciences</a:t>
            </a:r>
            <a:endParaRPr b="0" lang="en-US" sz="1200" spc="-1" strike="noStrike">
              <a:solidFill>
                <a:srgbClr val="ffffff"/>
              </a:solidFill>
              <a:latin typeface="Arial"/>
            </a:endParaRPr>
          </a:p>
        </p:txBody>
      </p:sp>
      <p:sp>
        <p:nvSpPr>
          <p:cNvPr id="137"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3" name="PlaceHolder 2"/>
          <p:cNvSpPr>
            <a:spLocks noGrp="1"/>
          </p:cNvSpPr>
          <p:nvPr>
            <p:ph type="sldNum" idx="3"/>
          </p:nvPr>
        </p:nvSpPr>
        <p:spPr/>
        <p:txBody>
          <a:bodyPr/>
          <a:p>
            <a:fld id="{B8D910F9-3E16-465D-B49F-00482F340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990360"/>
            <a:ext cx="8461440" cy="51814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Human Resourc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90 human resources in sciences and technology have drastically decreased.</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ous surveys show that during 1990-1999, approximately 40% of the professors and research scientists of the universities and science institutions in the country have emigrated. This exodus is growing and according to a  survey run in 1998  a  greater number of highly educated people want to emigrate. They are mainly young people who wish to emigrate for a long time or forever. It is clear that if the economic and social situation in the country does not improve, the Albanian brain drain will continue as intensively as befor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the continuous brain drain poses a severe threat to this system. Driving forces for the brain drain are found in the deteriorated economic living conditions, the lack of state – of – the – art infrastructure and funds that constitute serious obstacles for research. The restrictive visa regulations also hinder scientific exchange and temporary employment abroad.</a:t>
            </a: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of the highly educated people do return after their studies and others may also consider it. During this year the new government has planned many ways to provide the facilities to have the new situation changed into :  </a:t>
            </a:r>
            <a:r>
              <a:rPr b="0" lang="en-US" sz="1800" spc="-1" strike="noStrike" u="sng">
                <a:solidFill>
                  <a:srgbClr val="ffffff"/>
                </a:solidFill>
                <a:uFillTx/>
                <a:latin typeface="Arial"/>
              </a:rPr>
              <a:t>the brain gain.</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40" name=""/>
          <p:cNvSpPr/>
          <p:nvPr/>
        </p:nvSpPr>
        <p:spPr>
          <a:xfrm>
            <a:off x="76320" y="35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9953543-BC66-4A46-81FA-CA0555B0E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42" name="PlaceHolder 2"/>
          <p:cNvSpPr>
            <a:spLocks noGrp="1"/>
          </p:cNvSpPr>
          <p:nvPr>
            <p:ph/>
          </p:nvPr>
        </p:nvSpPr>
        <p:spPr>
          <a:xfrm>
            <a:off x="301680" y="1294920"/>
            <a:ext cx="854064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total 578 scientific workers in our country: 274 in Academy of Sciences and 304 in R &amp; D institutions of Ministries. The number of personnel in R &amp; D in Albania are about 0,2 for 1000 habitants.</a:t>
            </a:r>
            <a:endParaRPr b="0" lang="en-US" sz="1800" spc="-1" strike="noStrike">
              <a:solidFill>
                <a:srgbClr val="ffffff"/>
              </a:solidFill>
              <a:latin typeface="Arial"/>
            </a:endParaRPr>
          </a:p>
        </p:txBody>
      </p:sp>
      <p:sp>
        <p:nvSpPr>
          <p:cNvPr id="143" name=""/>
          <p:cNvSpPr/>
          <p:nvPr/>
        </p:nvSpPr>
        <p:spPr>
          <a:xfrm>
            <a:off x="838080" y="2743200"/>
            <a:ext cx="7162920" cy="36576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1680480" y="3419640"/>
            <a:ext cx="2426760" cy="2544840"/>
            <a:chOff x="1680480" y="3419640"/>
            <a:chExt cx="2426760" cy="2544840"/>
          </a:xfrm>
        </p:grpSpPr>
        <p:sp>
          <p:nvSpPr>
            <p:cNvPr id="145" name=""/>
            <p:cNvSpPr/>
            <p:nvPr/>
          </p:nvSpPr>
          <p:spPr>
            <a:xfrm>
              <a:off x="2864520" y="3827880"/>
              <a:ext cx="725040" cy="897840"/>
            </a:xfrm>
            <a:custGeom>
              <a:avLst/>
              <a:gdLst/>
              <a:ahLst/>
              <a:rect l="l" t="t" r="r" b="b"/>
              <a:pathLst>
                <a:path w="1045" h="1293">
                  <a:moveTo>
                    <a:pt x="0" y="0"/>
                  </a:moveTo>
                  <a:lnTo>
                    <a:pt x="0" y="0"/>
                  </a:lnTo>
                  <a:lnTo>
                    <a:pt x="23" y="0"/>
                  </a:lnTo>
                  <a:lnTo>
                    <a:pt x="23" y="0"/>
                  </a:lnTo>
                  <a:lnTo>
                    <a:pt x="23" y="0"/>
                  </a:lnTo>
                  <a:lnTo>
                    <a:pt x="46" y="0"/>
                  </a:lnTo>
                  <a:lnTo>
                    <a:pt x="46" y="0"/>
                  </a:lnTo>
                  <a:lnTo>
                    <a:pt x="46" y="0"/>
                  </a:lnTo>
                  <a:lnTo>
                    <a:pt x="69" y="0"/>
                  </a:lnTo>
                  <a:lnTo>
                    <a:pt x="69" y="0"/>
                  </a:lnTo>
                  <a:lnTo>
                    <a:pt x="69" y="0"/>
                  </a:lnTo>
                  <a:lnTo>
                    <a:pt x="89" y="3"/>
                  </a:lnTo>
                  <a:lnTo>
                    <a:pt x="89" y="3"/>
                  </a:lnTo>
                  <a:lnTo>
                    <a:pt x="89" y="3"/>
                  </a:lnTo>
                  <a:lnTo>
                    <a:pt x="111" y="3"/>
                  </a:lnTo>
                  <a:lnTo>
                    <a:pt x="111" y="3"/>
                  </a:lnTo>
                  <a:lnTo>
                    <a:pt x="111" y="3"/>
                  </a:lnTo>
                  <a:lnTo>
                    <a:pt x="134" y="6"/>
                  </a:lnTo>
                  <a:lnTo>
                    <a:pt x="134" y="6"/>
                  </a:lnTo>
                  <a:lnTo>
                    <a:pt x="134" y="6"/>
                  </a:lnTo>
                  <a:lnTo>
                    <a:pt x="157" y="8"/>
                  </a:lnTo>
                  <a:lnTo>
                    <a:pt x="157" y="8"/>
                  </a:lnTo>
                  <a:lnTo>
                    <a:pt x="157" y="8"/>
                  </a:lnTo>
                  <a:lnTo>
                    <a:pt x="180" y="11"/>
                  </a:lnTo>
                  <a:lnTo>
                    <a:pt x="180" y="11"/>
                  </a:lnTo>
                  <a:lnTo>
                    <a:pt x="180" y="11"/>
                  </a:lnTo>
                  <a:lnTo>
                    <a:pt x="202" y="14"/>
                  </a:lnTo>
                  <a:lnTo>
                    <a:pt x="202" y="14"/>
                  </a:lnTo>
                  <a:lnTo>
                    <a:pt x="202" y="14"/>
                  </a:lnTo>
                  <a:lnTo>
                    <a:pt x="225" y="20"/>
                  </a:lnTo>
                  <a:lnTo>
                    <a:pt x="225" y="20"/>
                  </a:lnTo>
                  <a:lnTo>
                    <a:pt x="225" y="20"/>
                  </a:lnTo>
                  <a:lnTo>
                    <a:pt x="245" y="23"/>
                  </a:lnTo>
                  <a:lnTo>
                    <a:pt x="245" y="23"/>
                  </a:lnTo>
                  <a:lnTo>
                    <a:pt x="245" y="23"/>
                  </a:lnTo>
                  <a:lnTo>
                    <a:pt x="268" y="28"/>
                  </a:lnTo>
                  <a:lnTo>
                    <a:pt x="268" y="28"/>
                  </a:lnTo>
                  <a:lnTo>
                    <a:pt x="268" y="28"/>
                  </a:lnTo>
                  <a:lnTo>
                    <a:pt x="291" y="31"/>
                  </a:lnTo>
                  <a:lnTo>
                    <a:pt x="291" y="31"/>
                  </a:lnTo>
                  <a:lnTo>
                    <a:pt x="291" y="31"/>
                  </a:lnTo>
                  <a:lnTo>
                    <a:pt x="313" y="37"/>
                  </a:lnTo>
                  <a:lnTo>
                    <a:pt x="313" y="37"/>
                  </a:lnTo>
                  <a:lnTo>
                    <a:pt x="313" y="37"/>
                  </a:lnTo>
                  <a:lnTo>
                    <a:pt x="333" y="43"/>
                  </a:lnTo>
                  <a:lnTo>
                    <a:pt x="333" y="43"/>
                  </a:lnTo>
                  <a:lnTo>
                    <a:pt x="333" y="43"/>
                  </a:lnTo>
                  <a:lnTo>
                    <a:pt x="356" y="48"/>
                  </a:lnTo>
                  <a:lnTo>
                    <a:pt x="356" y="48"/>
                  </a:lnTo>
                  <a:lnTo>
                    <a:pt x="356" y="48"/>
                  </a:lnTo>
                  <a:lnTo>
                    <a:pt x="376" y="57"/>
                  </a:lnTo>
                  <a:lnTo>
                    <a:pt x="376" y="57"/>
                  </a:lnTo>
                  <a:lnTo>
                    <a:pt x="376" y="57"/>
                  </a:lnTo>
                  <a:lnTo>
                    <a:pt x="399" y="62"/>
                  </a:lnTo>
                  <a:lnTo>
                    <a:pt x="399" y="62"/>
                  </a:lnTo>
                  <a:lnTo>
                    <a:pt x="399" y="62"/>
                  </a:lnTo>
                  <a:lnTo>
                    <a:pt x="422" y="68"/>
                  </a:lnTo>
                  <a:lnTo>
                    <a:pt x="422" y="68"/>
                  </a:lnTo>
                  <a:lnTo>
                    <a:pt x="422" y="68"/>
                  </a:lnTo>
                  <a:lnTo>
                    <a:pt x="442" y="77"/>
                  </a:lnTo>
                  <a:lnTo>
                    <a:pt x="442" y="77"/>
                  </a:lnTo>
                  <a:lnTo>
                    <a:pt x="442" y="77"/>
                  </a:lnTo>
                  <a:lnTo>
                    <a:pt x="462" y="85"/>
                  </a:lnTo>
                  <a:lnTo>
                    <a:pt x="462" y="85"/>
                  </a:lnTo>
                  <a:lnTo>
                    <a:pt x="462" y="85"/>
                  </a:lnTo>
                  <a:lnTo>
                    <a:pt x="484" y="94"/>
                  </a:lnTo>
                  <a:lnTo>
                    <a:pt x="484" y="94"/>
                  </a:lnTo>
                  <a:lnTo>
                    <a:pt x="484" y="94"/>
                  </a:lnTo>
                  <a:lnTo>
                    <a:pt x="504" y="102"/>
                  </a:lnTo>
                  <a:lnTo>
                    <a:pt x="504" y="102"/>
                  </a:lnTo>
                  <a:lnTo>
                    <a:pt x="504" y="102"/>
                  </a:lnTo>
                  <a:lnTo>
                    <a:pt x="524" y="111"/>
                  </a:lnTo>
                  <a:lnTo>
                    <a:pt x="524" y="111"/>
                  </a:lnTo>
                  <a:lnTo>
                    <a:pt x="524" y="111"/>
                  </a:lnTo>
                  <a:lnTo>
                    <a:pt x="547" y="119"/>
                  </a:lnTo>
                  <a:lnTo>
                    <a:pt x="547" y="119"/>
                  </a:lnTo>
                  <a:lnTo>
                    <a:pt x="547" y="119"/>
                  </a:lnTo>
                  <a:lnTo>
                    <a:pt x="567" y="131"/>
                  </a:lnTo>
                  <a:lnTo>
                    <a:pt x="567" y="131"/>
                  </a:lnTo>
                  <a:lnTo>
                    <a:pt x="567" y="131"/>
                  </a:lnTo>
                  <a:lnTo>
                    <a:pt x="587" y="139"/>
                  </a:lnTo>
                  <a:lnTo>
                    <a:pt x="587" y="139"/>
                  </a:lnTo>
                  <a:lnTo>
                    <a:pt x="587" y="139"/>
                  </a:lnTo>
                  <a:lnTo>
                    <a:pt x="607" y="151"/>
                  </a:lnTo>
                  <a:lnTo>
                    <a:pt x="607" y="151"/>
                  </a:lnTo>
                  <a:lnTo>
                    <a:pt x="607" y="151"/>
                  </a:lnTo>
                  <a:lnTo>
                    <a:pt x="627" y="162"/>
                  </a:lnTo>
                  <a:lnTo>
                    <a:pt x="627" y="162"/>
                  </a:lnTo>
                  <a:lnTo>
                    <a:pt x="627" y="162"/>
                  </a:lnTo>
                  <a:lnTo>
                    <a:pt x="647" y="174"/>
                  </a:lnTo>
                  <a:lnTo>
                    <a:pt x="647" y="174"/>
                  </a:lnTo>
                  <a:lnTo>
                    <a:pt x="647" y="174"/>
                  </a:lnTo>
                  <a:lnTo>
                    <a:pt x="666" y="185"/>
                  </a:lnTo>
                  <a:lnTo>
                    <a:pt x="666" y="185"/>
                  </a:lnTo>
                  <a:lnTo>
                    <a:pt x="666" y="185"/>
                  </a:lnTo>
                  <a:lnTo>
                    <a:pt x="684" y="196"/>
                  </a:lnTo>
                  <a:lnTo>
                    <a:pt x="684" y="196"/>
                  </a:lnTo>
                  <a:lnTo>
                    <a:pt x="684" y="196"/>
                  </a:lnTo>
                  <a:lnTo>
                    <a:pt x="703" y="208"/>
                  </a:lnTo>
                  <a:lnTo>
                    <a:pt x="703" y="208"/>
                  </a:lnTo>
                  <a:lnTo>
                    <a:pt x="703" y="208"/>
                  </a:lnTo>
                  <a:lnTo>
                    <a:pt x="723" y="219"/>
                  </a:lnTo>
                  <a:lnTo>
                    <a:pt x="723" y="219"/>
                  </a:lnTo>
                  <a:lnTo>
                    <a:pt x="723" y="219"/>
                  </a:lnTo>
                  <a:lnTo>
                    <a:pt x="740" y="233"/>
                  </a:lnTo>
                  <a:lnTo>
                    <a:pt x="740" y="233"/>
                  </a:lnTo>
                  <a:lnTo>
                    <a:pt x="740" y="233"/>
                  </a:lnTo>
                  <a:lnTo>
                    <a:pt x="760" y="245"/>
                  </a:lnTo>
                  <a:lnTo>
                    <a:pt x="760" y="245"/>
                  </a:lnTo>
                  <a:lnTo>
                    <a:pt x="760" y="245"/>
                  </a:lnTo>
                  <a:lnTo>
                    <a:pt x="778" y="259"/>
                  </a:lnTo>
                  <a:lnTo>
                    <a:pt x="778" y="259"/>
                  </a:lnTo>
                  <a:lnTo>
                    <a:pt x="778" y="259"/>
                  </a:lnTo>
                  <a:lnTo>
                    <a:pt x="795" y="273"/>
                  </a:lnTo>
                  <a:lnTo>
                    <a:pt x="795" y="273"/>
                  </a:lnTo>
                  <a:lnTo>
                    <a:pt x="795" y="273"/>
                  </a:lnTo>
                  <a:lnTo>
                    <a:pt x="812" y="288"/>
                  </a:lnTo>
                  <a:lnTo>
                    <a:pt x="812" y="288"/>
                  </a:lnTo>
                  <a:lnTo>
                    <a:pt x="812" y="288"/>
                  </a:lnTo>
                  <a:lnTo>
                    <a:pt x="832" y="302"/>
                  </a:lnTo>
                  <a:lnTo>
                    <a:pt x="832" y="302"/>
                  </a:lnTo>
                  <a:lnTo>
                    <a:pt x="832" y="302"/>
                  </a:lnTo>
                  <a:lnTo>
                    <a:pt x="849" y="316"/>
                  </a:lnTo>
                  <a:lnTo>
                    <a:pt x="849" y="316"/>
                  </a:lnTo>
                  <a:lnTo>
                    <a:pt x="849" y="316"/>
                  </a:lnTo>
                  <a:lnTo>
                    <a:pt x="866" y="330"/>
                  </a:lnTo>
                  <a:lnTo>
                    <a:pt x="866" y="330"/>
                  </a:lnTo>
                  <a:lnTo>
                    <a:pt x="866" y="330"/>
                  </a:lnTo>
                  <a:lnTo>
                    <a:pt x="880" y="347"/>
                  </a:lnTo>
                  <a:lnTo>
                    <a:pt x="880" y="347"/>
                  </a:lnTo>
                  <a:lnTo>
                    <a:pt x="880" y="347"/>
                  </a:lnTo>
                  <a:lnTo>
                    <a:pt x="897" y="362"/>
                  </a:lnTo>
                  <a:lnTo>
                    <a:pt x="897" y="362"/>
                  </a:lnTo>
                  <a:lnTo>
                    <a:pt x="897" y="362"/>
                  </a:lnTo>
                  <a:lnTo>
                    <a:pt x="914" y="379"/>
                  </a:lnTo>
                  <a:lnTo>
                    <a:pt x="914" y="379"/>
                  </a:lnTo>
                  <a:lnTo>
                    <a:pt x="914" y="379"/>
                  </a:lnTo>
                  <a:lnTo>
                    <a:pt x="928" y="393"/>
                  </a:lnTo>
                  <a:lnTo>
                    <a:pt x="928" y="393"/>
                  </a:lnTo>
                  <a:lnTo>
                    <a:pt x="928" y="393"/>
                  </a:lnTo>
                  <a:lnTo>
                    <a:pt x="945" y="410"/>
                  </a:lnTo>
                  <a:lnTo>
                    <a:pt x="945" y="410"/>
                  </a:lnTo>
                  <a:lnTo>
                    <a:pt x="945" y="410"/>
                  </a:lnTo>
                  <a:lnTo>
                    <a:pt x="960" y="427"/>
                  </a:lnTo>
                  <a:lnTo>
                    <a:pt x="960" y="427"/>
                  </a:lnTo>
                  <a:lnTo>
                    <a:pt x="960" y="427"/>
                  </a:lnTo>
                  <a:lnTo>
                    <a:pt x="974" y="444"/>
                  </a:lnTo>
                  <a:lnTo>
                    <a:pt x="974" y="444"/>
                  </a:lnTo>
                  <a:lnTo>
                    <a:pt x="974" y="444"/>
                  </a:lnTo>
                  <a:lnTo>
                    <a:pt x="991" y="461"/>
                  </a:lnTo>
                  <a:lnTo>
                    <a:pt x="991" y="461"/>
                  </a:lnTo>
                  <a:lnTo>
                    <a:pt x="991" y="461"/>
                  </a:lnTo>
                  <a:lnTo>
                    <a:pt x="1005" y="478"/>
                  </a:lnTo>
                  <a:lnTo>
                    <a:pt x="1005" y="478"/>
                  </a:lnTo>
                  <a:lnTo>
                    <a:pt x="1005" y="478"/>
                  </a:lnTo>
                  <a:lnTo>
                    <a:pt x="1019" y="496"/>
                  </a:lnTo>
                  <a:lnTo>
                    <a:pt x="1019" y="496"/>
                  </a:lnTo>
                  <a:lnTo>
                    <a:pt x="1019" y="496"/>
                  </a:lnTo>
                  <a:lnTo>
                    <a:pt x="1031" y="515"/>
                  </a:lnTo>
                  <a:lnTo>
                    <a:pt x="1031" y="515"/>
                  </a:lnTo>
                  <a:lnTo>
                    <a:pt x="1031" y="515"/>
                  </a:lnTo>
                  <a:lnTo>
                    <a:pt x="1045" y="533"/>
                  </a:lnTo>
                  <a:lnTo>
                    <a:pt x="1045" y="533"/>
                  </a:lnTo>
                  <a:lnTo>
                    <a:pt x="0" y="1293"/>
                  </a:lnTo>
                  <a:lnTo>
                    <a:pt x="0" y="0"/>
                  </a:lnTo>
                  <a:close/>
                </a:path>
              </a:pathLst>
            </a:custGeom>
            <a:solidFill>
              <a:srgbClr val="ff66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64520" y="4197960"/>
              <a:ext cx="897480" cy="1289160"/>
            </a:xfrm>
            <a:custGeom>
              <a:avLst/>
              <a:gdLst/>
              <a:ahLst/>
              <a:rect l="l" t="t" r="r" b="b"/>
              <a:pathLst>
                <a:path w="1293" h="1857">
                  <a:moveTo>
                    <a:pt x="1045" y="0"/>
                  </a:moveTo>
                  <a:lnTo>
                    <a:pt x="1045" y="0"/>
                  </a:lnTo>
                  <a:lnTo>
                    <a:pt x="1059" y="17"/>
                  </a:lnTo>
                  <a:lnTo>
                    <a:pt x="1059" y="17"/>
                  </a:lnTo>
                  <a:lnTo>
                    <a:pt x="1059" y="17"/>
                  </a:lnTo>
                  <a:lnTo>
                    <a:pt x="1071" y="37"/>
                  </a:lnTo>
                  <a:lnTo>
                    <a:pt x="1071" y="37"/>
                  </a:lnTo>
                  <a:lnTo>
                    <a:pt x="1071" y="37"/>
                  </a:lnTo>
                  <a:lnTo>
                    <a:pt x="1085" y="54"/>
                  </a:lnTo>
                  <a:lnTo>
                    <a:pt x="1085" y="54"/>
                  </a:lnTo>
                  <a:lnTo>
                    <a:pt x="1085" y="54"/>
                  </a:lnTo>
                  <a:lnTo>
                    <a:pt x="1096" y="74"/>
                  </a:lnTo>
                  <a:lnTo>
                    <a:pt x="1096" y="74"/>
                  </a:lnTo>
                  <a:lnTo>
                    <a:pt x="1096" y="74"/>
                  </a:lnTo>
                  <a:lnTo>
                    <a:pt x="1108" y="94"/>
                  </a:lnTo>
                  <a:lnTo>
                    <a:pt x="1108" y="94"/>
                  </a:lnTo>
                  <a:lnTo>
                    <a:pt x="1108" y="94"/>
                  </a:lnTo>
                  <a:lnTo>
                    <a:pt x="1119" y="114"/>
                  </a:lnTo>
                  <a:lnTo>
                    <a:pt x="1119" y="114"/>
                  </a:lnTo>
                  <a:lnTo>
                    <a:pt x="1119" y="114"/>
                  </a:lnTo>
                  <a:lnTo>
                    <a:pt x="1131" y="134"/>
                  </a:lnTo>
                  <a:lnTo>
                    <a:pt x="1131" y="134"/>
                  </a:lnTo>
                  <a:lnTo>
                    <a:pt x="1131" y="134"/>
                  </a:lnTo>
                  <a:lnTo>
                    <a:pt x="1142" y="153"/>
                  </a:lnTo>
                  <a:lnTo>
                    <a:pt x="1142" y="153"/>
                  </a:lnTo>
                  <a:lnTo>
                    <a:pt x="1142" y="153"/>
                  </a:lnTo>
                  <a:lnTo>
                    <a:pt x="1150" y="173"/>
                  </a:lnTo>
                  <a:lnTo>
                    <a:pt x="1150" y="173"/>
                  </a:lnTo>
                  <a:lnTo>
                    <a:pt x="1150" y="173"/>
                  </a:lnTo>
                  <a:lnTo>
                    <a:pt x="1162" y="193"/>
                  </a:lnTo>
                  <a:lnTo>
                    <a:pt x="1162" y="193"/>
                  </a:lnTo>
                  <a:lnTo>
                    <a:pt x="1162" y="193"/>
                  </a:lnTo>
                  <a:lnTo>
                    <a:pt x="1170" y="213"/>
                  </a:lnTo>
                  <a:lnTo>
                    <a:pt x="1170" y="213"/>
                  </a:lnTo>
                  <a:lnTo>
                    <a:pt x="1170" y="213"/>
                  </a:lnTo>
                  <a:lnTo>
                    <a:pt x="1179" y="233"/>
                  </a:lnTo>
                  <a:lnTo>
                    <a:pt x="1179" y="233"/>
                  </a:lnTo>
                  <a:lnTo>
                    <a:pt x="1179" y="233"/>
                  </a:lnTo>
                  <a:lnTo>
                    <a:pt x="1190" y="253"/>
                  </a:lnTo>
                  <a:lnTo>
                    <a:pt x="1190" y="253"/>
                  </a:lnTo>
                  <a:lnTo>
                    <a:pt x="1190" y="253"/>
                  </a:lnTo>
                  <a:lnTo>
                    <a:pt x="1199" y="276"/>
                  </a:lnTo>
                  <a:lnTo>
                    <a:pt x="1199" y="276"/>
                  </a:lnTo>
                  <a:lnTo>
                    <a:pt x="1199" y="276"/>
                  </a:lnTo>
                  <a:lnTo>
                    <a:pt x="1207" y="296"/>
                  </a:lnTo>
                  <a:lnTo>
                    <a:pt x="1207" y="296"/>
                  </a:lnTo>
                  <a:lnTo>
                    <a:pt x="1207" y="296"/>
                  </a:lnTo>
                  <a:lnTo>
                    <a:pt x="1213" y="316"/>
                  </a:lnTo>
                  <a:lnTo>
                    <a:pt x="1213" y="316"/>
                  </a:lnTo>
                  <a:lnTo>
                    <a:pt x="1213" y="316"/>
                  </a:lnTo>
                  <a:lnTo>
                    <a:pt x="1222" y="339"/>
                  </a:lnTo>
                  <a:lnTo>
                    <a:pt x="1222" y="339"/>
                  </a:lnTo>
                  <a:lnTo>
                    <a:pt x="1222" y="339"/>
                  </a:lnTo>
                  <a:lnTo>
                    <a:pt x="1230" y="359"/>
                  </a:lnTo>
                  <a:lnTo>
                    <a:pt x="1230" y="359"/>
                  </a:lnTo>
                  <a:lnTo>
                    <a:pt x="1230" y="359"/>
                  </a:lnTo>
                  <a:lnTo>
                    <a:pt x="1236" y="381"/>
                  </a:lnTo>
                  <a:lnTo>
                    <a:pt x="1236" y="381"/>
                  </a:lnTo>
                  <a:lnTo>
                    <a:pt x="1236" y="381"/>
                  </a:lnTo>
                  <a:lnTo>
                    <a:pt x="1242" y="404"/>
                  </a:lnTo>
                  <a:lnTo>
                    <a:pt x="1242" y="404"/>
                  </a:lnTo>
                  <a:lnTo>
                    <a:pt x="1242" y="404"/>
                  </a:lnTo>
                  <a:lnTo>
                    <a:pt x="1247" y="424"/>
                  </a:lnTo>
                  <a:lnTo>
                    <a:pt x="1247" y="424"/>
                  </a:lnTo>
                  <a:lnTo>
                    <a:pt x="1247" y="424"/>
                  </a:lnTo>
                  <a:lnTo>
                    <a:pt x="1253" y="447"/>
                  </a:lnTo>
                  <a:lnTo>
                    <a:pt x="1253" y="447"/>
                  </a:lnTo>
                  <a:lnTo>
                    <a:pt x="1253" y="447"/>
                  </a:lnTo>
                  <a:lnTo>
                    <a:pt x="1259" y="470"/>
                  </a:lnTo>
                  <a:lnTo>
                    <a:pt x="1259" y="470"/>
                  </a:lnTo>
                  <a:lnTo>
                    <a:pt x="1259" y="470"/>
                  </a:lnTo>
                  <a:lnTo>
                    <a:pt x="1264" y="490"/>
                  </a:lnTo>
                  <a:lnTo>
                    <a:pt x="1264" y="490"/>
                  </a:lnTo>
                  <a:lnTo>
                    <a:pt x="1264" y="490"/>
                  </a:lnTo>
                  <a:lnTo>
                    <a:pt x="1267" y="512"/>
                  </a:lnTo>
                  <a:lnTo>
                    <a:pt x="1267" y="512"/>
                  </a:lnTo>
                  <a:lnTo>
                    <a:pt x="1267" y="512"/>
                  </a:lnTo>
                  <a:lnTo>
                    <a:pt x="1273" y="535"/>
                  </a:lnTo>
                  <a:lnTo>
                    <a:pt x="1273" y="535"/>
                  </a:lnTo>
                  <a:lnTo>
                    <a:pt x="1273" y="535"/>
                  </a:lnTo>
                  <a:lnTo>
                    <a:pt x="1276" y="558"/>
                  </a:lnTo>
                  <a:lnTo>
                    <a:pt x="1276" y="558"/>
                  </a:lnTo>
                  <a:lnTo>
                    <a:pt x="1276" y="558"/>
                  </a:lnTo>
                  <a:lnTo>
                    <a:pt x="1279" y="581"/>
                  </a:lnTo>
                  <a:lnTo>
                    <a:pt x="1279" y="581"/>
                  </a:lnTo>
                  <a:lnTo>
                    <a:pt x="1279" y="581"/>
                  </a:lnTo>
                  <a:lnTo>
                    <a:pt x="1281" y="601"/>
                  </a:lnTo>
                  <a:lnTo>
                    <a:pt x="1281" y="601"/>
                  </a:lnTo>
                  <a:lnTo>
                    <a:pt x="1281" y="601"/>
                  </a:lnTo>
                  <a:lnTo>
                    <a:pt x="1284" y="624"/>
                  </a:lnTo>
                  <a:lnTo>
                    <a:pt x="1284" y="624"/>
                  </a:lnTo>
                  <a:lnTo>
                    <a:pt x="1284" y="624"/>
                  </a:lnTo>
                  <a:lnTo>
                    <a:pt x="1287" y="646"/>
                  </a:lnTo>
                  <a:lnTo>
                    <a:pt x="1287" y="646"/>
                  </a:lnTo>
                  <a:lnTo>
                    <a:pt x="1287" y="646"/>
                  </a:lnTo>
                  <a:lnTo>
                    <a:pt x="1290" y="669"/>
                  </a:lnTo>
                  <a:lnTo>
                    <a:pt x="1290" y="669"/>
                  </a:lnTo>
                  <a:lnTo>
                    <a:pt x="1290" y="669"/>
                  </a:lnTo>
                  <a:lnTo>
                    <a:pt x="1290" y="692"/>
                  </a:lnTo>
                  <a:lnTo>
                    <a:pt x="1290" y="692"/>
                  </a:lnTo>
                  <a:lnTo>
                    <a:pt x="1290" y="692"/>
                  </a:lnTo>
                  <a:lnTo>
                    <a:pt x="1290" y="715"/>
                  </a:lnTo>
                  <a:lnTo>
                    <a:pt x="1290" y="715"/>
                  </a:lnTo>
                  <a:lnTo>
                    <a:pt x="1290" y="715"/>
                  </a:lnTo>
                  <a:lnTo>
                    <a:pt x="1293" y="738"/>
                  </a:lnTo>
                  <a:lnTo>
                    <a:pt x="1293" y="738"/>
                  </a:lnTo>
                  <a:lnTo>
                    <a:pt x="1293" y="738"/>
                  </a:lnTo>
                  <a:lnTo>
                    <a:pt x="1293" y="760"/>
                  </a:lnTo>
                  <a:lnTo>
                    <a:pt x="1293" y="760"/>
                  </a:lnTo>
                  <a:lnTo>
                    <a:pt x="1293" y="760"/>
                  </a:lnTo>
                  <a:lnTo>
                    <a:pt x="1293" y="783"/>
                  </a:lnTo>
                  <a:lnTo>
                    <a:pt x="1293" y="783"/>
                  </a:lnTo>
                  <a:lnTo>
                    <a:pt x="1293" y="783"/>
                  </a:lnTo>
                  <a:lnTo>
                    <a:pt x="1290" y="806"/>
                  </a:lnTo>
                  <a:lnTo>
                    <a:pt x="1290" y="806"/>
                  </a:lnTo>
                  <a:lnTo>
                    <a:pt x="1290" y="806"/>
                  </a:lnTo>
                  <a:lnTo>
                    <a:pt x="1290" y="829"/>
                  </a:lnTo>
                  <a:lnTo>
                    <a:pt x="1290" y="829"/>
                  </a:lnTo>
                  <a:lnTo>
                    <a:pt x="1290" y="829"/>
                  </a:lnTo>
                  <a:lnTo>
                    <a:pt x="1290" y="849"/>
                  </a:lnTo>
                  <a:lnTo>
                    <a:pt x="1290" y="849"/>
                  </a:lnTo>
                  <a:lnTo>
                    <a:pt x="1290" y="849"/>
                  </a:lnTo>
                  <a:lnTo>
                    <a:pt x="1287" y="871"/>
                  </a:lnTo>
                  <a:lnTo>
                    <a:pt x="1287" y="871"/>
                  </a:lnTo>
                  <a:lnTo>
                    <a:pt x="1287" y="871"/>
                  </a:lnTo>
                  <a:lnTo>
                    <a:pt x="1284" y="894"/>
                  </a:lnTo>
                  <a:lnTo>
                    <a:pt x="1284" y="894"/>
                  </a:lnTo>
                  <a:lnTo>
                    <a:pt x="1284" y="894"/>
                  </a:lnTo>
                  <a:lnTo>
                    <a:pt x="1281" y="917"/>
                  </a:lnTo>
                  <a:lnTo>
                    <a:pt x="1281" y="917"/>
                  </a:lnTo>
                  <a:lnTo>
                    <a:pt x="1281" y="917"/>
                  </a:lnTo>
                  <a:lnTo>
                    <a:pt x="1279" y="940"/>
                  </a:lnTo>
                  <a:lnTo>
                    <a:pt x="1279" y="940"/>
                  </a:lnTo>
                  <a:lnTo>
                    <a:pt x="1279" y="940"/>
                  </a:lnTo>
                  <a:lnTo>
                    <a:pt x="1276" y="963"/>
                  </a:lnTo>
                  <a:lnTo>
                    <a:pt x="1276" y="963"/>
                  </a:lnTo>
                  <a:lnTo>
                    <a:pt x="1276" y="963"/>
                  </a:lnTo>
                  <a:lnTo>
                    <a:pt x="1273" y="985"/>
                  </a:lnTo>
                  <a:lnTo>
                    <a:pt x="1273" y="985"/>
                  </a:lnTo>
                  <a:lnTo>
                    <a:pt x="1273" y="985"/>
                  </a:lnTo>
                  <a:lnTo>
                    <a:pt x="1267" y="1005"/>
                  </a:lnTo>
                  <a:lnTo>
                    <a:pt x="1267" y="1005"/>
                  </a:lnTo>
                  <a:lnTo>
                    <a:pt x="1267" y="1005"/>
                  </a:lnTo>
                  <a:lnTo>
                    <a:pt x="1264" y="1028"/>
                  </a:lnTo>
                  <a:lnTo>
                    <a:pt x="1264" y="1028"/>
                  </a:lnTo>
                  <a:lnTo>
                    <a:pt x="1264" y="1028"/>
                  </a:lnTo>
                  <a:lnTo>
                    <a:pt x="1259" y="1051"/>
                  </a:lnTo>
                  <a:lnTo>
                    <a:pt x="1259" y="1051"/>
                  </a:lnTo>
                  <a:lnTo>
                    <a:pt x="1259" y="1051"/>
                  </a:lnTo>
                  <a:lnTo>
                    <a:pt x="1253" y="1074"/>
                  </a:lnTo>
                  <a:lnTo>
                    <a:pt x="1253" y="1074"/>
                  </a:lnTo>
                  <a:lnTo>
                    <a:pt x="1253" y="1074"/>
                  </a:lnTo>
                  <a:lnTo>
                    <a:pt x="1247" y="1094"/>
                  </a:lnTo>
                  <a:lnTo>
                    <a:pt x="1247" y="1094"/>
                  </a:lnTo>
                  <a:lnTo>
                    <a:pt x="1247" y="1094"/>
                  </a:lnTo>
                  <a:lnTo>
                    <a:pt x="1242" y="1116"/>
                  </a:lnTo>
                  <a:lnTo>
                    <a:pt x="1242" y="1116"/>
                  </a:lnTo>
                  <a:lnTo>
                    <a:pt x="1242" y="1116"/>
                  </a:lnTo>
                  <a:lnTo>
                    <a:pt x="1236" y="1136"/>
                  </a:lnTo>
                  <a:lnTo>
                    <a:pt x="1236" y="1136"/>
                  </a:lnTo>
                  <a:lnTo>
                    <a:pt x="1236" y="1136"/>
                  </a:lnTo>
                  <a:lnTo>
                    <a:pt x="1230" y="1159"/>
                  </a:lnTo>
                  <a:lnTo>
                    <a:pt x="1230" y="1159"/>
                  </a:lnTo>
                  <a:lnTo>
                    <a:pt x="1230" y="1159"/>
                  </a:lnTo>
                  <a:lnTo>
                    <a:pt x="1222" y="1182"/>
                  </a:lnTo>
                  <a:lnTo>
                    <a:pt x="1222" y="1182"/>
                  </a:lnTo>
                  <a:lnTo>
                    <a:pt x="1222" y="1182"/>
                  </a:lnTo>
                  <a:lnTo>
                    <a:pt x="1213" y="1202"/>
                  </a:lnTo>
                  <a:lnTo>
                    <a:pt x="1213" y="1202"/>
                  </a:lnTo>
                  <a:lnTo>
                    <a:pt x="1213" y="1202"/>
                  </a:lnTo>
                  <a:lnTo>
                    <a:pt x="1207" y="1222"/>
                  </a:lnTo>
                  <a:lnTo>
                    <a:pt x="1207" y="1222"/>
                  </a:lnTo>
                  <a:lnTo>
                    <a:pt x="1207" y="1222"/>
                  </a:lnTo>
                  <a:lnTo>
                    <a:pt x="1199" y="1245"/>
                  </a:lnTo>
                  <a:lnTo>
                    <a:pt x="1199" y="1245"/>
                  </a:lnTo>
                  <a:lnTo>
                    <a:pt x="1199" y="1245"/>
                  </a:lnTo>
                  <a:lnTo>
                    <a:pt x="1190" y="1265"/>
                  </a:lnTo>
                  <a:lnTo>
                    <a:pt x="1190" y="1265"/>
                  </a:lnTo>
                  <a:lnTo>
                    <a:pt x="1190" y="1265"/>
                  </a:lnTo>
                  <a:lnTo>
                    <a:pt x="1179" y="1285"/>
                  </a:lnTo>
                  <a:lnTo>
                    <a:pt x="1179" y="1285"/>
                  </a:lnTo>
                  <a:lnTo>
                    <a:pt x="1179" y="1285"/>
                  </a:lnTo>
                  <a:lnTo>
                    <a:pt x="1170" y="1307"/>
                  </a:lnTo>
                  <a:lnTo>
                    <a:pt x="1170" y="1307"/>
                  </a:lnTo>
                  <a:lnTo>
                    <a:pt x="1170" y="1307"/>
                  </a:lnTo>
                  <a:lnTo>
                    <a:pt x="1162" y="1327"/>
                  </a:lnTo>
                  <a:lnTo>
                    <a:pt x="1162" y="1327"/>
                  </a:lnTo>
                  <a:lnTo>
                    <a:pt x="1162" y="1327"/>
                  </a:lnTo>
                  <a:lnTo>
                    <a:pt x="1150" y="1347"/>
                  </a:lnTo>
                  <a:lnTo>
                    <a:pt x="1150" y="1347"/>
                  </a:lnTo>
                  <a:lnTo>
                    <a:pt x="1150" y="1347"/>
                  </a:lnTo>
                  <a:lnTo>
                    <a:pt x="1142" y="1367"/>
                  </a:lnTo>
                  <a:lnTo>
                    <a:pt x="1142" y="1367"/>
                  </a:lnTo>
                  <a:lnTo>
                    <a:pt x="1142" y="1367"/>
                  </a:lnTo>
                  <a:lnTo>
                    <a:pt x="1131" y="1387"/>
                  </a:lnTo>
                  <a:lnTo>
                    <a:pt x="1131" y="1387"/>
                  </a:lnTo>
                  <a:lnTo>
                    <a:pt x="1131" y="1387"/>
                  </a:lnTo>
                  <a:lnTo>
                    <a:pt x="1119" y="1407"/>
                  </a:lnTo>
                  <a:lnTo>
                    <a:pt x="1119" y="1407"/>
                  </a:lnTo>
                  <a:lnTo>
                    <a:pt x="1119" y="1407"/>
                  </a:lnTo>
                  <a:lnTo>
                    <a:pt x="1108" y="1427"/>
                  </a:lnTo>
                  <a:lnTo>
                    <a:pt x="1108" y="1427"/>
                  </a:lnTo>
                  <a:lnTo>
                    <a:pt x="1108" y="1427"/>
                  </a:lnTo>
                  <a:lnTo>
                    <a:pt x="1096" y="1444"/>
                  </a:lnTo>
                  <a:lnTo>
                    <a:pt x="1096" y="1444"/>
                  </a:lnTo>
                  <a:lnTo>
                    <a:pt x="1096" y="1444"/>
                  </a:lnTo>
                  <a:lnTo>
                    <a:pt x="1085" y="1464"/>
                  </a:lnTo>
                  <a:lnTo>
                    <a:pt x="1085" y="1464"/>
                  </a:lnTo>
                  <a:lnTo>
                    <a:pt x="1085" y="1464"/>
                  </a:lnTo>
                  <a:lnTo>
                    <a:pt x="1071" y="1484"/>
                  </a:lnTo>
                  <a:lnTo>
                    <a:pt x="1071" y="1484"/>
                  </a:lnTo>
                  <a:lnTo>
                    <a:pt x="1071" y="1484"/>
                  </a:lnTo>
                  <a:lnTo>
                    <a:pt x="1059" y="1501"/>
                  </a:lnTo>
                  <a:lnTo>
                    <a:pt x="1059" y="1501"/>
                  </a:lnTo>
                  <a:lnTo>
                    <a:pt x="1059" y="1501"/>
                  </a:lnTo>
                  <a:lnTo>
                    <a:pt x="1045" y="1521"/>
                  </a:lnTo>
                  <a:lnTo>
                    <a:pt x="1045" y="1521"/>
                  </a:lnTo>
                  <a:lnTo>
                    <a:pt x="1045" y="1521"/>
                  </a:lnTo>
                  <a:lnTo>
                    <a:pt x="1031" y="1538"/>
                  </a:lnTo>
                  <a:lnTo>
                    <a:pt x="1031" y="1538"/>
                  </a:lnTo>
                  <a:lnTo>
                    <a:pt x="1031" y="1538"/>
                  </a:lnTo>
                  <a:lnTo>
                    <a:pt x="1019" y="1555"/>
                  </a:lnTo>
                  <a:lnTo>
                    <a:pt x="1019" y="1555"/>
                  </a:lnTo>
                  <a:lnTo>
                    <a:pt x="1019" y="1555"/>
                  </a:lnTo>
                  <a:lnTo>
                    <a:pt x="1005" y="1572"/>
                  </a:lnTo>
                  <a:lnTo>
                    <a:pt x="1005" y="1572"/>
                  </a:lnTo>
                  <a:lnTo>
                    <a:pt x="1005" y="1572"/>
                  </a:lnTo>
                  <a:lnTo>
                    <a:pt x="991" y="1592"/>
                  </a:lnTo>
                  <a:lnTo>
                    <a:pt x="991" y="1592"/>
                  </a:lnTo>
                  <a:lnTo>
                    <a:pt x="991" y="1592"/>
                  </a:lnTo>
                  <a:lnTo>
                    <a:pt x="974" y="1609"/>
                  </a:lnTo>
                  <a:lnTo>
                    <a:pt x="974" y="1609"/>
                  </a:lnTo>
                  <a:lnTo>
                    <a:pt x="974" y="1609"/>
                  </a:lnTo>
                  <a:lnTo>
                    <a:pt x="960" y="1626"/>
                  </a:lnTo>
                  <a:lnTo>
                    <a:pt x="960" y="1626"/>
                  </a:lnTo>
                  <a:lnTo>
                    <a:pt x="960" y="1626"/>
                  </a:lnTo>
                  <a:lnTo>
                    <a:pt x="945" y="1641"/>
                  </a:lnTo>
                  <a:lnTo>
                    <a:pt x="945" y="1641"/>
                  </a:lnTo>
                  <a:lnTo>
                    <a:pt x="945" y="1641"/>
                  </a:lnTo>
                  <a:lnTo>
                    <a:pt x="928" y="1658"/>
                  </a:lnTo>
                  <a:lnTo>
                    <a:pt x="928" y="1658"/>
                  </a:lnTo>
                  <a:lnTo>
                    <a:pt x="928" y="1658"/>
                  </a:lnTo>
                  <a:lnTo>
                    <a:pt x="914" y="1675"/>
                  </a:lnTo>
                  <a:lnTo>
                    <a:pt x="914" y="1675"/>
                  </a:lnTo>
                  <a:lnTo>
                    <a:pt x="914" y="1675"/>
                  </a:lnTo>
                  <a:lnTo>
                    <a:pt x="897" y="1689"/>
                  </a:lnTo>
                  <a:lnTo>
                    <a:pt x="897" y="1689"/>
                  </a:lnTo>
                  <a:lnTo>
                    <a:pt x="897" y="1689"/>
                  </a:lnTo>
                  <a:lnTo>
                    <a:pt x="880" y="1706"/>
                  </a:lnTo>
                  <a:lnTo>
                    <a:pt x="880" y="1706"/>
                  </a:lnTo>
                  <a:lnTo>
                    <a:pt x="880" y="1706"/>
                  </a:lnTo>
                  <a:lnTo>
                    <a:pt x="866" y="1720"/>
                  </a:lnTo>
                  <a:lnTo>
                    <a:pt x="866" y="1720"/>
                  </a:lnTo>
                  <a:lnTo>
                    <a:pt x="866" y="1720"/>
                  </a:lnTo>
                  <a:lnTo>
                    <a:pt x="849" y="1735"/>
                  </a:lnTo>
                  <a:lnTo>
                    <a:pt x="849" y="1735"/>
                  </a:lnTo>
                  <a:lnTo>
                    <a:pt x="849" y="1735"/>
                  </a:lnTo>
                  <a:lnTo>
                    <a:pt x="832" y="1752"/>
                  </a:lnTo>
                  <a:lnTo>
                    <a:pt x="832" y="1752"/>
                  </a:lnTo>
                  <a:lnTo>
                    <a:pt x="832" y="1752"/>
                  </a:lnTo>
                  <a:lnTo>
                    <a:pt x="812" y="1766"/>
                  </a:lnTo>
                  <a:lnTo>
                    <a:pt x="812" y="1766"/>
                  </a:lnTo>
                  <a:lnTo>
                    <a:pt x="812" y="1766"/>
                  </a:lnTo>
                  <a:lnTo>
                    <a:pt x="795" y="1780"/>
                  </a:lnTo>
                  <a:lnTo>
                    <a:pt x="795" y="1780"/>
                  </a:lnTo>
                  <a:lnTo>
                    <a:pt x="795" y="1780"/>
                  </a:lnTo>
                  <a:lnTo>
                    <a:pt x="778" y="1792"/>
                  </a:lnTo>
                  <a:lnTo>
                    <a:pt x="778" y="1792"/>
                  </a:lnTo>
                  <a:lnTo>
                    <a:pt x="778" y="1792"/>
                  </a:lnTo>
                  <a:lnTo>
                    <a:pt x="760" y="1806"/>
                  </a:lnTo>
                  <a:lnTo>
                    <a:pt x="760" y="1806"/>
                  </a:lnTo>
                  <a:lnTo>
                    <a:pt x="760" y="1806"/>
                  </a:lnTo>
                  <a:lnTo>
                    <a:pt x="740" y="1820"/>
                  </a:lnTo>
                  <a:lnTo>
                    <a:pt x="740" y="1820"/>
                  </a:lnTo>
                  <a:lnTo>
                    <a:pt x="740" y="1820"/>
                  </a:lnTo>
                  <a:lnTo>
                    <a:pt x="723" y="1832"/>
                  </a:lnTo>
                  <a:lnTo>
                    <a:pt x="723" y="1832"/>
                  </a:lnTo>
                  <a:lnTo>
                    <a:pt x="723" y="1832"/>
                  </a:lnTo>
                  <a:lnTo>
                    <a:pt x="703" y="1846"/>
                  </a:lnTo>
                  <a:lnTo>
                    <a:pt x="703" y="1846"/>
                  </a:lnTo>
                  <a:lnTo>
                    <a:pt x="703" y="1846"/>
                  </a:lnTo>
                  <a:lnTo>
                    <a:pt x="684" y="1857"/>
                  </a:lnTo>
                  <a:lnTo>
                    <a:pt x="684" y="1857"/>
                  </a:lnTo>
                  <a:lnTo>
                    <a:pt x="0" y="760"/>
                  </a:lnTo>
                  <a:lnTo>
                    <a:pt x="1045"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64520" y="4197960"/>
              <a:ext cx="897480" cy="1289160"/>
            </a:xfrm>
            <a:custGeom>
              <a:avLst/>
              <a:gdLst/>
              <a:ahLst/>
              <a:rect l="l" t="t" r="r" b="b"/>
              <a:pathLst>
                <a:path w="1293" h="1857">
                  <a:moveTo>
                    <a:pt x="1045" y="0"/>
                  </a:moveTo>
                  <a:lnTo>
                    <a:pt x="1045" y="0"/>
                  </a:lnTo>
                  <a:lnTo>
                    <a:pt x="1059" y="17"/>
                  </a:lnTo>
                  <a:lnTo>
                    <a:pt x="1059" y="17"/>
                  </a:lnTo>
                  <a:lnTo>
                    <a:pt x="1059" y="17"/>
                  </a:lnTo>
                  <a:lnTo>
                    <a:pt x="1071" y="37"/>
                  </a:lnTo>
                  <a:lnTo>
                    <a:pt x="1071" y="37"/>
                  </a:lnTo>
                  <a:lnTo>
                    <a:pt x="1071" y="37"/>
                  </a:lnTo>
                  <a:lnTo>
                    <a:pt x="1085" y="54"/>
                  </a:lnTo>
                  <a:lnTo>
                    <a:pt x="1085" y="54"/>
                  </a:lnTo>
                  <a:lnTo>
                    <a:pt x="1085" y="54"/>
                  </a:lnTo>
                  <a:lnTo>
                    <a:pt x="1096" y="74"/>
                  </a:lnTo>
                  <a:lnTo>
                    <a:pt x="1096" y="74"/>
                  </a:lnTo>
                  <a:lnTo>
                    <a:pt x="1096" y="74"/>
                  </a:lnTo>
                  <a:lnTo>
                    <a:pt x="1108" y="94"/>
                  </a:lnTo>
                  <a:lnTo>
                    <a:pt x="1108" y="94"/>
                  </a:lnTo>
                  <a:lnTo>
                    <a:pt x="1108" y="94"/>
                  </a:lnTo>
                  <a:lnTo>
                    <a:pt x="1119" y="114"/>
                  </a:lnTo>
                  <a:lnTo>
                    <a:pt x="1119" y="114"/>
                  </a:lnTo>
                  <a:lnTo>
                    <a:pt x="1119" y="114"/>
                  </a:lnTo>
                  <a:lnTo>
                    <a:pt x="1131" y="134"/>
                  </a:lnTo>
                  <a:lnTo>
                    <a:pt x="1131" y="134"/>
                  </a:lnTo>
                  <a:lnTo>
                    <a:pt x="1131" y="134"/>
                  </a:lnTo>
                  <a:lnTo>
                    <a:pt x="1142" y="153"/>
                  </a:lnTo>
                  <a:lnTo>
                    <a:pt x="1142" y="153"/>
                  </a:lnTo>
                  <a:lnTo>
                    <a:pt x="1142" y="153"/>
                  </a:lnTo>
                  <a:lnTo>
                    <a:pt x="1150" y="173"/>
                  </a:lnTo>
                  <a:lnTo>
                    <a:pt x="1150" y="173"/>
                  </a:lnTo>
                  <a:lnTo>
                    <a:pt x="1150" y="173"/>
                  </a:lnTo>
                  <a:lnTo>
                    <a:pt x="1162" y="193"/>
                  </a:lnTo>
                  <a:lnTo>
                    <a:pt x="1162" y="193"/>
                  </a:lnTo>
                  <a:lnTo>
                    <a:pt x="1162" y="193"/>
                  </a:lnTo>
                  <a:lnTo>
                    <a:pt x="1170" y="213"/>
                  </a:lnTo>
                  <a:lnTo>
                    <a:pt x="1170" y="213"/>
                  </a:lnTo>
                  <a:lnTo>
                    <a:pt x="1170" y="213"/>
                  </a:lnTo>
                  <a:lnTo>
                    <a:pt x="1179" y="233"/>
                  </a:lnTo>
                  <a:lnTo>
                    <a:pt x="1179" y="233"/>
                  </a:lnTo>
                  <a:lnTo>
                    <a:pt x="1179" y="233"/>
                  </a:lnTo>
                  <a:lnTo>
                    <a:pt x="1190" y="253"/>
                  </a:lnTo>
                  <a:lnTo>
                    <a:pt x="1190" y="253"/>
                  </a:lnTo>
                  <a:lnTo>
                    <a:pt x="1190" y="253"/>
                  </a:lnTo>
                  <a:lnTo>
                    <a:pt x="1199" y="276"/>
                  </a:lnTo>
                  <a:lnTo>
                    <a:pt x="1199" y="276"/>
                  </a:lnTo>
                  <a:lnTo>
                    <a:pt x="1199" y="276"/>
                  </a:lnTo>
                  <a:lnTo>
                    <a:pt x="1207" y="296"/>
                  </a:lnTo>
                  <a:lnTo>
                    <a:pt x="1207" y="296"/>
                  </a:lnTo>
                  <a:lnTo>
                    <a:pt x="1207" y="296"/>
                  </a:lnTo>
                  <a:lnTo>
                    <a:pt x="1213" y="316"/>
                  </a:lnTo>
                  <a:lnTo>
                    <a:pt x="1213" y="316"/>
                  </a:lnTo>
                  <a:lnTo>
                    <a:pt x="1213" y="316"/>
                  </a:lnTo>
                  <a:lnTo>
                    <a:pt x="1222" y="339"/>
                  </a:lnTo>
                  <a:lnTo>
                    <a:pt x="1222" y="339"/>
                  </a:lnTo>
                  <a:lnTo>
                    <a:pt x="1222" y="339"/>
                  </a:lnTo>
                  <a:lnTo>
                    <a:pt x="1230" y="359"/>
                  </a:lnTo>
                  <a:lnTo>
                    <a:pt x="1230" y="359"/>
                  </a:lnTo>
                  <a:lnTo>
                    <a:pt x="1230" y="359"/>
                  </a:lnTo>
                  <a:lnTo>
                    <a:pt x="1236" y="381"/>
                  </a:lnTo>
                  <a:lnTo>
                    <a:pt x="1236" y="381"/>
                  </a:lnTo>
                  <a:lnTo>
                    <a:pt x="1236" y="381"/>
                  </a:lnTo>
                  <a:lnTo>
                    <a:pt x="1242" y="404"/>
                  </a:lnTo>
                  <a:lnTo>
                    <a:pt x="1242" y="404"/>
                  </a:lnTo>
                  <a:lnTo>
                    <a:pt x="1242" y="404"/>
                  </a:lnTo>
                  <a:lnTo>
                    <a:pt x="1247" y="424"/>
                  </a:lnTo>
                  <a:lnTo>
                    <a:pt x="1247" y="424"/>
                  </a:lnTo>
                  <a:lnTo>
                    <a:pt x="1247" y="424"/>
                  </a:lnTo>
                  <a:lnTo>
                    <a:pt x="1253" y="447"/>
                  </a:lnTo>
                  <a:lnTo>
                    <a:pt x="1253" y="447"/>
                  </a:lnTo>
                  <a:lnTo>
                    <a:pt x="1253" y="447"/>
                  </a:lnTo>
                  <a:lnTo>
                    <a:pt x="1259" y="470"/>
                  </a:lnTo>
                  <a:lnTo>
                    <a:pt x="1259" y="470"/>
                  </a:lnTo>
                  <a:lnTo>
                    <a:pt x="1259" y="470"/>
                  </a:lnTo>
                  <a:lnTo>
                    <a:pt x="1264" y="490"/>
                  </a:lnTo>
                  <a:lnTo>
                    <a:pt x="1264" y="490"/>
                  </a:lnTo>
                  <a:lnTo>
                    <a:pt x="1264" y="490"/>
                  </a:lnTo>
                  <a:lnTo>
                    <a:pt x="1267" y="512"/>
                  </a:lnTo>
                  <a:lnTo>
                    <a:pt x="1267" y="512"/>
                  </a:lnTo>
                  <a:lnTo>
                    <a:pt x="1267" y="512"/>
                  </a:lnTo>
                  <a:lnTo>
                    <a:pt x="1273" y="535"/>
                  </a:lnTo>
                  <a:lnTo>
                    <a:pt x="1273" y="535"/>
                  </a:lnTo>
                  <a:lnTo>
                    <a:pt x="1273" y="535"/>
                  </a:lnTo>
                  <a:lnTo>
                    <a:pt x="1276" y="558"/>
                  </a:lnTo>
                  <a:lnTo>
                    <a:pt x="1276" y="558"/>
                  </a:lnTo>
                  <a:lnTo>
                    <a:pt x="1276" y="558"/>
                  </a:lnTo>
                  <a:lnTo>
                    <a:pt x="1279" y="581"/>
                  </a:lnTo>
                  <a:lnTo>
                    <a:pt x="1279" y="581"/>
                  </a:lnTo>
                  <a:lnTo>
                    <a:pt x="1279" y="581"/>
                  </a:lnTo>
                  <a:lnTo>
                    <a:pt x="1281" y="601"/>
                  </a:lnTo>
                  <a:lnTo>
                    <a:pt x="1281" y="601"/>
                  </a:lnTo>
                  <a:lnTo>
                    <a:pt x="1281" y="601"/>
                  </a:lnTo>
                  <a:lnTo>
                    <a:pt x="1284" y="624"/>
                  </a:lnTo>
                  <a:lnTo>
                    <a:pt x="1284" y="624"/>
                  </a:lnTo>
                  <a:lnTo>
                    <a:pt x="1284" y="624"/>
                  </a:lnTo>
                  <a:lnTo>
                    <a:pt x="1287" y="646"/>
                  </a:lnTo>
                  <a:lnTo>
                    <a:pt x="1287" y="646"/>
                  </a:lnTo>
                  <a:lnTo>
                    <a:pt x="1287" y="646"/>
                  </a:lnTo>
                  <a:lnTo>
                    <a:pt x="1290" y="669"/>
                  </a:lnTo>
                  <a:lnTo>
                    <a:pt x="1290" y="669"/>
                  </a:lnTo>
                  <a:lnTo>
                    <a:pt x="1290" y="669"/>
                  </a:lnTo>
                  <a:lnTo>
                    <a:pt x="1290" y="692"/>
                  </a:lnTo>
                  <a:lnTo>
                    <a:pt x="1290" y="692"/>
                  </a:lnTo>
                  <a:lnTo>
                    <a:pt x="1290" y="692"/>
                  </a:lnTo>
                  <a:lnTo>
                    <a:pt x="1290" y="715"/>
                  </a:lnTo>
                  <a:lnTo>
                    <a:pt x="1290" y="715"/>
                  </a:lnTo>
                  <a:lnTo>
                    <a:pt x="1290" y="715"/>
                  </a:lnTo>
                  <a:lnTo>
                    <a:pt x="1293" y="738"/>
                  </a:lnTo>
                  <a:lnTo>
                    <a:pt x="1293" y="738"/>
                  </a:lnTo>
                  <a:lnTo>
                    <a:pt x="1293" y="738"/>
                  </a:lnTo>
                  <a:lnTo>
                    <a:pt x="1293" y="760"/>
                  </a:lnTo>
                  <a:lnTo>
                    <a:pt x="1293" y="760"/>
                  </a:lnTo>
                  <a:lnTo>
                    <a:pt x="1293" y="760"/>
                  </a:lnTo>
                  <a:lnTo>
                    <a:pt x="1293" y="783"/>
                  </a:lnTo>
                  <a:lnTo>
                    <a:pt x="1293" y="783"/>
                  </a:lnTo>
                  <a:lnTo>
                    <a:pt x="1293" y="783"/>
                  </a:lnTo>
                  <a:lnTo>
                    <a:pt x="1290" y="806"/>
                  </a:lnTo>
                  <a:lnTo>
                    <a:pt x="1290" y="806"/>
                  </a:lnTo>
                  <a:lnTo>
                    <a:pt x="1290" y="806"/>
                  </a:lnTo>
                  <a:lnTo>
                    <a:pt x="1290" y="829"/>
                  </a:lnTo>
                  <a:lnTo>
                    <a:pt x="1290" y="829"/>
                  </a:lnTo>
                  <a:lnTo>
                    <a:pt x="1290" y="829"/>
                  </a:lnTo>
                  <a:lnTo>
                    <a:pt x="1290" y="849"/>
                  </a:lnTo>
                  <a:lnTo>
                    <a:pt x="1290" y="849"/>
                  </a:lnTo>
                  <a:lnTo>
                    <a:pt x="1290" y="849"/>
                  </a:lnTo>
                  <a:lnTo>
                    <a:pt x="1287" y="871"/>
                  </a:lnTo>
                  <a:lnTo>
                    <a:pt x="1287" y="871"/>
                  </a:lnTo>
                  <a:lnTo>
                    <a:pt x="1287" y="871"/>
                  </a:lnTo>
                  <a:lnTo>
                    <a:pt x="1284" y="894"/>
                  </a:lnTo>
                  <a:lnTo>
                    <a:pt x="1284" y="894"/>
                  </a:lnTo>
                  <a:lnTo>
                    <a:pt x="1284" y="894"/>
                  </a:lnTo>
                  <a:lnTo>
                    <a:pt x="1281" y="917"/>
                  </a:lnTo>
                  <a:lnTo>
                    <a:pt x="1281" y="917"/>
                  </a:lnTo>
                  <a:lnTo>
                    <a:pt x="1281" y="917"/>
                  </a:lnTo>
                  <a:lnTo>
                    <a:pt x="1279" y="940"/>
                  </a:lnTo>
                  <a:lnTo>
                    <a:pt x="1279" y="940"/>
                  </a:lnTo>
                  <a:lnTo>
                    <a:pt x="1279" y="940"/>
                  </a:lnTo>
                  <a:lnTo>
                    <a:pt x="1276" y="963"/>
                  </a:lnTo>
                  <a:lnTo>
                    <a:pt x="1276" y="963"/>
                  </a:lnTo>
                  <a:lnTo>
                    <a:pt x="1276" y="963"/>
                  </a:lnTo>
                  <a:lnTo>
                    <a:pt x="1273" y="985"/>
                  </a:lnTo>
                  <a:lnTo>
                    <a:pt x="1273" y="985"/>
                  </a:lnTo>
                  <a:lnTo>
                    <a:pt x="1273" y="985"/>
                  </a:lnTo>
                  <a:lnTo>
                    <a:pt x="1267" y="1005"/>
                  </a:lnTo>
                  <a:lnTo>
                    <a:pt x="1267" y="1005"/>
                  </a:lnTo>
                  <a:lnTo>
                    <a:pt x="1267" y="1005"/>
                  </a:lnTo>
                  <a:lnTo>
                    <a:pt x="1264" y="1028"/>
                  </a:lnTo>
                  <a:lnTo>
                    <a:pt x="1264" y="1028"/>
                  </a:lnTo>
                  <a:lnTo>
                    <a:pt x="1264" y="1028"/>
                  </a:lnTo>
                  <a:lnTo>
                    <a:pt x="1259" y="1051"/>
                  </a:lnTo>
                  <a:lnTo>
                    <a:pt x="1259" y="1051"/>
                  </a:lnTo>
                  <a:lnTo>
                    <a:pt x="1259" y="1051"/>
                  </a:lnTo>
                  <a:lnTo>
                    <a:pt x="1253" y="1074"/>
                  </a:lnTo>
                  <a:lnTo>
                    <a:pt x="1253" y="1074"/>
                  </a:lnTo>
                  <a:lnTo>
                    <a:pt x="1253" y="1074"/>
                  </a:lnTo>
                  <a:lnTo>
                    <a:pt x="1247" y="1094"/>
                  </a:lnTo>
                  <a:lnTo>
                    <a:pt x="1247" y="1094"/>
                  </a:lnTo>
                  <a:lnTo>
                    <a:pt x="1247" y="1094"/>
                  </a:lnTo>
                  <a:lnTo>
                    <a:pt x="1242" y="1116"/>
                  </a:lnTo>
                  <a:lnTo>
                    <a:pt x="1242" y="1116"/>
                  </a:lnTo>
                  <a:lnTo>
                    <a:pt x="1242" y="1116"/>
                  </a:lnTo>
                  <a:lnTo>
                    <a:pt x="1236" y="1136"/>
                  </a:lnTo>
                  <a:lnTo>
                    <a:pt x="1236" y="1136"/>
                  </a:lnTo>
                  <a:lnTo>
                    <a:pt x="1236" y="1136"/>
                  </a:lnTo>
                  <a:lnTo>
                    <a:pt x="1230" y="1159"/>
                  </a:lnTo>
                  <a:lnTo>
                    <a:pt x="1230" y="1159"/>
                  </a:lnTo>
                  <a:lnTo>
                    <a:pt x="1230" y="1159"/>
                  </a:lnTo>
                  <a:lnTo>
                    <a:pt x="1222" y="1182"/>
                  </a:lnTo>
                  <a:lnTo>
                    <a:pt x="1222" y="1182"/>
                  </a:lnTo>
                  <a:lnTo>
                    <a:pt x="1222" y="1182"/>
                  </a:lnTo>
                  <a:lnTo>
                    <a:pt x="1213" y="1202"/>
                  </a:lnTo>
                  <a:lnTo>
                    <a:pt x="1213" y="1202"/>
                  </a:lnTo>
                  <a:lnTo>
                    <a:pt x="1213" y="1202"/>
                  </a:lnTo>
                  <a:lnTo>
                    <a:pt x="1207" y="1222"/>
                  </a:lnTo>
                  <a:lnTo>
                    <a:pt x="1207" y="1222"/>
                  </a:lnTo>
                  <a:lnTo>
                    <a:pt x="1207" y="1222"/>
                  </a:lnTo>
                  <a:lnTo>
                    <a:pt x="1199" y="1245"/>
                  </a:lnTo>
                  <a:lnTo>
                    <a:pt x="1199" y="1245"/>
                  </a:lnTo>
                  <a:lnTo>
                    <a:pt x="1199" y="1245"/>
                  </a:lnTo>
                  <a:lnTo>
                    <a:pt x="1190" y="1265"/>
                  </a:lnTo>
                  <a:lnTo>
                    <a:pt x="1190" y="1265"/>
                  </a:lnTo>
                  <a:lnTo>
                    <a:pt x="1190" y="1265"/>
                  </a:lnTo>
                  <a:lnTo>
                    <a:pt x="1179" y="1285"/>
                  </a:lnTo>
                  <a:lnTo>
                    <a:pt x="1179" y="1285"/>
                  </a:lnTo>
                  <a:lnTo>
                    <a:pt x="1179" y="1285"/>
                  </a:lnTo>
                  <a:lnTo>
                    <a:pt x="1170" y="1307"/>
                  </a:lnTo>
                  <a:lnTo>
                    <a:pt x="1170" y="1307"/>
                  </a:lnTo>
                  <a:lnTo>
                    <a:pt x="1170" y="1307"/>
                  </a:lnTo>
                  <a:lnTo>
                    <a:pt x="1162" y="1327"/>
                  </a:lnTo>
                  <a:lnTo>
                    <a:pt x="1162" y="1327"/>
                  </a:lnTo>
                  <a:lnTo>
                    <a:pt x="1162" y="1327"/>
                  </a:lnTo>
                  <a:lnTo>
                    <a:pt x="1150" y="1347"/>
                  </a:lnTo>
                  <a:lnTo>
                    <a:pt x="1150" y="1347"/>
                  </a:lnTo>
                  <a:lnTo>
                    <a:pt x="1150" y="1347"/>
                  </a:lnTo>
                  <a:lnTo>
                    <a:pt x="1142" y="1367"/>
                  </a:lnTo>
                  <a:lnTo>
                    <a:pt x="1142" y="1367"/>
                  </a:lnTo>
                  <a:lnTo>
                    <a:pt x="1142" y="1367"/>
                  </a:lnTo>
                  <a:lnTo>
                    <a:pt x="1131" y="1387"/>
                  </a:lnTo>
                  <a:lnTo>
                    <a:pt x="1131" y="1387"/>
                  </a:lnTo>
                  <a:lnTo>
                    <a:pt x="1131" y="1387"/>
                  </a:lnTo>
                  <a:lnTo>
                    <a:pt x="1119" y="1407"/>
                  </a:lnTo>
                  <a:lnTo>
                    <a:pt x="1119" y="1407"/>
                  </a:lnTo>
                  <a:lnTo>
                    <a:pt x="1119" y="1407"/>
                  </a:lnTo>
                  <a:lnTo>
                    <a:pt x="1108" y="1427"/>
                  </a:lnTo>
                  <a:lnTo>
                    <a:pt x="1108" y="1427"/>
                  </a:lnTo>
                  <a:lnTo>
                    <a:pt x="1108" y="1427"/>
                  </a:lnTo>
                  <a:lnTo>
                    <a:pt x="1096" y="1444"/>
                  </a:lnTo>
                  <a:lnTo>
                    <a:pt x="1096" y="1444"/>
                  </a:lnTo>
                  <a:lnTo>
                    <a:pt x="1096" y="1444"/>
                  </a:lnTo>
                  <a:lnTo>
                    <a:pt x="1085" y="1464"/>
                  </a:lnTo>
                  <a:lnTo>
                    <a:pt x="1085" y="1464"/>
                  </a:lnTo>
                  <a:lnTo>
                    <a:pt x="1085" y="1464"/>
                  </a:lnTo>
                  <a:lnTo>
                    <a:pt x="1071" y="1484"/>
                  </a:lnTo>
                  <a:lnTo>
                    <a:pt x="1071" y="1484"/>
                  </a:lnTo>
                  <a:lnTo>
                    <a:pt x="1071" y="1484"/>
                  </a:lnTo>
                  <a:lnTo>
                    <a:pt x="1059" y="1501"/>
                  </a:lnTo>
                  <a:lnTo>
                    <a:pt x="1059" y="1501"/>
                  </a:lnTo>
                  <a:lnTo>
                    <a:pt x="1059" y="1501"/>
                  </a:lnTo>
                  <a:lnTo>
                    <a:pt x="1045" y="1521"/>
                  </a:lnTo>
                  <a:lnTo>
                    <a:pt x="1045" y="1521"/>
                  </a:lnTo>
                  <a:lnTo>
                    <a:pt x="1045" y="1521"/>
                  </a:lnTo>
                  <a:lnTo>
                    <a:pt x="1031" y="1538"/>
                  </a:lnTo>
                  <a:lnTo>
                    <a:pt x="1031" y="1538"/>
                  </a:lnTo>
                  <a:lnTo>
                    <a:pt x="1031" y="1538"/>
                  </a:lnTo>
                  <a:lnTo>
                    <a:pt x="1019" y="1555"/>
                  </a:lnTo>
                  <a:lnTo>
                    <a:pt x="1019" y="1555"/>
                  </a:lnTo>
                  <a:lnTo>
                    <a:pt x="1019" y="1555"/>
                  </a:lnTo>
                  <a:lnTo>
                    <a:pt x="1005" y="1572"/>
                  </a:lnTo>
                  <a:lnTo>
                    <a:pt x="1005" y="1572"/>
                  </a:lnTo>
                  <a:lnTo>
                    <a:pt x="1005" y="1572"/>
                  </a:lnTo>
                  <a:lnTo>
                    <a:pt x="991" y="1592"/>
                  </a:lnTo>
                  <a:lnTo>
                    <a:pt x="991" y="1592"/>
                  </a:lnTo>
                  <a:lnTo>
                    <a:pt x="991" y="1592"/>
                  </a:lnTo>
                  <a:lnTo>
                    <a:pt x="974" y="1609"/>
                  </a:lnTo>
                  <a:lnTo>
                    <a:pt x="974" y="1609"/>
                  </a:lnTo>
                  <a:lnTo>
                    <a:pt x="974" y="1609"/>
                  </a:lnTo>
                  <a:lnTo>
                    <a:pt x="960" y="1626"/>
                  </a:lnTo>
                  <a:lnTo>
                    <a:pt x="960" y="1626"/>
                  </a:lnTo>
                  <a:lnTo>
                    <a:pt x="960" y="1626"/>
                  </a:lnTo>
                  <a:lnTo>
                    <a:pt x="945" y="1641"/>
                  </a:lnTo>
                  <a:lnTo>
                    <a:pt x="945" y="1641"/>
                  </a:lnTo>
                  <a:lnTo>
                    <a:pt x="945" y="1641"/>
                  </a:lnTo>
                  <a:lnTo>
                    <a:pt x="928" y="1658"/>
                  </a:lnTo>
                  <a:lnTo>
                    <a:pt x="928" y="1658"/>
                  </a:lnTo>
                  <a:lnTo>
                    <a:pt x="928" y="1658"/>
                  </a:lnTo>
                  <a:lnTo>
                    <a:pt x="914" y="1675"/>
                  </a:lnTo>
                  <a:lnTo>
                    <a:pt x="914" y="1675"/>
                  </a:lnTo>
                  <a:lnTo>
                    <a:pt x="914" y="1675"/>
                  </a:lnTo>
                  <a:lnTo>
                    <a:pt x="897" y="1689"/>
                  </a:lnTo>
                  <a:lnTo>
                    <a:pt x="897" y="1689"/>
                  </a:lnTo>
                  <a:lnTo>
                    <a:pt x="897" y="1689"/>
                  </a:lnTo>
                  <a:lnTo>
                    <a:pt x="880" y="1706"/>
                  </a:lnTo>
                  <a:lnTo>
                    <a:pt x="880" y="1706"/>
                  </a:lnTo>
                  <a:lnTo>
                    <a:pt x="880" y="1706"/>
                  </a:lnTo>
                  <a:lnTo>
                    <a:pt x="866" y="1720"/>
                  </a:lnTo>
                  <a:lnTo>
                    <a:pt x="866" y="1720"/>
                  </a:lnTo>
                  <a:lnTo>
                    <a:pt x="866" y="1720"/>
                  </a:lnTo>
                  <a:lnTo>
                    <a:pt x="849" y="1735"/>
                  </a:lnTo>
                  <a:lnTo>
                    <a:pt x="849" y="1735"/>
                  </a:lnTo>
                  <a:lnTo>
                    <a:pt x="849" y="1735"/>
                  </a:lnTo>
                  <a:lnTo>
                    <a:pt x="832" y="1752"/>
                  </a:lnTo>
                  <a:lnTo>
                    <a:pt x="832" y="1752"/>
                  </a:lnTo>
                  <a:lnTo>
                    <a:pt x="832" y="1752"/>
                  </a:lnTo>
                  <a:lnTo>
                    <a:pt x="812" y="1766"/>
                  </a:lnTo>
                  <a:lnTo>
                    <a:pt x="812" y="1766"/>
                  </a:lnTo>
                  <a:lnTo>
                    <a:pt x="812" y="1766"/>
                  </a:lnTo>
                  <a:lnTo>
                    <a:pt x="795" y="1780"/>
                  </a:lnTo>
                  <a:lnTo>
                    <a:pt x="795" y="1780"/>
                  </a:lnTo>
                  <a:lnTo>
                    <a:pt x="795" y="1780"/>
                  </a:lnTo>
                  <a:lnTo>
                    <a:pt x="778" y="1792"/>
                  </a:lnTo>
                  <a:lnTo>
                    <a:pt x="778" y="1792"/>
                  </a:lnTo>
                  <a:lnTo>
                    <a:pt x="778" y="1792"/>
                  </a:lnTo>
                  <a:lnTo>
                    <a:pt x="760" y="1806"/>
                  </a:lnTo>
                  <a:lnTo>
                    <a:pt x="760" y="1806"/>
                  </a:lnTo>
                  <a:lnTo>
                    <a:pt x="760" y="1806"/>
                  </a:lnTo>
                  <a:lnTo>
                    <a:pt x="740" y="1820"/>
                  </a:lnTo>
                  <a:lnTo>
                    <a:pt x="740" y="1820"/>
                  </a:lnTo>
                  <a:lnTo>
                    <a:pt x="740" y="1820"/>
                  </a:lnTo>
                  <a:lnTo>
                    <a:pt x="723" y="1832"/>
                  </a:lnTo>
                  <a:lnTo>
                    <a:pt x="723" y="1832"/>
                  </a:lnTo>
                  <a:lnTo>
                    <a:pt x="723" y="1832"/>
                  </a:lnTo>
                  <a:lnTo>
                    <a:pt x="703" y="1846"/>
                  </a:lnTo>
                  <a:lnTo>
                    <a:pt x="703" y="1846"/>
                  </a:lnTo>
                  <a:lnTo>
                    <a:pt x="703" y="1846"/>
                  </a:lnTo>
                  <a:lnTo>
                    <a:pt x="684" y="1857"/>
                  </a:lnTo>
                  <a:lnTo>
                    <a:pt x="684" y="1857"/>
                  </a:lnTo>
                  <a:lnTo>
                    <a:pt x="0" y="760"/>
                  </a:lnTo>
                  <a:lnTo>
                    <a:pt x="1045" y="0"/>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617200" y="4725720"/>
              <a:ext cx="721800" cy="898200"/>
            </a:xfrm>
            <a:custGeom>
              <a:avLst/>
              <a:gdLst/>
              <a:ahLst/>
              <a:rect l="l" t="t" r="r" b="b"/>
              <a:pathLst>
                <a:path w="1040" h="1294">
                  <a:moveTo>
                    <a:pt x="1040" y="1097"/>
                  </a:moveTo>
                  <a:lnTo>
                    <a:pt x="1040" y="1097"/>
                  </a:lnTo>
                  <a:lnTo>
                    <a:pt x="1022" y="1109"/>
                  </a:lnTo>
                  <a:lnTo>
                    <a:pt x="1022" y="1109"/>
                  </a:lnTo>
                  <a:lnTo>
                    <a:pt x="1022" y="1109"/>
                  </a:lnTo>
                  <a:lnTo>
                    <a:pt x="1003" y="1120"/>
                  </a:lnTo>
                  <a:lnTo>
                    <a:pt x="1003" y="1120"/>
                  </a:lnTo>
                  <a:lnTo>
                    <a:pt x="1003" y="1120"/>
                  </a:lnTo>
                  <a:lnTo>
                    <a:pt x="983" y="1131"/>
                  </a:lnTo>
                  <a:lnTo>
                    <a:pt x="983" y="1131"/>
                  </a:lnTo>
                  <a:lnTo>
                    <a:pt x="983" y="1131"/>
                  </a:lnTo>
                  <a:lnTo>
                    <a:pt x="963" y="1143"/>
                  </a:lnTo>
                  <a:lnTo>
                    <a:pt x="963" y="1143"/>
                  </a:lnTo>
                  <a:lnTo>
                    <a:pt x="963" y="1143"/>
                  </a:lnTo>
                  <a:lnTo>
                    <a:pt x="943" y="1151"/>
                  </a:lnTo>
                  <a:lnTo>
                    <a:pt x="943" y="1151"/>
                  </a:lnTo>
                  <a:lnTo>
                    <a:pt x="943" y="1151"/>
                  </a:lnTo>
                  <a:lnTo>
                    <a:pt x="923" y="1163"/>
                  </a:lnTo>
                  <a:lnTo>
                    <a:pt x="923" y="1163"/>
                  </a:lnTo>
                  <a:lnTo>
                    <a:pt x="923" y="1163"/>
                  </a:lnTo>
                  <a:lnTo>
                    <a:pt x="903" y="1171"/>
                  </a:lnTo>
                  <a:lnTo>
                    <a:pt x="903" y="1171"/>
                  </a:lnTo>
                  <a:lnTo>
                    <a:pt x="903" y="1171"/>
                  </a:lnTo>
                  <a:lnTo>
                    <a:pt x="880" y="1180"/>
                  </a:lnTo>
                  <a:lnTo>
                    <a:pt x="880" y="1180"/>
                  </a:lnTo>
                  <a:lnTo>
                    <a:pt x="880" y="1180"/>
                  </a:lnTo>
                  <a:lnTo>
                    <a:pt x="860" y="1191"/>
                  </a:lnTo>
                  <a:lnTo>
                    <a:pt x="860" y="1191"/>
                  </a:lnTo>
                  <a:lnTo>
                    <a:pt x="860" y="1191"/>
                  </a:lnTo>
                  <a:lnTo>
                    <a:pt x="840" y="1200"/>
                  </a:lnTo>
                  <a:lnTo>
                    <a:pt x="840" y="1200"/>
                  </a:lnTo>
                  <a:lnTo>
                    <a:pt x="840" y="1200"/>
                  </a:lnTo>
                  <a:lnTo>
                    <a:pt x="818" y="1208"/>
                  </a:lnTo>
                  <a:lnTo>
                    <a:pt x="818" y="1208"/>
                  </a:lnTo>
                  <a:lnTo>
                    <a:pt x="818" y="1208"/>
                  </a:lnTo>
                  <a:lnTo>
                    <a:pt x="798" y="1214"/>
                  </a:lnTo>
                  <a:lnTo>
                    <a:pt x="798" y="1214"/>
                  </a:lnTo>
                  <a:lnTo>
                    <a:pt x="798" y="1214"/>
                  </a:lnTo>
                  <a:lnTo>
                    <a:pt x="778" y="1223"/>
                  </a:lnTo>
                  <a:lnTo>
                    <a:pt x="778" y="1223"/>
                  </a:lnTo>
                  <a:lnTo>
                    <a:pt x="778" y="1223"/>
                  </a:lnTo>
                  <a:lnTo>
                    <a:pt x="755" y="1231"/>
                  </a:lnTo>
                  <a:lnTo>
                    <a:pt x="755" y="1231"/>
                  </a:lnTo>
                  <a:lnTo>
                    <a:pt x="755" y="1231"/>
                  </a:lnTo>
                  <a:lnTo>
                    <a:pt x="732" y="1237"/>
                  </a:lnTo>
                  <a:lnTo>
                    <a:pt x="732" y="1237"/>
                  </a:lnTo>
                  <a:lnTo>
                    <a:pt x="732" y="1237"/>
                  </a:lnTo>
                  <a:lnTo>
                    <a:pt x="712" y="1243"/>
                  </a:lnTo>
                  <a:lnTo>
                    <a:pt x="712" y="1243"/>
                  </a:lnTo>
                  <a:lnTo>
                    <a:pt x="712" y="1243"/>
                  </a:lnTo>
                  <a:lnTo>
                    <a:pt x="689" y="1248"/>
                  </a:lnTo>
                  <a:lnTo>
                    <a:pt x="689" y="1248"/>
                  </a:lnTo>
                  <a:lnTo>
                    <a:pt x="689" y="1248"/>
                  </a:lnTo>
                  <a:lnTo>
                    <a:pt x="669" y="1254"/>
                  </a:lnTo>
                  <a:lnTo>
                    <a:pt x="669" y="1254"/>
                  </a:lnTo>
                  <a:lnTo>
                    <a:pt x="669" y="1254"/>
                  </a:lnTo>
                  <a:lnTo>
                    <a:pt x="647" y="1260"/>
                  </a:lnTo>
                  <a:lnTo>
                    <a:pt x="647" y="1260"/>
                  </a:lnTo>
                  <a:lnTo>
                    <a:pt x="647" y="1260"/>
                  </a:lnTo>
                  <a:lnTo>
                    <a:pt x="624" y="1265"/>
                  </a:lnTo>
                  <a:lnTo>
                    <a:pt x="624" y="1265"/>
                  </a:lnTo>
                  <a:lnTo>
                    <a:pt x="624" y="1265"/>
                  </a:lnTo>
                  <a:lnTo>
                    <a:pt x="601" y="1268"/>
                  </a:lnTo>
                  <a:lnTo>
                    <a:pt x="601" y="1268"/>
                  </a:lnTo>
                  <a:lnTo>
                    <a:pt x="601" y="1268"/>
                  </a:lnTo>
                  <a:lnTo>
                    <a:pt x="581" y="1274"/>
                  </a:lnTo>
                  <a:lnTo>
                    <a:pt x="581" y="1274"/>
                  </a:lnTo>
                  <a:lnTo>
                    <a:pt x="581" y="1274"/>
                  </a:lnTo>
                  <a:lnTo>
                    <a:pt x="558" y="1277"/>
                  </a:lnTo>
                  <a:lnTo>
                    <a:pt x="558" y="1277"/>
                  </a:lnTo>
                  <a:lnTo>
                    <a:pt x="558" y="1277"/>
                  </a:lnTo>
                  <a:lnTo>
                    <a:pt x="536" y="1280"/>
                  </a:lnTo>
                  <a:lnTo>
                    <a:pt x="536" y="1280"/>
                  </a:lnTo>
                  <a:lnTo>
                    <a:pt x="536" y="1280"/>
                  </a:lnTo>
                  <a:lnTo>
                    <a:pt x="513" y="1282"/>
                  </a:lnTo>
                  <a:lnTo>
                    <a:pt x="513" y="1282"/>
                  </a:lnTo>
                  <a:lnTo>
                    <a:pt x="513" y="1282"/>
                  </a:lnTo>
                  <a:lnTo>
                    <a:pt x="490" y="1285"/>
                  </a:lnTo>
                  <a:lnTo>
                    <a:pt x="490" y="1285"/>
                  </a:lnTo>
                  <a:lnTo>
                    <a:pt x="490" y="1285"/>
                  </a:lnTo>
                  <a:lnTo>
                    <a:pt x="467" y="1288"/>
                  </a:lnTo>
                  <a:lnTo>
                    <a:pt x="467" y="1288"/>
                  </a:lnTo>
                  <a:lnTo>
                    <a:pt x="467" y="1288"/>
                  </a:lnTo>
                  <a:lnTo>
                    <a:pt x="445" y="1291"/>
                  </a:lnTo>
                  <a:lnTo>
                    <a:pt x="445" y="1291"/>
                  </a:lnTo>
                  <a:lnTo>
                    <a:pt x="445" y="1291"/>
                  </a:lnTo>
                  <a:lnTo>
                    <a:pt x="425" y="1291"/>
                  </a:lnTo>
                  <a:lnTo>
                    <a:pt x="425" y="1291"/>
                  </a:lnTo>
                  <a:lnTo>
                    <a:pt x="425" y="1291"/>
                  </a:lnTo>
                  <a:lnTo>
                    <a:pt x="402" y="1291"/>
                  </a:lnTo>
                  <a:lnTo>
                    <a:pt x="402" y="1291"/>
                  </a:lnTo>
                  <a:lnTo>
                    <a:pt x="402" y="1291"/>
                  </a:lnTo>
                  <a:lnTo>
                    <a:pt x="379" y="1294"/>
                  </a:lnTo>
                  <a:lnTo>
                    <a:pt x="379" y="1294"/>
                  </a:lnTo>
                  <a:lnTo>
                    <a:pt x="379" y="1294"/>
                  </a:lnTo>
                  <a:lnTo>
                    <a:pt x="356" y="1294"/>
                  </a:lnTo>
                  <a:lnTo>
                    <a:pt x="356" y="1294"/>
                  </a:lnTo>
                  <a:lnTo>
                    <a:pt x="356" y="1294"/>
                  </a:lnTo>
                  <a:lnTo>
                    <a:pt x="334" y="1294"/>
                  </a:lnTo>
                  <a:lnTo>
                    <a:pt x="334" y="1294"/>
                  </a:lnTo>
                  <a:lnTo>
                    <a:pt x="334" y="1294"/>
                  </a:lnTo>
                  <a:lnTo>
                    <a:pt x="311" y="1291"/>
                  </a:lnTo>
                  <a:lnTo>
                    <a:pt x="311" y="1291"/>
                  </a:lnTo>
                  <a:lnTo>
                    <a:pt x="311" y="1291"/>
                  </a:lnTo>
                  <a:lnTo>
                    <a:pt x="288" y="1291"/>
                  </a:lnTo>
                  <a:lnTo>
                    <a:pt x="288" y="1291"/>
                  </a:lnTo>
                  <a:lnTo>
                    <a:pt x="288" y="1291"/>
                  </a:lnTo>
                  <a:lnTo>
                    <a:pt x="265" y="1291"/>
                  </a:lnTo>
                  <a:lnTo>
                    <a:pt x="265" y="1291"/>
                  </a:lnTo>
                  <a:lnTo>
                    <a:pt x="265" y="1291"/>
                  </a:lnTo>
                  <a:lnTo>
                    <a:pt x="242" y="1288"/>
                  </a:lnTo>
                  <a:lnTo>
                    <a:pt x="242" y="1288"/>
                  </a:lnTo>
                  <a:lnTo>
                    <a:pt x="242" y="1288"/>
                  </a:lnTo>
                  <a:lnTo>
                    <a:pt x="220" y="1285"/>
                  </a:lnTo>
                  <a:lnTo>
                    <a:pt x="220" y="1285"/>
                  </a:lnTo>
                  <a:lnTo>
                    <a:pt x="220" y="1285"/>
                  </a:lnTo>
                  <a:lnTo>
                    <a:pt x="197" y="1282"/>
                  </a:lnTo>
                  <a:lnTo>
                    <a:pt x="197" y="1282"/>
                  </a:lnTo>
                  <a:lnTo>
                    <a:pt x="197" y="1282"/>
                  </a:lnTo>
                  <a:lnTo>
                    <a:pt x="177" y="1280"/>
                  </a:lnTo>
                  <a:lnTo>
                    <a:pt x="177" y="1280"/>
                  </a:lnTo>
                  <a:lnTo>
                    <a:pt x="177" y="1280"/>
                  </a:lnTo>
                  <a:lnTo>
                    <a:pt x="154" y="1277"/>
                  </a:lnTo>
                  <a:lnTo>
                    <a:pt x="154" y="1277"/>
                  </a:lnTo>
                  <a:lnTo>
                    <a:pt x="154" y="1277"/>
                  </a:lnTo>
                  <a:lnTo>
                    <a:pt x="131" y="1274"/>
                  </a:lnTo>
                  <a:lnTo>
                    <a:pt x="131" y="1274"/>
                  </a:lnTo>
                  <a:lnTo>
                    <a:pt x="131" y="1274"/>
                  </a:lnTo>
                  <a:lnTo>
                    <a:pt x="109" y="1268"/>
                  </a:lnTo>
                  <a:lnTo>
                    <a:pt x="109" y="1268"/>
                  </a:lnTo>
                  <a:lnTo>
                    <a:pt x="109" y="1268"/>
                  </a:lnTo>
                  <a:lnTo>
                    <a:pt x="86" y="1265"/>
                  </a:lnTo>
                  <a:lnTo>
                    <a:pt x="86" y="1265"/>
                  </a:lnTo>
                  <a:lnTo>
                    <a:pt x="86" y="1265"/>
                  </a:lnTo>
                  <a:lnTo>
                    <a:pt x="66" y="1260"/>
                  </a:lnTo>
                  <a:lnTo>
                    <a:pt x="66" y="1260"/>
                  </a:lnTo>
                  <a:lnTo>
                    <a:pt x="66" y="1260"/>
                  </a:lnTo>
                  <a:lnTo>
                    <a:pt x="43" y="1254"/>
                  </a:lnTo>
                  <a:lnTo>
                    <a:pt x="43" y="1254"/>
                  </a:lnTo>
                  <a:lnTo>
                    <a:pt x="43" y="1254"/>
                  </a:lnTo>
                  <a:lnTo>
                    <a:pt x="20" y="1248"/>
                  </a:lnTo>
                  <a:lnTo>
                    <a:pt x="20" y="1248"/>
                  </a:lnTo>
                  <a:lnTo>
                    <a:pt x="20" y="1248"/>
                  </a:lnTo>
                  <a:lnTo>
                    <a:pt x="0" y="1243"/>
                  </a:lnTo>
                  <a:lnTo>
                    <a:pt x="0" y="1243"/>
                  </a:lnTo>
                  <a:lnTo>
                    <a:pt x="356" y="0"/>
                  </a:lnTo>
                  <a:lnTo>
                    <a:pt x="1040" y="109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617200" y="4725720"/>
              <a:ext cx="721800" cy="898200"/>
            </a:xfrm>
            <a:custGeom>
              <a:avLst/>
              <a:gdLst/>
              <a:ahLst/>
              <a:rect l="l" t="t" r="r" b="b"/>
              <a:pathLst>
                <a:path w="1040" h="1294">
                  <a:moveTo>
                    <a:pt x="1040" y="1097"/>
                  </a:moveTo>
                  <a:lnTo>
                    <a:pt x="1040" y="1097"/>
                  </a:lnTo>
                  <a:lnTo>
                    <a:pt x="1022" y="1109"/>
                  </a:lnTo>
                  <a:lnTo>
                    <a:pt x="1022" y="1109"/>
                  </a:lnTo>
                  <a:lnTo>
                    <a:pt x="1022" y="1109"/>
                  </a:lnTo>
                  <a:lnTo>
                    <a:pt x="1003" y="1120"/>
                  </a:lnTo>
                  <a:lnTo>
                    <a:pt x="1003" y="1120"/>
                  </a:lnTo>
                  <a:lnTo>
                    <a:pt x="1003" y="1120"/>
                  </a:lnTo>
                  <a:lnTo>
                    <a:pt x="983" y="1131"/>
                  </a:lnTo>
                  <a:lnTo>
                    <a:pt x="983" y="1131"/>
                  </a:lnTo>
                  <a:lnTo>
                    <a:pt x="983" y="1131"/>
                  </a:lnTo>
                  <a:lnTo>
                    <a:pt x="963" y="1143"/>
                  </a:lnTo>
                  <a:lnTo>
                    <a:pt x="963" y="1143"/>
                  </a:lnTo>
                  <a:lnTo>
                    <a:pt x="963" y="1143"/>
                  </a:lnTo>
                  <a:lnTo>
                    <a:pt x="943" y="1151"/>
                  </a:lnTo>
                  <a:lnTo>
                    <a:pt x="943" y="1151"/>
                  </a:lnTo>
                  <a:lnTo>
                    <a:pt x="943" y="1151"/>
                  </a:lnTo>
                  <a:lnTo>
                    <a:pt x="923" y="1163"/>
                  </a:lnTo>
                  <a:lnTo>
                    <a:pt x="923" y="1163"/>
                  </a:lnTo>
                  <a:lnTo>
                    <a:pt x="923" y="1163"/>
                  </a:lnTo>
                  <a:lnTo>
                    <a:pt x="903" y="1171"/>
                  </a:lnTo>
                  <a:lnTo>
                    <a:pt x="903" y="1171"/>
                  </a:lnTo>
                  <a:lnTo>
                    <a:pt x="903" y="1171"/>
                  </a:lnTo>
                  <a:lnTo>
                    <a:pt x="880" y="1180"/>
                  </a:lnTo>
                  <a:lnTo>
                    <a:pt x="880" y="1180"/>
                  </a:lnTo>
                  <a:lnTo>
                    <a:pt x="880" y="1180"/>
                  </a:lnTo>
                  <a:lnTo>
                    <a:pt x="860" y="1191"/>
                  </a:lnTo>
                  <a:lnTo>
                    <a:pt x="860" y="1191"/>
                  </a:lnTo>
                  <a:lnTo>
                    <a:pt x="860" y="1191"/>
                  </a:lnTo>
                  <a:lnTo>
                    <a:pt x="840" y="1200"/>
                  </a:lnTo>
                  <a:lnTo>
                    <a:pt x="840" y="1200"/>
                  </a:lnTo>
                  <a:lnTo>
                    <a:pt x="840" y="1200"/>
                  </a:lnTo>
                  <a:lnTo>
                    <a:pt x="818" y="1208"/>
                  </a:lnTo>
                  <a:lnTo>
                    <a:pt x="818" y="1208"/>
                  </a:lnTo>
                  <a:lnTo>
                    <a:pt x="818" y="1208"/>
                  </a:lnTo>
                  <a:lnTo>
                    <a:pt x="798" y="1214"/>
                  </a:lnTo>
                  <a:lnTo>
                    <a:pt x="798" y="1214"/>
                  </a:lnTo>
                  <a:lnTo>
                    <a:pt x="798" y="1214"/>
                  </a:lnTo>
                  <a:lnTo>
                    <a:pt x="778" y="1223"/>
                  </a:lnTo>
                  <a:lnTo>
                    <a:pt x="778" y="1223"/>
                  </a:lnTo>
                  <a:lnTo>
                    <a:pt x="778" y="1223"/>
                  </a:lnTo>
                  <a:lnTo>
                    <a:pt x="755" y="1231"/>
                  </a:lnTo>
                  <a:lnTo>
                    <a:pt x="755" y="1231"/>
                  </a:lnTo>
                  <a:lnTo>
                    <a:pt x="755" y="1231"/>
                  </a:lnTo>
                  <a:lnTo>
                    <a:pt x="732" y="1237"/>
                  </a:lnTo>
                  <a:lnTo>
                    <a:pt x="732" y="1237"/>
                  </a:lnTo>
                  <a:lnTo>
                    <a:pt x="732" y="1237"/>
                  </a:lnTo>
                  <a:lnTo>
                    <a:pt x="712" y="1243"/>
                  </a:lnTo>
                  <a:lnTo>
                    <a:pt x="712" y="1243"/>
                  </a:lnTo>
                  <a:lnTo>
                    <a:pt x="712" y="1243"/>
                  </a:lnTo>
                  <a:lnTo>
                    <a:pt x="689" y="1248"/>
                  </a:lnTo>
                  <a:lnTo>
                    <a:pt x="689" y="1248"/>
                  </a:lnTo>
                  <a:lnTo>
                    <a:pt x="689" y="1248"/>
                  </a:lnTo>
                  <a:lnTo>
                    <a:pt x="669" y="1254"/>
                  </a:lnTo>
                  <a:lnTo>
                    <a:pt x="669" y="1254"/>
                  </a:lnTo>
                  <a:lnTo>
                    <a:pt x="669" y="1254"/>
                  </a:lnTo>
                  <a:lnTo>
                    <a:pt x="647" y="1260"/>
                  </a:lnTo>
                  <a:lnTo>
                    <a:pt x="647" y="1260"/>
                  </a:lnTo>
                  <a:lnTo>
                    <a:pt x="647" y="1260"/>
                  </a:lnTo>
                  <a:lnTo>
                    <a:pt x="624" y="1265"/>
                  </a:lnTo>
                  <a:lnTo>
                    <a:pt x="624" y="1265"/>
                  </a:lnTo>
                  <a:lnTo>
                    <a:pt x="624" y="1265"/>
                  </a:lnTo>
                  <a:lnTo>
                    <a:pt x="601" y="1268"/>
                  </a:lnTo>
                  <a:lnTo>
                    <a:pt x="601" y="1268"/>
                  </a:lnTo>
                  <a:lnTo>
                    <a:pt x="601" y="1268"/>
                  </a:lnTo>
                  <a:lnTo>
                    <a:pt x="581" y="1274"/>
                  </a:lnTo>
                  <a:lnTo>
                    <a:pt x="581" y="1274"/>
                  </a:lnTo>
                  <a:lnTo>
                    <a:pt x="581" y="1274"/>
                  </a:lnTo>
                  <a:lnTo>
                    <a:pt x="558" y="1277"/>
                  </a:lnTo>
                  <a:lnTo>
                    <a:pt x="558" y="1277"/>
                  </a:lnTo>
                  <a:lnTo>
                    <a:pt x="558" y="1277"/>
                  </a:lnTo>
                  <a:lnTo>
                    <a:pt x="536" y="1280"/>
                  </a:lnTo>
                  <a:lnTo>
                    <a:pt x="536" y="1280"/>
                  </a:lnTo>
                  <a:lnTo>
                    <a:pt x="536" y="1280"/>
                  </a:lnTo>
                  <a:lnTo>
                    <a:pt x="513" y="1282"/>
                  </a:lnTo>
                  <a:lnTo>
                    <a:pt x="513" y="1282"/>
                  </a:lnTo>
                  <a:lnTo>
                    <a:pt x="513" y="1282"/>
                  </a:lnTo>
                  <a:lnTo>
                    <a:pt x="490" y="1285"/>
                  </a:lnTo>
                  <a:lnTo>
                    <a:pt x="490" y="1285"/>
                  </a:lnTo>
                  <a:lnTo>
                    <a:pt x="490" y="1285"/>
                  </a:lnTo>
                  <a:lnTo>
                    <a:pt x="467" y="1288"/>
                  </a:lnTo>
                  <a:lnTo>
                    <a:pt x="467" y="1288"/>
                  </a:lnTo>
                  <a:lnTo>
                    <a:pt x="467" y="1288"/>
                  </a:lnTo>
                  <a:lnTo>
                    <a:pt x="445" y="1291"/>
                  </a:lnTo>
                  <a:lnTo>
                    <a:pt x="445" y="1291"/>
                  </a:lnTo>
                  <a:lnTo>
                    <a:pt x="445" y="1291"/>
                  </a:lnTo>
                  <a:lnTo>
                    <a:pt x="425" y="1291"/>
                  </a:lnTo>
                  <a:lnTo>
                    <a:pt x="425" y="1291"/>
                  </a:lnTo>
                  <a:lnTo>
                    <a:pt x="425" y="1291"/>
                  </a:lnTo>
                  <a:lnTo>
                    <a:pt x="402" y="1291"/>
                  </a:lnTo>
                  <a:lnTo>
                    <a:pt x="402" y="1291"/>
                  </a:lnTo>
                  <a:lnTo>
                    <a:pt x="402" y="1291"/>
                  </a:lnTo>
                  <a:lnTo>
                    <a:pt x="379" y="1294"/>
                  </a:lnTo>
                  <a:lnTo>
                    <a:pt x="379" y="1294"/>
                  </a:lnTo>
                  <a:lnTo>
                    <a:pt x="379" y="1294"/>
                  </a:lnTo>
                  <a:lnTo>
                    <a:pt x="356" y="1294"/>
                  </a:lnTo>
                  <a:lnTo>
                    <a:pt x="356" y="1294"/>
                  </a:lnTo>
                  <a:lnTo>
                    <a:pt x="356" y="1294"/>
                  </a:lnTo>
                  <a:lnTo>
                    <a:pt x="334" y="1294"/>
                  </a:lnTo>
                  <a:lnTo>
                    <a:pt x="334" y="1294"/>
                  </a:lnTo>
                  <a:lnTo>
                    <a:pt x="334" y="1294"/>
                  </a:lnTo>
                  <a:lnTo>
                    <a:pt x="311" y="1291"/>
                  </a:lnTo>
                  <a:lnTo>
                    <a:pt x="311" y="1291"/>
                  </a:lnTo>
                  <a:lnTo>
                    <a:pt x="311" y="1291"/>
                  </a:lnTo>
                  <a:lnTo>
                    <a:pt x="288" y="1291"/>
                  </a:lnTo>
                  <a:lnTo>
                    <a:pt x="288" y="1291"/>
                  </a:lnTo>
                  <a:lnTo>
                    <a:pt x="288" y="1291"/>
                  </a:lnTo>
                  <a:lnTo>
                    <a:pt x="265" y="1291"/>
                  </a:lnTo>
                  <a:lnTo>
                    <a:pt x="265" y="1291"/>
                  </a:lnTo>
                  <a:lnTo>
                    <a:pt x="265" y="1291"/>
                  </a:lnTo>
                  <a:lnTo>
                    <a:pt x="242" y="1288"/>
                  </a:lnTo>
                  <a:lnTo>
                    <a:pt x="242" y="1288"/>
                  </a:lnTo>
                  <a:lnTo>
                    <a:pt x="242" y="1288"/>
                  </a:lnTo>
                  <a:lnTo>
                    <a:pt x="220" y="1285"/>
                  </a:lnTo>
                  <a:lnTo>
                    <a:pt x="220" y="1285"/>
                  </a:lnTo>
                  <a:lnTo>
                    <a:pt x="220" y="1285"/>
                  </a:lnTo>
                  <a:lnTo>
                    <a:pt x="197" y="1282"/>
                  </a:lnTo>
                  <a:lnTo>
                    <a:pt x="197" y="1282"/>
                  </a:lnTo>
                  <a:lnTo>
                    <a:pt x="197" y="1282"/>
                  </a:lnTo>
                  <a:lnTo>
                    <a:pt x="177" y="1280"/>
                  </a:lnTo>
                  <a:lnTo>
                    <a:pt x="177" y="1280"/>
                  </a:lnTo>
                  <a:lnTo>
                    <a:pt x="177" y="1280"/>
                  </a:lnTo>
                  <a:lnTo>
                    <a:pt x="154" y="1277"/>
                  </a:lnTo>
                  <a:lnTo>
                    <a:pt x="154" y="1277"/>
                  </a:lnTo>
                  <a:lnTo>
                    <a:pt x="154" y="1277"/>
                  </a:lnTo>
                  <a:lnTo>
                    <a:pt x="131" y="1274"/>
                  </a:lnTo>
                  <a:lnTo>
                    <a:pt x="131" y="1274"/>
                  </a:lnTo>
                  <a:lnTo>
                    <a:pt x="131" y="1274"/>
                  </a:lnTo>
                  <a:lnTo>
                    <a:pt x="109" y="1268"/>
                  </a:lnTo>
                  <a:lnTo>
                    <a:pt x="109" y="1268"/>
                  </a:lnTo>
                  <a:lnTo>
                    <a:pt x="109" y="1268"/>
                  </a:lnTo>
                  <a:lnTo>
                    <a:pt x="86" y="1265"/>
                  </a:lnTo>
                  <a:lnTo>
                    <a:pt x="86" y="1265"/>
                  </a:lnTo>
                  <a:lnTo>
                    <a:pt x="86" y="1265"/>
                  </a:lnTo>
                  <a:lnTo>
                    <a:pt x="66" y="1260"/>
                  </a:lnTo>
                  <a:lnTo>
                    <a:pt x="66" y="1260"/>
                  </a:lnTo>
                  <a:lnTo>
                    <a:pt x="66" y="1260"/>
                  </a:lnTo>
                  <a:lnTo>
                    <a:pt x="43" y="1254"/>
                  </a:lnTo>
                  <a:lnTo>
                    <a:pt x="43" y="1254"/>
                  </a:lnTo>
                  <a:lnTo>
                    <a:pt x="43" y="1254"/>
                  </a:lnTo>
                  <a:lnTo>
                    <a:pt x="20" y="1248"/>
                  </a:lnTo>
                  <a:lnTo>
                    <a:pt x="20" y="1248"/>
                  </a:lnTo>
                  <a:lnTo>
                    <a:pt x="20" y="1248"/>
                  </a:lnTo>
                  <a:lnTo>
                    <a:pt x="0" y="1243"/>
                  </a:lnTo>
                  <a:lnTo>
                    <a:pt x="0" y="1243"/>
                  </a:lnTo>
                  <a:lnTo>
                    <a:pt x="356" y="0"/>
                  </a:lnTo>
                  <a:lnTo>
                    <a:pt x="1040" y="1097"/>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218320" y="4725720"/>
              <a:ext cx="645840" cy="862920"/>
            </a:xfrm>
            <a:custGeom>
              <a:avLst/>
              <a:gdLst/>
              <a:ahLst/>
              <a:rect l="l" t="t" r="r" b="b"/>
              <a:pathLst>
                <a:path w="931" h="1243">
                  <a:moveTo>
                    <a:pt x="575" y="1243"/>
                  </a:moveTo>
                  <a:lnTo>
                    <a:pt x="575" y="1243"/>
                  </a:lnTo>
                  <a:lnTo>
                    <a:pt x="553" y="1237"/>
                  </a:lnTo>
                  <a:lnTo>
                    <a:pt x="553" y="1237"/>
                  </a:lnTo>
                  <a:lnTo>
                    <a:pt x="553" y="1237"/>
                  </a:lnTo>
                  <a:lnTo>
                    <a:pt x="530" y="1231"/>
                  </a:lnTo>
                  <a:lnTo>
                    <a:pt x="530" y="1231"/>
                  </a:lnTo>
                  <a:lnTo>
                    <a:pt x="530" y="1231"/>
                  </a:lnTo>
                  <a:lnTo>
                    <a:pt x="510" y="1223"/>
                  </a:lnTo>
                  <a:lnTo>
                    <a:pt x="510" y="1223"/>
                  </a:lnTo>
                  <a:lnTo>
                    <a:pt x="510" y="1223"/>
                  </a:lnTo>
                  <a:lnTo>
                    <a:pt x="487" y="1214"/>
                  </a:lnTo>
                  <a:lnTo>
                    <a:pt x="487" y="1214"/>
                  </a:lnTo>
                  <a:lnTo>
                    <a:pt x="487" y="1214"/>
                  </a:lnTo>
                  <a:lnTo>
                    <a:pt x="467" y="1208"/>
                  </a:lnTo>
                  <a:lnTo>
                    <a:pt x="467" y="1208"/>
                  </a:lnTo>
                  <a:lnTo>
                    <a:pt x="467" y="1208"/>
                  </a:lnTo>
                  <a:lnTo>
                    <a:pt x="447" y="1200"/>
                  </a:lnTo>
                  <a:lnTo>
                    <a:pt x="447" y="1200"/>
                  </a:lnTo>
                  <a:lnTo>
                    <a:pt x="447" y="1200"/>
                  </a:lnTo>
                  <a:lnTo>
                    <a:pt x="425" y="1191"/>
                  </a:lnTo>
                  <a:lnTo>
                    <a:pt x="425" y="1191"/>
                  </a:lnTo>
                  <a:lnTo>
                    <a:pt x="425" y="1191"/>
                  </a:lnTo>
                  <a:lnTo>
                    <a:pt x="405" y="1180"/>
                  </a:lnTo>
                  <a:lnTo>
                    <a:pt x="405" y="1180"/>
                  </a:lnTo>
                  <a:lnTo>
                    <a:pt x="405" y="1180"/>
                  </a:lnTo>
                  <a:lnTo>
                    <a:pt x="385" y="1171"/>
                  </a:lnTo>
                  <a:lnTo>
                    <a:pt x="385" y="1171"/>
                  </a:lnTo>
                  <a:lnTo>
                    <a:pt x="385" y="1171"/>
                  </a:lnTo>
                  <a:lnTo>
                    <a:pt x="365" y="1163"/>
                  </a:lnTo>
                  <a:lnTo>
                    <a:pt x="365" y="1163"/>
                  </a:lnTo>
                  <a:lnTo>
                    <a:pt x="365" y="1163"/>
                  </a:lnTo>
                  <a:lnTo>
                    <a:pt x="345" y="1151"/>
                  </a:lnTo>
                  <a:lnTo>
                    <a:pt x="345" y="1151"/>
                  </a:lnTo>
                  <a:lnTo>
                    <a:pt x="345" y="1151"/>
                  </a:lnTo>
                  <a:lnTo>
                    <a:pt x="325" y="1143"/>
                  </a:lnTo>
                  <a:lnTo>
                    <a:pt x="325" y="1143"/>
                  </a:lnTo>
                  <a:lnTo>
                    <a:pt x="325" y="1143"/>
                  </a:lnTo>
                  <a:lnTo>
                    <a:pt x="305" y="1131"/>
                  </a:lnTo>
                  <a:lnTo>
                    <a:pt x="305" y="1131"/>
                  </a:lnTo>
                  <a:lnTo>
                    <a:pt x="305" y="1131"/>
                  </a:lnTo>
                  <a:lnTo>
                    <a:pt x="285" y="1120"/>
                  </a:lnTo>
                  <a:lnTo>
                    <a:pt x="285" y="1120"/>
                  </a:lnTo>
                  <a:lnTo>
                    <a:pt x="285" y="1120"/>
                  </a:lnTo>
                  <a:lnTo>
                    <a:pt x="265" y="1109"/>
                  </a:lnTo>
                  <a:lnTo>
                    <a:pt x="265" y="1109"/>
                  </a:lnTo>
                  <a:lnTo>
                    <a:pt x="265" y="1109"/>
                  </a:lnTo>
                  <a:lnTo>
                    <a:pt x="245" y="1097"/>
                  </a:lnTo>
                  <a:lnTo>
                    <a:pt x="245" y="1097"/>
                  </a:lnTo>
                  <a:lnTo>
                    <a:pt x="245" y="1097"/>
                  </a:lnTo>
                  <a:lnTo>
                    <a:pt x="225" y="1086"/>
                  </a:lnTo>
                  <a:lnTo>
                    <a:pt x="225" y="1086"/>
                  </a:lnTo>
                  <a:lnTo>
                    <a:pt x="225" y="1086"/>
                  </a:lnTo>
                  <a:lnTo>
                    <a:pt x="208" y="1072"/>
                  </a:lnTo>
                  <a:lnTo>
                    <a:pt x="208" y="1072"/>
                  </a:lnTo>
                  <a:lnTo>
                    <a:pt x="208" y="1072"/>
                  </a:lnTo>
                  <a:lnTo>
                    <a:pt x="188" y="1060"/>
                  </a:lnTo>
                  <a:lnTo>
                    <a:pt x="188" y="1060"/>
                  </a:lnTo>
                  <a:lnTo>
                    <a:pt x="188" y="1060"/>
                  </a:lnTo>
                  <a:lnTo>
                    <a:pt x="171" y="1046"/>
                  </a:lnTo>
                  <a:lnTo>
                    <a:pt x="171" y="1046"/>
                  </a:lnTo>
                  <a:lnTo>
                    <a:pt x="171" y="1046"/>
                  </a:lnTo>
                  <a:lnTo>
                    <a:pt x="154" y="1032"/>
                  </a:lnTo>
                  <a:lnTo>
                    <a:pt x="154" y="1032"/>
                  </a:lnTo>
                  <a:lnTo>
                    <a:pt x="154" y="1032"/>
                  </a:lnTo>
                  <a:lnTo>
                    <a:pt x="134" y="1020"/>
                  </a:lnTo>
                  <a:lnTo>
                    <a:pt x="134" y="1020"/>
                  </a:lnTo>
                  <a:lnTo>
                    <a:pt x="134" y="1020"/>
                  </a:lnTo>
                  <a:lnTo>
                    <a:pt x="117" y="1006"/>
                  </a:lnTo>
                  <a:lnTo>
                    <a:pt x="117" y="1006"/>
                  </a:lnTo>
                  <a:lnTo>
                    <a:pt x="117" y="1006"/>
                  </a:lnTo>
                  <a:lnTo>
                    <a:pt x="100" y="992"/>
                  </a:lnTo>
                  <a:lnTo>
                    <a:pt x="100" y="992"/>
                  </a:lnTo>
                  <a:lnTo>
                    <a:pt x="100" y="992"/>
                  </a:lnTo>
                  <a:lnTo>
                    <a:pt x="83" y="975"/>
                  </a:lnTo>
                  <a:lnTo>
                    <a:pt x="83" y="975"/>
                  </a:lnTo>
                  <a:lnTo>
                    <a:pt x="83" y="975"/>
                  </a:lnTo>
                  <a:lnTo>
                    <a:pt x="66" y="960"/>
                  </a:lnTo>
                  <a:lnTo>
                    <a:pt x="66" y="960"/>
                  </a:lnTo>
                  <a:lnTo>
                    <a:pt x="66" y="960"/>
                  </a:lnTo>
                  <a:lnTo>
                    <a:pt x="49" y="946"/>
                  </a:lnTo>
                  <a:lnTo>
                    <a:pt x="49" y="946"/>
                  </a:lnTo>
                  <a:lnTo>
                    <a:pt x="49" y="946"/>
                  </a:lnTo>
                  <a:lnTo>
                    <a:pt x="32" y="929"/>
                  </a:lnTo>
                  <a:lnTo>
                    <a:pt x="32" y="929"/>
                  </a:lnTo>
                  <a:lnTo>
                    <a:pt x="32" y="929"/>
                  </a:lnTo>
                  <a:lnTo>
                    <a:pt x="18" y="915"/>
                  </a:lnTo>
                  <a:lnTo>
                    <a:pt x="18" y="915"/>
                  </a:lnTo>
                  <a:lnTo>
                    <a:pt x="18" y="915"/>
                  </a:lnTo>
                  <a:lnTo>
                    <a:pt x="0" y="898"/>
                  </a:lnTo>
                  <a:lnTo>
                    <a:pt x="0" y="898"/>
                  </a:lnTo>
                  <a:lnTo>
                    <a:pt x="931" y="0"/>
                  </a:lnTo>
                  <a:lnTo>
                    <a:pt x="575" y="1243"/>
                  </a:lnTo>
                  <a:close/>
                </a:path>
              </a:pathLst>
            </a:custGeom>
            <a:solidFill>
              <a:srgbClr val="cc99ff"/>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67760" y="4678560"/>
              <a:ext cx="896400" cy="670320"/>
            </a:xfrm>
            <a:custGeom>
              <a:avLst/>
              <a:gdLst/>
              <a:ahLst/>
              <a:rect l="l" t="t" r="r" b="b"/>
              <a:pathLst>
                <a:path w="1292" h="966">
                  <a:moveTo>
                    <a:pt x="361" y="966"/>
                  </a:moveTo>
                  <a:lnTo>
                    <a:pt x="361" y="966"/>
                  </a:lnTo>
                  <a:lnTo>
                    <a:pt x="347" y="949"/>
                  </a:lnTo>
                  <a:lnTo>
                    <a:pt x="347" y="949"/>
                  </a:lnTo>
                  <a:lnTo>
                    <a:pt x="347" y="949"/>
                  </a:lnTo>
                  <a:lnTo>
                    <a:pt x="330" y="934"/>
                  </a:lnTo>
                  <a:lnTo>
                    <a:pt x="330" y="934"/>
                  </a:lnTo>
                  <a:lnTo>
                    <a:pt x="330" y="934"/>
                  </a:lnTo>
                  <a:lnTo>
                    <a:pt x="316" y="917"/>
                  </a:lnTo>
                  <a:lnTo>
                    <a:pt x="316" y="917"/>
                  </a:lnTo>
                  <a:lnTo>
                    <a:pt x="316" y="917"/>
                  </a:lnTo>
                  <a:lnTo>
                    <a:pt x="302" y="900"/>
                  </a:lnTo>
                  <a:lnTo>
                    <a:pt x="302" y="900"/>
                  </a:lnTo>
                  <a:lnTo>
                    <a:pt x="302" y="900"/>
                  </a:lnTo>
                  <a:lnTo>
                    <a:pt x="287" y="880"/>
                  </a:lnTo>
                  <a:lnTo>
                    <a:pt x="287" y="880"/>
                  </a:lnTo>
                  <a:lnTo>
                    <a:pt x="287" y="880"/>
                  </a:lnTo>
                  <a:lnTo>
                    <a:pt x="273" y="863"/>
                  </a:lnTo>
                  <a:lnTo>
                    <a:pt x="273" y="863"/>
                  </a:lnTo>
                  <a:lnTo>
                    <a:pt x="273" y="863"/>
                  </a:lnTo>
                  <a:lnTo>
                    <a:pt x="259" y="846"/>
                  </a:lnTo>
                  <a:lnTo>
                    <a:pt x="259" y="846"/>
                  </a:lnTo>
                  <a:lnTo>
                    <a:pt x="259" y="846"/>
                  </a:lnTo>
                  <a:lnTo>
                    <a:pt x="245" y="829"/>
                  </a:lnTo>
                  <a:lnTo>
                    <a:pt x="245" y="829"/>
                  </a:lnTo>
                  <a:lnTo>
                    <a:pt x="245" y="829"/>
                  </a:lnTo>
                  <a:lnTo>
                    <a:pt x="233" y="809"/>
                  </a:lnTo>
                  <a:lnTo>
                    <a:pt x="233" y="809"/>
                  </a:lnTo>
                  <a:lnTo>
                    <a:pt x="233" y="809"/>
                  </a:lnTo>
                  <a:lnTo>
                    <a:pt x="219" y="792"/>
                  </a:lnTo>
                  <a:lnTo>
                    <a:pt x="219" y="792"/>
                  </a:lnTo>
                  <a:lnTo>
                    <a:pt x="219" y="792"/>
                  </a:lnTo>
                  <a:lnTo>
                    <a:pt x="208" y="772"/>
                  </a:lnTo>
                  <a:lnTo>
                    <a:pt x="208" y="772"/>
                  </a:lnTo>
                  <a:lnTo>
                    <a:pt x="208" y="772"/>
                  </a:lnTo>
                  <a:lnTo>
                    <a:pt x="196" y="752"/>
                  </a:lnTo>
                  <a:lnTo>
                    <a:pt x="196" y="752"/>
                  </a:lnTo>
                  <a:lnTo>
                    <a:pt x="196" y="752"/>
                  </a:lnTo>
                  <a:lnTo>
                    <a:pt x="185" y="735"/>
                  </a:lnTo>
                  <a:lnTo>
                    <a:pt x="185" y="735"/>
                  </a:lnTo>
                  <a:lnTo>
                    <a:pt x="185" y="735"/>
                  </a:lnTo>
                  <a:lnTo>
                    <a:pt x="174" y="715"/>
                  </a:lnTo>
                  <a:lnTo>
                    <a:pt x="174" y="715"/>
                  </a:lnTo>
                  <a:lnTo>
                    <a:pt x="174" y="715"/>
                  </a:lnTo>
                  <a:lnTo>
                    <a:pt x="162" y="695"/>
                  </a:lnTo>
                  <a:lnTo>
                    <a:pt x="162" y="695"/>
                  </a:lnTo>
                  <a:lnTo>
                    <a:pt x="162" y="695"/>
                  </a:lnTo>
                  <a:lnTo>
                    <a:pt x="151" y="675"/>
                  </a:lnTo>
                  <a:lnTo>
                    <a:pt x="151" y="675"/>
                  </a:lnTo>
                  <a:lnTo>
                    <a:pt x="151" y="675"/>
                  </a:lnTo>
                  <a:lnTo>
                    <a:pt x="139" y="655"/>
                  </a:lnTo>
                  <a:lnTo>
                    <a:pt x="139" y="655"/>
                  </a:lnTo>
                  <a:lnTo>
                    <a:pt x="139" y="655"/>
                  </a:lnTo>
                  <a:lnTo>
                    <a:pt x="131" y="635"/>
                  </a:lnTo>
                  <a:lnTo>
                    <a:pt x="131" y="635"/>
                  </a:lnTo>
                  <a:lnTo>
                    <a:pt x="131" y="635"/>
                  </a:lnTo>
                  <a:lnTo>
                    <a:pt x="119" y="615"/>
                  </a:lnTo>
                  <a:lnTo>
                    <a:pt x="119" y="615"/>
                  </a:lnTo>
                  <a:lnTo>
                    <a:pt x="119" y="615"/>
                  </a:lnTo>
                  <a:lnTo>
                    <a:pt x="111" y="593"/>
                  </a:lnTo>
                  <a:lnTo>
                    <a:pt x="111" y="593"/>
                  </a:lnTo>
                  <a:lnTo>
                    <a:pt x="111" y="593"/>
                  </a:lnTo>
                  <a:lnTo>
                    <a:pt x="102" y="573"/>
                  </a:lnTo>
                  <a:lnTo>
                    <a:pt x="102" y="573"/>
                  </a:lnTo>
                  <a:lnTo>
                    <a:pt x="102" y="573"/>
                  </a:lnTo>
                  <a:lnTo>
                    <a:pt x="94" y="553"/>
                  </a:lnTo>
                  <a:lnTo>
                    <a:pt x="94" y="553"/>
                  </a:lnTo>
                  <a:lnTo>
                    <a:pt x="94" y="553"/>
                  </a:lnTo>
                  <a:lnTo>
                    <a:pt x="85" y="530"/>
                  </a:lnTo>
                  <a:lnTo>
                    <a:pt x="85" y="530"/>
                  </a:lnTo>
                  <a:lnTo>
                    <a:pt x="85" y="530"/>
                  </a:lnTo>
                  <a:lnTo>
                    <a:pt x="77" y="510"/>
                  </a:lnTo>
                  <a:lnTo>
                    <a:pt x="77" y="510"/>
                  </a:lnTo>
                  <a:lnTo>
                    <a:pt x="77" y="510"/>
                  </a:lnTo>
                  <a:lnTo>
                    <a:pt x="68" y="490"/>
                  </a:lnTo>
                  <a:lnTo>
                    <a:pt x="68" y="490"/>
                  </a:lnTo>
                  <a:lnTo>
                    <a:pt x="68" y="490"/>
                  </a:lnTo>
                  <a:lnTo>
                    <a:pt x="63" y="467"/>
                  </a:lnTo>
                  <a:lnTo>
                    <a:pt x="63" y="467"/>
                  </a:lnTo>
                  <a:lnTo>
                    <a:pt x="63" y="467"/>
                  </a:lnTo>
                  <a:lnTo>
                    <a:pt x="57" y="444"/>
                  </a:lnTo>
                  <a:lnTo>
                    <a:pt x="57" y="444"/>
                  </a:lnTo>
                  <a:lnTo>
                    <a:pt x="57" y="444"/>
                  </a:lnTo>
                  <a:lnTo>
                    <a:pt x="48" y="424"/>
                  </a:lnTo>
                  <a:lnTo>
                    <a:pt x="48" y="424"/>
                  </a:lnTo>
                  <a:lnTo>
                    <a:pt x="48" y="424"/>
                  </a:lnTo>
                  <a:lnTo>
                    <a:pt x="43" y="402"/>
                  </a:lnTo>
                  <a:lnTo>
                    <a:pt x="43" y="402"/>
                  </a:lnTo>
                  <a:lnTo>
                    <a:pt x="43" y="402"/>
                  </a:lnTo>
                  <a:lnTo>
                    <a:pt x="37" y="382"/>
                  </a:lnTo>
                  <a:lnTo>
                    <a:pt x="37" y="382"/>
                  </a:lnTo>
                  <a:lnTo>
                    <a:pt x="37" y="382"/>
                  </a:lnTo>
                  <a:lnTo>
                    <a:pt x="31" y="359"/>
                  </a:lnTo>
                  <a:lnTo>
                    <a:pt x="31" y="359"/>
                  </a:lnTo>
                  <a:lnTo>
                    <a:pt x="31" y="359"/>
                  </a:lnTo>
                  <a:lnTo>
                    <a:pt x="28" y="336"/>
                  </a:lnTo>
                  <a:lnTo>
                    <a:pt x="28" y="336"/>
                  </a:lnTo>
                  <a:lnTo>
                    <a:pt x="28" y="336"/>
                  </a:lnTo>
                  <a:lnTo>
                    <a:pt x="23" y="313"/>
                  </a:lnTo>
                  <a:lnTo>
                    <a:pt x="23" y="313"/>
                  </a:lnTo>
                  <a:lnTo>
                    <a:pt x="23" y="313"/>
                  </a:lnTo>
                  <a:lnTo>
                    <a:pt x="20" y="293"/>
                  </a:lnTo>
                  <a:lnTo>
                    <a:pt x="20" y="293"/>
                  </a:lnTo>
                  <a:lnTo>
                    <a:pt x="20" y="293"/>
                  </a:lnTo>
                  <a:lnTo>
                    <a:pt x="14" y="271"/>
                  </a:lnTo>
                  <a:lnTo>
                    <a:pt x="14" y="271"/>
                  </a:lnTo>
                  <a:lnTo>
                    <a:pt x="14" y="271"/>
                  </a:lnTo>
                  <a:lnTo>
                    <a:pt x="11" y="248"/>
                  </a:lnTo>
                  <a:lnTo>
                    <a:pt x="11" y="248"/>
                  </a:lnTo>
                  <a:lnTo>
                    <a:pt x="11" y="248"/>
                  </a:lnTo>
                  <a:lnTo>
                    <a:pt x="8" y="225"/>
                  </a:lnTo>
                  <a:lnTo>
                    <a:pt x="8" y="225"/>
                  </a:lnTo>
                  <a:lnTo>
                    <a:pt x="8" y="225"/>
                  </a:lnTo>
                  <a:lnTo>
                    <a:pt x="6" y="202"/>
                  </a:lnTo>
                  <a:lnTo>
                    <a:pt x="6" y="202"/>
                  </a:lnTo>
                  <a:lnTo>
                    <a:pt x="6" y="202"/>
                  </a:lnTo>
                  <a:lnTo>
                    <a:pt x="3" y="179"/>
                  </a:lnTo>
                  <a:lnTo>
                    <a:pt x="3" y="179"/>
                  </a:lnTo>
                  <a:lnTo>
                    <a:pt x="3" y="179"/>
                  </a:lnTo>
                  <a:lnTo>
                    <a:pt x="3" y="157"/>
                  </a:lnTo>
                  <a:lnTo>
                    <a:pt x="3" y="157"/>
                  </a:lnTo>
                  <a:lnTo>
                    <a:pt x="3" y="157"/>
                  </a:lnTo>
                  <a:lnTo>
                    <a:pt x="0" y="137"/>
                  </a:lnTo>
                  <a:lnTo>
                    <a:pt x="0" y="137"/>
                  </a:lnTo>
                  <a:lnTo>
                    <a:pt x="0" y="137"/>
                  </a:lnTo>
                  <a:lnTo>
                    <a:pt x="0" y="114"/>
                  </a:lnTo>
                  <a:lnTo>
                    <a:pt x="0" y="114"/>
                  </a:lnTo>
                  <a:lnTo>
                    <a:pt x="0" y="114"/>
                  </a:lnTo>
                  <a:lnTo>
                    <a:pt x="0" y="91"/>
                  </a:lnTo>
                  <a:lnTo>
                    <a:pt x="0" y="91"/>
                  </a:lnTo>
                  <a:lnTo>
                    <a:pt x="0" y="91"/>
                  </a:lnTo>
                  <a:lnTo>
                    <a:pt x="0" y="68"/>
                  </a:lnTo>
                  <a:lnTo>
                    <a:pt x="0" y="68"/>
                  </a:lnTo>
                  <a:lnTo>
                    <a:pt x="0" y="68"/>
                  </a:lnTo>
                  <a:lnTo>
                    <a:pt x="0" y="46"/>
                  </a:lnTo>
                  <a:lnTo>
                    <a:pt x="0" y="46"/>
                  </a:lnTo>
                  <a:lnTo>
                    <a:pt x="0" y="46"/>
                  </a:lnTo>
                  <a:lnTo>
                    <a:pt x="0" y="23"/>
                  </a:lnTo>
                  <a:lnTo>
                    <a:pt x="0" y="23"/>
                  </a:lnTo>
                  <a:lnTo>
                    <a:pt x="0" y="23"/>
                  </a:lnTo>
                  <a:lnTo>
                    <a:pt x="0" y="0"/>
                  </a:lnTo>
                  <a:lnTo>
                    <a:pt x="0" y="0"/>
                  </a:lnTo>
                  <a:lnTo>
                    <a:pt x="1292" y="68"/>
                  </a:lnTo>
                  <a:lnTo>
                    <a:pt x="361" y="96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967760" y="4678560"/>
              <a:ext cx="896400" cy="670320"/>
            </a:xfrm>
            <a:custGeom>
              <a:avLst/>
              <a:gdLst/>
              <a:ahLst/>
              <a:rect l="l" t="t" r="r" b="b"/>
              <a:pathLst>
                <a:path w="1292" h="966">
                  <a:moveTo>
                    <a:pt x="361" y="966"/>
                  </a:moveTo>
                  <a:lnTo>
                    <a:pt x="361" y="966"/>
                  </a:lnTo>
                  <a:lnTo>
                    <a:pt x="347" y="949"/>
                  </a:lnTo>
                  <a:lnTo>
                    <a:pt x="347" y="949"/>
                  </a:lnTo>
                  <a:lnTo>
                    <a:pt x="347" y="949"/>
                  </a:lnTo>
                  <a:lnTo>
                    <a:pt x="330" y="934"/>
                  </a:lnTo>
                  <a:lnTo>
                    <a:pt x="330" y="934"/>
                  </a:lnTo>
                  <a:lnTo>
                    <a:pt x="330" y="934"/>
                  </a:lnTo>
                  <a:lnTo>
                    <a:pt x="316" y="917"/>
                  </a:lnTo>
                  <a:lnTo>
                    <a:pt x="316" y="917"/>
                  </a:lnTo>
                  <a:lnTo>
                    <a:pt x="316" y="917"/>
                  </a:lnTo>
                  <a:lnTo>
                    <a:pt x="302" y="900"/>
                  </a:lnTo>
                  <a:lnTo>
                    <a:pt x="302" y="900"/>
                  </a:lnTo>
                  <a:lnTo>
                    <a:pt x="302" y="900"/>
                  </a:lnTo>
                  <a:lnTo>
                    <a:pt x="287" y="880"/>
                  </a:lnTo>
                  <a:lnTo>
                    <a:pt x="287" y="880"/>
                  </a:lnTo>
                  <a:lnTo>
                    <a:pt x="287" y="880"/>
                  </a:lnTo>
                  <a:lnTo>
                    <a:pt x="273" y="863"/>
                  </a:lnTo>
                  <a:lnTo>
                    <a:pt x="273" y="863"/>
                  </a:lnTo>
                  <a:lnTo>
                    <a:pt x="273" y="863"/>
                  </a:lnTo>
                  <a:lnTo>
                    <a:pt x="259" y="846"/>
                  </a:lnTo>
                  <a:lnTo>
                    <a:pt x="259" y="846"/>
                  </a:lnTo>
                  <a:lnTo>
                    <a:pt x="259" y="846"/>
                  </a:lnTo>
                  <a:lnTo>
                    <a:pt x="245" y="829"/>
                  </a:lnTo>
                  <a:lnTo>
                    <a:pt x="245" y="829"/>
                  </a:lnTo>
                  <a:lnTo>
                    <a:pt x="245" y="829"/>
                  </a:lnTo>
                  <a:lnTo>
                    <a:pt x="233" y="809"/>
                  </a:lnTo>
                  <a:lnTo>
                    <a:pt x="233" y="809"/>
                  </a:lnTo>
                  <a:lnTo>
                    <a:pt x="233" y="809"/>
                  </a:lnTo>
                  <a:lnTo>
                    <a:pt x="219" y="792"/>
                  </a:lnTo>
                  <a:lnTo>
                    <a:pt x="219" y="792"/>
                  </a:lnTo>
                  <a:lnTo>
                    <a:pt x="219" y="792"/>
                  </a:lnTo>
                  <a:lnTo>
                    <a:pt x="208" y="772"/>
                  </a:lnTo>
                  <a:lnTo>
                    <a:pt x="208" y="772"/>
                  </a:lnTo>
                  <a:lnTo>
                    <a:pt x="208" y="772"/>
                  </a:lnTo>
                  <a:lnTo>
                    <a:pt x="196" y="752"/>
                  </a:lnTo>
                  <a:lnTo>
                    <a:pt x="196" y="752"/>
                  </a:lnTo>
                  <a:lnTo>
                    <a:pt x="196" y="752"/>
                  </a:lnTo>
                  <a:lnTo>
                    <a:pt x="185" y="735"/>
                  </a:lnTo>
                  <a:lnTo>
                    <a:pt x="185" y="735"/>
                  </a:lnTo>
                  <a:lnTo>
                    <a:pt x="185" y="735"/>
                  </a:lnTo>
                  <a:lnTo>
                    <a:pt x="174" y="715"/>
                  </a:lnTo>
                  <a:lnTo>
                    <a:pt x="174" y="715"/>
                  </a:lnTo>
                  <a:lnTo>
                    <a:pt x="174" y="715"/>
                  </a:lnTo>
                  <a:lnTo>
                    <a:pt x="162" y="695"/>
                  </a:lnTo>
                  <a:lnTo>
                    <a:pt x="162" y="695"/>
                  </a:lnTo>
                  <a:lnTo>
                    <a:pt x="162" y="695"/>
                  </a:lnTo>
                  <a:lnTo>
                    <a:pt x="151" y="675"/>
                  </a:lnTo>
                  <a:lnTo>
                    <a:pt x="151" y="675"/>
                  </a:lnTo>
                  <a:lnTo>
                    <a:pt x="151" y="675"/>
                  </a:lnTo>
                  <a:lnTo>
                    <a:pt x="139" y="655"/>
                  </a:lnTo>
                  <a:lnTo>
                    <a:pt x="139" y="655"/>
                  </a:lnTo>
                  <a:lnTo>
                    <a:pt x="139" y="655"/>
                  </a:lnTo>
                  <a:lnTo>
                    <a:pt x="131" y="635"/>
                  </a:lnTo>
                  <a:lnTo>
                    <a:pt x="131" y="635"/>
                  </a:lnTo>
                  <a:lnTo>
                    <a:pt x="131" y="635"/>
                  </a:lnTo>
                  <a:lnTo>
                    <a:pt x="119" y="615"/>
                  </a:lnTo>
                  <a:lnTo>
                    <a:pt x="119" y="615"/>
                  </a:lnTo>
                  <a:lnTo>
                    <a:pt x="119" y="615"/>
                  </a:lnTo>
                  <a:lnTo>
                    <a:pt x="111" y="593"/>
                  </a:lnTo>
                  <a:lnTo>
                    <a:pt x="111" y="593"/>
                  </a:lnTo>
                  <a:lnTo>
                    <a:pt x="111" y="593"/>
                  </a:lnTo>
                  <a:lnTo>
                    <a:pt x="102" y="573"/>
                  </a:lnTo>
                  <a:lnTo>
                    <a:pt x="102" y="573"/>
                  </a:lnTo>
                  <a:lnTo>
                    <a:pt x="102" y="573"/>
                  </a:lnTo>
                  <a:lnTo>
                    <a:pt x="94" y="553"/>
                  </a:lnTo>
                  <a:lnTo>
                    <a:pt x="94" y="553"/>
                  </a:lnTo>
                  <a:lnTo>
                    <a:pt x="94" y="553"/>
                  </a:lnTo>
                  <a:lnTo>
                    <a:pt x="85" y="530"/>
                  </a:lnTo>
                  <a:lnTo>
                    <a:pt x="85" y="530"/>
                  </a:lnTo>
                  <a:lnTo>
                    <a:pt x="85" y="530"/>
                  </a:lnTo>
                  <a:lnTo>
                    <a:pt x="77" y="510"/>
                  </a:lnTo>
                  <a:lnTo>
                    <a:pt x="77" y="510"/>
                  </a:lnTo>
                  <a:lnTo>
                    <a:pt x="77" y="510"/>
                  </a:lnTo>
                  <a:lnTo>
                    <a:pt x="68" y="490"/>
                  </a:lnTo>
                  <a:lnTo>
                    <a:pt x="68" y="490"/>
                  </a:lnTo>
                  <a:lnTo>
                    <a:pt x="68" y="490"/>
                  </a:lnTo>
                  <a:lnTo>
                    <a:pt x="63" y="467"/>
                  </a:lnTo>
                  <a:lnTo>
                    <a:pt x="63" y="467"/>
                  </a:lnTo>
                  <a:lnTo>
                    <a:pt x="63" y="467"/>
                  </a:lnTo>
                  <a:lnTo>
                    <a:pt x="57" y="444"/>
                  </a:lnTo>
                  <a:lnTo>
                    <a:pt x="57" y="444"/>
                  </a:lnTo>
                  <a:lnTo>
                    <a:pt x="57" y="444"/>
                  </a:lnTo>
                  <a:lnTo>
                    <a:pt x="48" y="424"/>
                  </a:lnTo>
                  <a:lnTo>
                    <a:pt x="48" y="424"/>
                  </a:lnTo>
                  <a:lnTo>
                    <a:pt x="48" y="424"/>
                  </a:lnTo>
                  <a:lnTo>
                    <a:pt x="43" y="402"/>
                  </a:lnTo>
                  <a:lnTo>
                    <a:pt x="43" y="402"/>
                  </a:lnTo>
                  <a:lnTo>
                    <a:pt x="43" y="402"/>
                  </a:lnTo>
                  <a:lnTo>
                    <a:pt x="37" y="382"/>
                  </a:lnTo>
                  <a:lnTo>
                    <a:pt x="37" y="382"/>
                  </a:lnTo>
                  <a:lnTo>
                    <a:pt x="37" y="382"/>
                  </a:lnTo>
                  <a:lnTo>
                    <a:pt x="31" y="359"/>
                  </a:lnTo>
                  <a:lnTo>
                    <a:pt x="31" y="359"/>
                  </a:lnTo>
                  <a:lnTo>
                    <a:pt x="31" y="359"/>
                  </a:lnTo>
                  <a:lnTo>
                    <a:pt x="28" y="336"/>
                  </a:lnTo>
                  <a:lnTo>
                    <a:pt x="28" y="336"/>
                  </a:lnTo>
                  <a:lnTo>
                    <a:pt x="28" y="336"/>
                  </a:lnTo>
                  <a:lnTo>
                    <a:pt x="23" y="313"/>
                  </a:lnTo>
                  <a:lnTo>
                    <a:pt x="23" y="313"/>
                  </a:lnTo>
                  <a:lnTo>
                    <a:pt x="23" y="313"/>
                  </a:lnTo>
                  <a:lnTo>
                    <a:pt x="20" y="293"/>
                  </a:lnTo>
                  <a:lnTo>
                    <a:pt x="20" y="293"/>
                  </a:lnTo>
                  <a:lnTo>
                    <a:pt x="20" y="293"/>
                  </a:lnTo>
                  <a:lnTo>
                    <a:pt x="14" y="271"/>
                  </a:lnTo>
                  <a:lnTo>
                    <a:pt x="14" y="271"/>
                  </a:lnTo>
                  <a:lnTo>
                    <a:pt x="14" y="271"/>
                  </a:lnTo>
                  <a:lnTo>
                    <a:pt x="11" y="248"/>
                  </a:lnTo>
                  <a:lnTo>
                    <a:pt x="11" y="248"/>
                  </a:lnTo>
                  <a:lnTo>
                    <a:pt x="11" y="248"/>
                  </a:lnTo>
                  <a:lnTo>
                    <a:pt x="8" y="225"/>
                  </a:lnTo>
                  <a:lnTo>
                    <a:pt x="8" y="225"/>
                  </a:lnTo>
                  <a:lnTo>
                    <a:pt x="8" y="225"/>
                  </a:lnTo>
                  <a:lnTo>
                    <a:pt x="6" y="202"/>
                  </a:lnTo>
                  <a:lnTo>
                    <a:pt x="6" y="202"/>
                  </a:lnTo>
                  <a:lnTo>
                    <a:pt x="6" y="202"/>
                  </a:lnTo>
                  <a:lnTo>
                    <a:pt x="3" y="179"/>
                  </a:lnTo>
                  <a:lnTo>
                    <a:pt x="3" y="179"/>
                  </a:lnTo>
                  <a:lnTo>
                    <a:pt x="3" y="179"/>
                  </a:lnTo>
                  <a:lnTo>
                    <a:pt x="3" y="157"/>
                  </a:lnTo>
                  <a:lnTo>
                    <a:pt x="3" y="157"/>
                  </a:lnTo>
                  <a:lnTo>
                    <a:pt x="3" y="157"/>
                  </a:lnTo>
                  <a:lnTo>
                    <a:pt x="0" y="137"/>
                  </a:lnTo>
                  <a:lnTo>
                    <a:pt x="0" y="137"/>
                  </a:lnTo>
                  <a:lnTo>
                    <a:pt x="0" y="137"/>
                  </a:lnTo>
                  <a:lnTo>
                    <a:pt x="0" y="114"/>
                  </a:lnTo>
                  <a:lnTo>
                    <a:pt x="0" y="114"/>
                  </a:lnTo>
                  <a:lnTo>
                    <a:pt x="0" y="114"/>
                  </a:lnTo>
                  <a:lnTo>
                    <a:pt x="0" y="91"/>
                  </a:lnTo>
                  <a:lnTo>
                    <a:pt x="0" y="91"/>
                  </a:lnTo>
                  <a:lnTo>
                    <a:pt x="0" y="91"/>
                  </a:lnTo>
                  <a:lnTo>
                    <a:pt x="0" y="68"/>
                  </a:lnTo>
                  <a:lnTo>
                    <a:pt x="0" y="68"/>
                  </a:lnTo>
                  <a:lnTo>
                    <a:pt x="0" y="68"/>
                  </a:lnTo>
                  <a:lnTo>
                    <a:pt x="0" y="46"/>
                  </a:lnTo>
                  <a:lnTo>
                    <a:pt x="0" y="46"/>
                  </a:lnTo>
                  <a:lnTo>
                    <a:pt x="0" y="46"/>
                  </a:lnTo>
                  <a:lnTo>
                    <a:pt x="0" y="23"/>
                  </a:lnTo>
                  <a:lnTo>
                    <a:pt x="0" y="23"/>
                  </a:lnTo>
                  <a:lnTo>
                    <a:pt x="0" y="23"/>
                  </a:lnTo>
                  <a:lnTo>
                    <a:pt x="0" y="0"/>
                  </a:lnTo>
                  <a:lnTo>
                    <a:pt x="0" y="0"/>
                  </a:lnTo>
                  <a:lnTo>
                    <a:pt x="1292" y="68"/>
                  </a:lnTo>
                  <a:lnTo>
                    <a:pt x="361" y="966"/>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967760" y="3827880"/>
              <a:ext cx="896400" cy="897840"/>
            </a:xfrm>
            <a:custGeom>
              <a:avLst/>
              <a:gdLst/>
              <a:ahLst/>
              <a:rect l="l" t="t" r="r" b="b"/>
              <a:pathLst>
                <a:path w="1292" h="1293">
                  <a:moveTo>
                    <a:pt x="0" y="1225"/>
                  </a:moveTo>
                  <a:lnTo>
                    <a:pt x="0" y="1225"/>
                  </a:lnTo>
                  <a:lnTo>
                    <a:pt x="3" y="1202"/>
                  </a:lnTo>
                  <a:lnTo>
                    <a:pt x="3" y="1202"/>
                  </a:lnTo>
                  <a:lnTo>
                    <a:pt x="3" y="1202"/>
                  </a:lnTo>
                  <a:lnTo>
                    <a:pt x="3" y="1179"/>
                  </a:lnTo>
                  <a:lnTo>
                    <a:pt x="3" y="1179"/>
                  </a:lnTo>
                  <a:lnTo>
                    <a:pt x="3" y="1179"/>
                  </a:lnTo>
                  <a:lnTo>
                    <a:pt x="6" y="1157"/>
                  </a:lnTo>
                  <a:lnTo>
                    <a:pt x="6" y="1157"/>
                  </a:lnTo>
                  <a:lnTo>
                    <a:pt x="6" y="1157"/>
                  </a:lnTo>
                  <a:lnTo>
                    <a:pt x="8" y="1134"/>
                  </a:lnTo>
                  <a:lnTo>
                    <a:pt x="8" y="1134"/>
                  </a:lnTo>
                  <a:lnTo>
                    <a:pt x="8" y="1134"/>
                  </a:lnTo>
                  <a:lnTo>
                    <a:pt x="11" y="1114"/>
                  </a:lnTo>
                  <a:lnTo>
                    <a:pt x="11" y="1114"/>
                  </a:lnTo>
                  <a:lnTo>
                    <a:pt x="11" y="1114"/>
                  </a:lnTo>
                  <a:lnTo>
                    <a:pt x="14" y="1091"/>
                  </a:lnTo>
                  <a:lnTo>
                    <a:pt x="14" y="1091"/>
                  </a:lnTo>
                  <a:lnTo>
                    <a:pt x="14" y="1091"/>
                  </a:lnTo>
                  <a:lnTo>
                    <a:pt x="20" y="1068"/>
                  </a:lnTo>
                  <a:lnTo>
                    <a:pt x="20" y="1068"/>
                  </a:lnTo>
                  <a:lnTo>
                    <a:pt x="20" y="1068"/>
                  </a:lnTo>
                  <a:lnTo>
                    <a:pt x="23" y="1045"/>
                  </a:lnTo>
                  <a:lnTo>
                    <a:pt x="23" y="1045"/>
                  </a:lnTo>
                  <a:lnTo>
                    <a:pt x="23" y="1045"/>
                  </a:lnTo>
                  <a:lnTo>
                    <a:pt x="28" y="1023"/>
                  </a:lnTo>
                  <a:lnTo>
                    <a:pt x="28" y="1023"/>
                  </a:lnTo>
                  <a:lnTo>
                    <a:pt x="28" y="1023"/>
                  </a:lnTo>
                  <a:lnTo>
                    <a:pt x="31" y="1003"/>
                  </a:lnTo>
                  <a:lnTo>
                    <a:pt x="31" y="1003"/>
                  </a:lnTo>
                  <a:lnTo>
                    <a:pt x="31" y="1003"/>
                  </a:lnTo>
                  <a:lnTo>
                    <a:pt x="37" y="980"/>
                  </a:lnTo>
                  <a:lnTo>
                    <a:pt x="37" y="980"/>
                  </a:lnTo>
                  <a:lnTo>
                    <a:pt x="37" y="980"/>
                  </a:lnTo>
                  <a:lnTo>
                    <a:pt x="43" y="957"/>
                  </a:lnTo>
                  <a:lnTo>
                    <a:pt x="43" y="957"/>
                  </a:lnTo>
                  <a:lnTo>
                    <a:pt x="43" y="957"/>
                  </a:lnTo>
                  <a:lnTo>
                    <a:pt x="48" y="937"/>
                  </a:lnTo>
                  <a:lnTo>
                    <a:pt x="48" y="937"/>
                  </a:lnTo>
                  <a:lnTo>
                    <a:pt x="48" y="937"/>
                  </a:lnTo>
                  <a:lnTo>
                    <a:pt x="57" y="914"/>
                  </a:lnTo>
                  <a:lnTo>
                    <a:pt x="57" y="914"/>
                  </a:lnTo>
                  <a:lnTo>
                    <a:pt x="57" y="914"/>
                  </a:lnTo>
                  <a:lnTo>
                    <a:pt x="63" y="892"/>
                  </a:lnTo>
                  <a:lnTo>
                    <a:pt x="63" y="892"/>
                  </a:lnTo>
                  <a:lnTo>
                    <a:pt x="63" y="892"/>
                  </a:lnTo>
                  <a:lnTo>
                    <a:pt x="68" y="872"/>
                  </a:lnTo>
                  <a:lnTo>
                    <a:pt x="68" y="872"/>
                  </a:lnTo>
                  <a:lnTo>
                    <a:pt x="68" y="872"/>
                  </a:lnTo>
                  <a:lnTo>
                    <a:pt x="77" y="849"/>
                  </a:lnTo>
                  <a:lnTo>
                    <a:pt x="77" y="849"/>
                  </a:lnTo>
                  <a:lnTo>
                    <a:pt x="77" y="849"/>
                  </a:lnTo>
                  <a:lnTo>
                    <a:pt x="85" y="829"/>
                  </a:lnTo>
                  <a:lnTo>
                    <a:pt x="85" y="829"/>
                  </a:lnTo>
                  <a:lnTo>
                    <a:pt x="85" y="829"/>
                  </a:lnTo>
                  <a:lnTo>
                    <a:pt x="94" y="809"/>
                  </a:lnTo>
                  <a:lnTo>
                    <a:pt x="94" y="809"/>
                  </a:lnTo>
                  <a:lnTo>
                    <a:pt x="94" y="809"/>
                  </a:lnTo>
                  <a:lnTo>
                    <a:pt x="102" y="786"/>
                  </a:lnTo>
                  <a:lnTo>
                    <a:pt x="102" y="786"/>
                  </a:lnTo>
                  <a:lnTo>
                    <a:pt x="102" y="786"/>
                  </a:lnTo>
                  <a:lnTo>
                    <a:pt x="111" y="766"/>
                  </a:lnTo>
                  <a:lnTo>
                    <a:pt x="111" y="766"/>
                  </a:lnTo>
                  <a:lnTo>
                    <a:pt x="111" y="766"/>
                  </a:lnTo>
                  <a:lnTo>
                    <a:pt x="119" y="746"/>
                  </a:lnTo>
                  <a:lnTo>
                    <a:pt x="119" y="746"/>
                  </a:lnTo>
                  <a:lnTo>
                    <a:pt x="119" y="746"/>
                  </a:lnTo>
                  <a:lnTo>
                    <a:pt x="131" y="726"/>
                  </a:lnTo>
                  <a:lnTo>
                    <a:pt x="131" y="726"/>
                  </a:lnTo>
                  <a:lnTo>
                    <a:pt x="131" y="726"/>
                  </a:lnTo>
                  <a:lnTo>
                    <a:pt x="139" y="706"/>
                  </a:lnTo>
                  <a:lnTo>
                    <a:pt x="139" y="706"/>
                  </a:lnTo>
                  <a:lnTo>
                    <a:pt x="139" y="706"/>
                  </a:lnTo>
                  <a:lnTo>
                    <a:pt x="151" y="686"/>
                  </a:lnTo>
                  <a:lnTo>
                    <a:pt x="151" y="686"/>
                  </a:lnTo>
                  <a:lnTo>
                    <a:pt x="151" y="686"/>
                  </a:lnTo>
                  <a:lnTo>
                    <a:pt x="162" y="667"/>
                  </a:lnTo>
                  <a:lnTo>
                    <a:pt x="162" y="667"/>
                  </a:lnTo>
                  <a:lnTo>
                    <a:pt x="162" y="667"/>
                  </a:lnTo>
                  <a:lnTo>
                    <a:pt x="174" y="647"/>
                  </a:lnTo>
                  <a:lnTo>
                    <a:pt x="174" y="647"/>
                  </a:lnTo>
                  <a:lnTo>
                    <a:pt x="174" y="647"/>
                  </a:lnTo>
                  <a:lnTo>
                    <a:pt x="185" y="627"/>
                  </a:lnTo>
                  <a:lnTo>
                    <a:pt x="185" y="627"/>
                  </a:lnTo>
                  <a:lnTo>
                    <a:pt x="185" y="627"/>
                  </a:lnTo>
                  <a:lnTo>
                    <a:pt x="196" y="607"/>
                  </a:lnTo>
                  <a:lnTo>
                    <a:pt x="196" y="607"/>
                  </a:lnTo>
                  <a:lnTo>
                    <a:pt x="196" y="607"/>
                  </a:lnTo>
                  <a:lnTo>
                    <a:pt x="208" y="587"/>
                  </a:lnTo>
                  <a:lnTo>
                    <a:pt x="208" y="587"/>
                  </a:lnTo>
                  <a:lnTo>
                    <a:pt x="208" y="587"/>
                  </a:lnTo>
                  <a:lnTo>
                    <a:pt x="219" y="570"/>
                  </a:lnTo>
                  <a:lnTo>
                    <a:pt x="219" y="570"/>
                  </a:lnTo>
                  <a:lnTo>
                    <a:pt x="219" y="570"/>
                  </a:lnTo>
                  <a:lnTo>
                    <a:pt x="233" y="550"/>
                  </a:lnTo>
                  <a:lnTo>
                    <a:pt x="233" y="550"/>
                  </a:lnTo>
                  <a:lnTo>
                    <a:pt x="233" y="550"/>
                  </a:lnTo>
                  <a:lnTo>
                    <a:pt x="245" y="533"/>
                  </a:lnTo>
                  <a:lnTo>
                    <a:pt x="245" y="533"/>
                  </a:lnTo>
                  <a:lnTo>
                    <a:pt x="245" y="533"/>
                  </a:lnTo>
                  <a:lnTo>
                    <a:pt x="259" y="515"/>
                  </a:lnTo>
                  <a:lnTo>
                    <a:pt x="259" y="515"/>
                  </a:lnTo>
                  <a:lnTo>
                    <a:pt x="259" y="515"/>
                  </a:lnTo>
                  <a:lnTo>
                    <a:pt x="273" y="496"/>
                  </a:lnTo>
                  <a:lnTo>
                    <a:pt x="273" y="496"/>
                  </a:lnTo>
                  <a:lnTo>
                    <a:pt x="273" y="496"/>
                  </a:lnTo>
                  <a:lnTo>
                    <a:pt x="287" y="478"/>
                  </a:lnTo>
                  <a:lnTo>
                    <a:pt x="287" y="478"/>
                  </a:lnTo>
                  <a:lnTo>
                    <a:pt x="287" y="478"/>
                  </a:lnTo>
                  <a:lnTo>
                    <a:pt x="302" y="461"/>
                  </a:lnTo>
                  <a:lnTo>
                    <a:pt x="302" y="461"/>
                  </a:lnTo>
                  <a:lnTo>
                    <a:pt x="302" y="461"/>
                  </a:lnTo>
                  <a:lnTo>
                    <a:pt x="316" y="444"/>
                  </a:lnTo>
                  <a:lnTo>
                    <a:pt x="316" y="444"/>
                  </a:lnTo>
                  <a:lnTo>
                    <a:pt x="316" y="444"/>
                  </a:lnTo>
                  <a:lnTo>
                    <a:pt x="330" y="427"/>
                  </a:lnTo>
                  <a:lnTo>
                    <a:pt x="330" y="427"/>
                  </a:lnTo>
                  <a:lnTo>
                    <a:pt x="330" y="427"/>
                  </a:lnTo>
                  <a:lnTo>
                    <a:pt x="347" y="410"/>
                  </a:lnTo>
                  <a:lnTo>
                    <a:pt x="347" y="410"/>
                  </a:lnTo>
                  <a:lnTo>
                    <a:pt x="347" y="410"/>
                  </a:lnTo>
                  <a:lnTo>
                    <a:pt x="361" y="393"/>
                  </a:lnTo>
                  <a:lnTo>
                    <a:pt x="361" y="393"/>
                  </a:lnTo>
                  <a:lnTo>
                    <a:pt x="361" y="393"/>
                  </a:lnTo>
                  <a:lnTo>
                    <a:pt x="379" y="379"/>
                  </a:lnTo>
                  <a:lnTo>
                    <a:pt x="379" y="379"/>
                  </a:lnTo>
                  <a:lnTo>
                    <a:pt x="379" y="379"/>
                  </a:lnTo>
                  <a:lnTo>
                    <a:pt x="393" y="362"/>
                  </a:lnTo>
                  <a:lnTo>
                    <a:pt x="393" y="362"/>
                  </a:lnTo>
                  <a:lnTo>
                    <a:pt x="393" y="362"/>
                  </a:lnTo>
                  <a:lnTo>
                    <a:pt x="410" y="347"/>
                  </a:lnTo>
                  <a:lnTo>
                    <a:pt x="410" y="347"/>
                  </a:lnTo>
                  <a:lnTo>
                    <a:pt x="410" y="347"/>
                  </a:lnTo>
                  <a:lnTo>
                    <a:pt x="427" y="330"/>
                  </a:lnTo>
                  <a:lnTo>
                    <a:pt x="427" y="330"/>
                  </a:lnTo>
                  <a:lnTo>
                    <a:pt x="427" y="330"/>
                  </a:lnTo>
                  <a:lnTo>
                    <a:pt x="444" y="316"/>
                  </a:lnTo>
                  <a:lnTo>
                    <a:pt x="444" y="316"/>
                  </a:lnTo>
                  <a:lnTo>
                    <a:pt x="444" y="316"/>
                  </a:lnTo>
                  <a:lnTo>
                    <a:pt x="461" y="302"/>
                  </a:lnTo>
                  <a:lnTo>
                    <a:pt x="461" y="302"/>
                  </a:lnTo>
                  <a:lnTo>
                    <a:pt x="461" y="302"/>
                  </a:lnTo>
                  <a:lnTo>
                    <a:pt x="478" y="288"/>
                  </a:lnTo>
                  <a:lnTo>
                    <a:pt x="478" y="288"/>
                  </a:lnTo>
                  <a:lnTo>
                    <a:pt x="478" y="288"/>
                  </a:lnTo>
                  <a:lnTo>
                    <a:pt x="495" y="273"/>
                  </a:lnTo>
                  <a:lnTo>
                    <a:pt x="495" y="273"/>
                  </a:lnTo>
                  <a:lnTo>
                    <a:pt x="495" y="273"/>
                  </a:lnTo>
                  <a:lnTo>
                    <a:pt x="515" y="259"/>
                  </a:lnTo>
                  <a:lnTo>
                    <a:pt x="515" y="259"/>
                  </a:lnTo>
                  <a:lnTo>
                    <a:pt x="515" y="259"/>
                  </a:lnTo>
                  <a:lnTo>
                    <a:pt x="532" y="245"/>
                  </a:lnTo>
                  <a:lnTo>
                    <a:pt x="532" y="245"/>
                  </a:lnTo>
                  <a:lnTo>
                    <a:pt x="532" y="245"/>
                  </a:lnTo>
                  <a:lnTo>
                    <a:pt x="549" y="233"/>
                  </a:lnTo>
                  <a:lnTo>
                    <a:pt x="549" y="233"/>
                  </a:lnTo>
                  <a:lnTo>
                    <a:pt x="549" y="233"/>
                  </a:lnTo>
                  <a:lnTo>
                    <a:pt x="569" y="219"/>
                  </a:lnTo>
                  <a:lnTo>
                    <a:pt x="569" y="219"/>
                  </a:lnTo>
                  <a:lnTo>
                    <a:pt x="569" y="219"/>
                  </a:lnTo>
                  <a:lnTo>
                    <a:pt x="586" y="208"/>
                  </a:lnTo>
                  <a:lnTo>
                    <a:pt x="586" y="208"/>
                  </a:lnTo>
                  <a:lnTo>
                    <a:pt x="586" y="208"/>
                  </a:lnTo>
                  <a:lnTo>
                    <a:pt x="606" y="196"/>
                  </a:lnTo>
                  <a:lnTo>
                    <a:pt x="606" y="196"/>
                  </a:lnTo>
                  <a:lnTo>
                    <a:pt x="606" y="196"/>
                  </a:lnTo>
                  <a:lnTo>
                    <a:pt x="626" y="185"/>
                  </a:lnTo>
                  <a:lnTo>
                    <a:pt x="626" y="185"/>
                  </a:lnTo>
                  <a:lnTo>
                    <a:pt x="626" y="185"/>
                  </a:lnTo>
                  <a:lnTo>
                    <a:pt x="646" y="174"/>
                  </a:lnTo>
                  <a:lnTo>
                    <a:pt x="646" y="174"/>
                  </a:lnTo>
                  <a:lnTo>
                    <a:pt x="646" y="174"/>
                  </a:lnTo>
                  <a:lnTo>
                    <a:pt x="666" y="162"/>
                  </a:lnTo>
                  <a:lnTo>
                    <a:pt x="666" y="162"/>
                  </a:lnTo>
                  <a:lnTo>
                    <a:pt x="666" y="162"/>
                  </a:lnTo>
                  <a:lnTo>
                    <a:pt x="686" y="151"/>
                  </a:lnTo>
                  <a:lnTo>
                    <a:pt x="686" y="151"/>
                  </a:lnTo>
                  <a:lnTo>
                    <a:pt x="686" y="151"/>
                  </a:lnTo>
                  <a:lnTo>
                    <a:pt x="706" y="139"/>
                  </a:lnTo>
                  <a:lnTo>
                    <a:pt x="706" y="139"/>
                  </a:lnTo>
                  <a:lnTo>
                    <a:pt x="706" y="139"/>
                  </a:lnTo>
                  <a:lnTo>
                    <a:pt x="726" y="131"/>
                  </a:lnTo>
                  <a:lnTo>
                    <a:pt x="726" y="131"/>
                  </a:lnTo>
                  <a:lnTo>
                    <a:pt x="726" y="131"/>
                  </a:lnTo>
                  <a:lnTo>
                    <a:pt x="746" y="119"/>
                  </a:lnTo>
                  <a:lnTo>
                    <a:pt x="746" y="119"/>
                  </a:lnTo>
                  <a:lnTo>
                    <a:pt x="746" y="119"/>
                  </a:lnTo>
                  <a:lnTo>
                    <a:pt x="766" y="111"/>
                  </a:lnTo>
                  <a:lnTo>
                    <a:pt x="766" y="111"/>
                  </a:lnTo>
                  <a:lnTo>
                    <a:pt x="766" y="111"/>
                  </a:lnTo>
                  <a:lnTo>
                    <a:pt x="786" y="102"/>
                  </a:lnTo>
                  <a:lnTo>
                    <a:pt x="786" y="102"/>
                  </a:lnTo>
                  <a:lnTo>
                    <a:pt x="786" y="102"/>
                  </a:lnTo>
                  <a:lnTo>
                    <a:pt x="808" y="94"/>
                  </a:lnTo>
                  <a:lnTo>
                    <a:pt x="808" y="94"/>
                  </a:lnTo>
                  <a:lnTo>
                    <a:pt x="808" y="94"/>
                  </a:lnTo>
                  <a:lnTo>
                    <a:pt x="828" y="85"/>
                  </a:lnTo>
                  <a:lnTo>
                    <a:pt x="828" y="85"/>
                  </a:lnTo>
                  <a:lnTo>
                    <a:pt x="828" y="85"/>
                  </a:lnTo>
                  <a:lnTo>
                    <a:pt x="848" y="77"/>
                  </a:lnTo>
                  <a:lnTo>
                    <a:pt x="848" y="77"/>
                  </a:lnTo>
                  <a:lnTo>
                    <a:pt x="848" y="77"/>
                  </a:lnTo>
                  <a:lnTo>
                    <a:pt x="871" y="68"/>
                  </a:lnTo>
                  <a:lnTo>
                    <a:pt x="871" y="68"/>
                  </a:lnTo>
                  <a:lnTo>
                    <a:pt x="871" y="68"/>
                  </a:lnTo>
                  <a:lnTo>
                    <a:pt x="891" y="62"/>
                  </a:lnTo>
                  <a:lnTo>
                    <a:pt x="891" y="62"/>
                  </a:lnTo>
                  <a:lnTo>
                    <a:pt x="891" y="62"/>
                  </a:lnTo>
                  <a:lnTo>
                    <a:pt x="914" y="57"/>
                  </a:lnTo>
                  <a:lnTo>
                    <a:pt x="914" y="57"/>
                  </a:lnTo>
                  <a:lnTo>
                    <a:pt x="914" y="57"/>
                  </a:lnTo>
                  <a:lnTo>
                    <a:pt x="936" y="48"/>
                  </a:lnTo>
                  <a:lnTo>
                    <a:pt x="936" y="48"/>
                  </a:lnTo>
                  <a:lnTo>
                    <a:pt x="936" y="48"/>
                  </a:lnTo>
                  <a:lnTo>
                    <a:pt x="956" y="43"/>
                  </a:lnTo>
                  <a:lnTo>
                    <a:pt x="956" y="43"/>
                  </a:lnTo>
                  <a:lnTo>
                    <a:pt x="956" y="43"/>
                  </a:lnTo>
                  <a:lnTo>
                    <a:pt x="979" y="37"/>
                  </a:lnTo>
                  <a:lnTo>
                    <a:pt x="979" y="37"/>
                  </a:lnTo>
                  <a:lnTo>
                    <a:pt x="979" y="37"/>
                  </a:lnTo>
                  <a:lnTo>
                    <a:pt x="1002" y="31"/>
                  </a:lnTo>
                  <a:lnTo>
                    <a:pt x="1002" y="31"/>
                  </a:lnTo>
                  <a:lnTo>
                    <a:pt x="1002" y="31"/>
                  </a:lnTo>
                  <a:lnTo>
                    <a:pt x="1022" y="28"/>
                  </a:lnTo>
                  <a:lnTo>
                    <a:pt x="1022" y="28"/>
                  </a:lnTo>
                  <a:lnTo>
                    <a:pt x="1022" y="28"/>
                  </a:lnTo>
                  <a:lnTo>
                    <a:pt x="1045" y="23"/>
                  </a:lnTo>
                  <a:lnTo>
                    <a:pt x="1045" y="23"/>
                  </a:lnTo>
                  <a:lnTo>
                    <a:pt x="1045" y="23"/>
                  </a:lnTo>
                  <a:lnTo>
                    <a:pt x="1067" y="20"/>
                  </a:lnTo>
                  <a:lnTo>
                    <a:pt x="1067" y="20"/>
                  </a:lnTo>
                  <a:lnTo>
                    <a:pt x="1067" y="20"/>
                  </a:lnTo>
                  <a:lnTo>
                    <a:pt x="1090" y="14"/>
                  </a:lnTo>
                  <a:lnTo>
                    <a:pt x="1090" y="14"/>
                  </a:lnTo>
                  <a:lnTo>
                    <a:pt x="1090" y="14"/>
                  </a:lnTo>
                  <a:lnTo>
                    <a:pt x="1113" y="11"/>
                  </a:lnTo>
                  <a:lnTo>
                    <a:pt x="1113" y="11"/>
                  </a:lnTo>
                  <a:lnTo>
                    <a:pt x="1113" y="11"/>
                  </a:lnTo>
                  <a:lnTo>
                    <a:pt x="1133" y="8"/>
                  </a:lnTo>
                  <a:lnTo>
                    <a:pt x="1133" y="8"/>
                  </a:lnTo>
                  <a:lnTo>
                    <a:pt x="1133" y="8"/>
                  </a:lnTo>
                  <a:lnTo>
                    <a:pt x="1156" y="6"/>
                  </a:lnTo>
                  <a:lnTo>
                    <a:pt x="1156" y="6"/>
                  </a:lnTo>
                  <a:lnTo>
                    <a:pt x="1156" y="6"/>
                  </a:lnTo>
                  <a:lnTo>
                    <a:pt x="1178" y="3"/>
                  </a:lnTo>
                  <a:lnTo>
                    <a:pt x="1178" y="3"/>
                  </a:lnTo>
                  <a:lnTo>
                    <a:pt x="1178" y="3"/>
                  </a:lnTo>
                  <a:lnTo>
                    <a:pt x="1201" y="3"/>
                  </a:lnTo>
                  <a:lnTo>
                    <a:pt x="1201" y="3"/>
                  </a:lnTo>
                  <a:lnTo>
                    <a:pt x="1201" y="3"/>
                  </a:lnTo>
                  <a:lnTo>
                    <a:pt x="1224" y="0"/>
                  </a:lnTo>
                  <a:lnTo>
                    <a:pt x="1224" y="0"/>
                  </a:lnTo>
                  <a:lnTo>
                    <a:pt x="1224" y="0"/>
                  </a:lnTo>
                  <a:lnTo>
                    <a:pt x="1247" y="0"/>
                  </a:lnTo>
                  <a:lnTo>
                    <a:pt x="1247" y="0"/>
                  </a:lnTo>
                  <a:lnTo>
                    <a:pt x="1247" y="0"/>
                  </a:lnTo>
                  <a:lnTo>
                    <a:pt x="1270" y="0"/>
                  </a:lnTo>
                  <a:lnTo>
                    <a:pt x="1270" y="0"/>
                  </a:lnTo>
                  <a:lnTo>
                    <a:pt x="1270" y="0"/>
                  </a:lnTo>
                  <a:lnTo>
                    <a:pt x="1292" y="0"/>
                  </a:lnTo>
                  <a:lnTo>
                    <a:pt x="1292" y="0"/>
                  </a:lnTo>
                  <a:lnTo>
                    <a:pt x="1292" y="1293"/>
                  </a:lnTo>
                  <a:lnTo>
                    <a:pt x="0" y="12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1967760" y="3827880"/>
              <a:ext cx="896400" cy="897840"/>
            </a:xfrm>
            <a:custGeom>
              <a:avLst/>
              <a:gdLst/>
              <a:ahLst/>
              <a:rect l="l" t="t" r="r" b="b"/>
              <a:pathLst>
                <a:path w="1292" h="1293">
                  <a:moveTo>
                    <a:pt x="0" y="1225"/>
                  </a:moveTo>
                  <a:lnTo>
                    <a:pt x="0" y="1225"/>
                  </a:lnTo>
                  <a:lnTo>
                    <a:pt x="3" y="1202"/>
                  </a:lnTo>
                  <a:lnTo>
                    <a:pt x="3" y="1202"/>
                  </a:lnTo>
                  <a:lnTo>
                    <a:pt x="3" y="1202"/>
                  </a:lnTo>
                  <a:lnTo>
                    <a:pt x="3" y="1179"/>
                  </a:lnTo>
                  <a:lnTo>
                    <a:pt x="3" y="1179"/>
                  </a:lnTo>
                  <a:lnTo>
                    <a:pt x="3" y="1179"/>
                  </a:lnTo>
                  <a:lnTo>
                    <a:pt x="6" y="1157"/>
                  </a:lnTo>
                  <a:lnTo>
                    <a:pt x="6" y="1157"/>
                  </a:lnTo>
                  <a:lnTo>
                    <a:pt x="6" y="1157"/>
                  </a:lnTo>
                  <a:lnTo>
                    <a:pt x="8" y="1134"/>
                  </a:lnTo>
                  <a:lnTo>
                    <a:pt x="8" y="1134"/>
                  </a:lnTo>
                  <a:lnTo>
                    <a:pt x="8" y="1134"/>
                  </a:lnTo>
                  <a:lnTo>
                    <a:pt x="11" y="1114"/>
                  </a:lnTo>
                  <a:lnTo>
                    <a:pt x="11" y="1114"/>
                  </a:lnTo>
                  <a:lnTo>
                    <a:pt x="11" y="1114"/>
                  </a:lnTo>
                  <a:lnTo>
                    <a:pt x="14" y="1091"/>
                  </a:lnTo>
                  <a:lnTo>
                    <a:pt x="14" y="1091"/>
                  </a:lnTo>
                  <a:lnTo>
                    <a:pt x="14" y="1091"/>
                  </a:lnTo>
                  <a:lnTo>
                    <a:pt x="20" y="1068"/>
                  </a:lnTo>
                  <a:lnTo>
                    <a:pt x="20" y="1068"/>
                  </a:lnTo>
                  <a:lnTo>
                    <a:pt x="20" y="1068"/>
                  </a:lnTo>
                  <a:lnTo>
                    <a:pt x="23" y="1045"/>
                  </a:lnTo>
                  <a:lnTo>
                    <a:pt x="23" y="1045"/>
                  </a:lnTo>
                  <a:lnTo>
                    <a:pt x="23" y="1045"/>
                  </a:lnTo>
                  <a:lnTo>
                    <a:pt x="28" y="1023"/>
                  </a:lnTo>
                  <a:lnTo>
                    <a:pt x="28" y="1023"/>
                  </a:lnTo>
                  <a:lnTo>
                    <a:pt x="28" y="1023"/>
                  </a:lnTo>
                  <a:lnTo>
                    <a:pt x="31" y="1003"/>
                  </a:lnTo>
                  <a:lnTo>
                    <a:pt x="31" y="1003"/>
                  </a:lnTo>
                  <a:lnTo>
                    <a:pt x="31" y="1003"/>
                  </a:lnTo>
                  <a:lnTo>
                    <a:pt x="37" y="980"/>
                  </a:lnTo>
                  <a:lnTo>
                    <a:pt x="37" y="980"/>
                  </a:lnTo>
                  <a:lnTo>
                    <a:pt x="37" y="980"/>
                  </a:lnTo>
                  <a:lnTo>
                    <a:pt x="43" y="957"/>
                  </a:lnTo>
                  <a:lnTo>
                    <a:pt x="43" y="957"/>
                  </a:lnTo>
                  <a:lnTo>
                    <a:pt x="43" y="957"/>
                  </a:lnTo>
                  <a:lnTo>
                    <a:pt x="48" y="937"/>
                  </a:lnTo>
                  <a:lnTo>
                    <a:pt x="48" y="937"/>
                  </a:lnTo>
                  <a:lnTo>
                    <a:pt x="48" y="937"/>
                  </a:lnTo>
                  <a:lnTo>
                    <a:pt x="57" y="914"/>
                  </a:lnTo>
                  <a:lnTo>
                    <a:pt x="57" y="914"/>
                  </a:lnTo>
                  <a:lnTo>
                    <a:pt x="57" y="914"/>
                  </a:lnTo>
                  <a:lnTo>
                    <a:pt x="63" y="892"/>
                  </a:lnTo>
                  <a:lnTo>
                    <a:pt x="63" y="892"/>
                  </a:lnTo>
                  <a:lnTo>
                    <a:pt x="63" y="892"/>
                  </a:lnTo>
                  <a:lnTo>
                    <a:pt x="68" y="872"/>
                  </a:lnTo>
                  <a:lnTo>
                    <a:pt x="68" y="872"/>
                  </a:lnTo>
                  <a:lnTo>
                    <a:pt x="68" y="872"/>
                  </a:lnTo>
                  <a:lnTo>
                    <a:pt x="77" y="849"/>
                  </a:lnTo>
                  <a:lnTo>
                    <a:pt x="77" y="849"/>
                  </a:lnTo>
                  <a:lnTo>
                    <a:pt x="77" y="849"/>
                  </a:lnTo>
                  <a:lnTo>
                    <a:pt x="85" y="829"/>
                  </a:lnTo>
                  <a:lnTo>
                    <a:pt x="85" y="829"/>
                  </a:lnTo>
                  <a:lnTo>
                    <a:pt x="85" y="829"/>
                  </a:lnTo>
                  <a:lnTo>
                    <a:pt x="94" y="809"/>
                  </a:lnTo>
                  <a:lnTo>
                    <a:pt x="94" y="809"/>
                  </a:lnTo>
                  <a:lnTo>
                    <a:pt x="94" y="809"/>
                  </a:lnTo>
                  <a:lnTo>
                    <a:pt x="102" y="786"/>
                  </a:lnTo>
                  <a:lnTo>
                    <a:pt x="102" y="786"/>
                  </a:lnTo>
                  <a:lnTo>
                    <a:pt x="102" y="786"/>
                  </a:lnTo>
                  <a:lnTo>
                    <a:pt x="111" y="766"/>
                  </a:lnTo>
                  <a:lnTo>
                    <a:pt x="111" y="766"/>
                  </a:lnTo>
                  <a:lnTo>
                    <a:pt x="111" y="766"/>
                  </a:lnTo>
                  <a:lnTo>
                    <a:pt x="119" y="746"/>
                  </a:lnTo>
                  <a:lnTo>
                    <a:pt x="119" y="746"/>
                  </a:lnTo>
                  <a:lnTo>
                    <a:pt x="119" y="746"/>
                  </a:lnTo>
                  <a:lnTo>
                    <a:pt x="131" y="726"/>
                  </a:lnTo>
                  <a:lnTo>
                    <a:pt x="131" y="726"/>
                  </a:lnTo>
                  <a:lnTo>
                    <a:pt x="131" y="726"/>
                  </a:lnTo>
                  <a:lnTo>
                    <a:pt x="139" y="706"/>
                  </a:lnTo>
                  <a:lnTo>
                    <a:pt x="139" y="706"/>
                  </a:lnTo>
                  <a:lnTo>
                    <a:pt x="139" y="706"/>
                  </a:lnTo>
                  <a:lnTo>
                    <a:pt x="151" y="686"/>
                  </a:lnTo>
                  <a:lnTo>
                    <a:pt x="151" y="686"/>
                  </a:lnTo>
                  <a:lnTo>
                    <a:pt x="151" y="686"/>
                  </a:lnTo>
                  <a:lnTo>
                    <a:pt x="162" y="667"/>
                  </a:lnTo>
                  <a:lnTo>
                    <a:pt x="162" y="667"/>
                  </a:lnTo>
                  <a:lnTo>
                    <a:pt x="162" y="667"/>
                  </a:lnTo>
                  <a:lnTo>
                    <a:pt x="174" y="647"/>
                  </a:lnTo>
                  <a:lnTo>
                    <a:pt x="174" y="647"/>
                  </a:lnTo>
                  <a:lnTo>
                    <a:pt x="174" y="647"/>
                  </a:lnTo>
                  <a:lnTo>
                    <a:pt x="185" y="627"/>
                  </a:lnTo>
                  <a:lnTo>
                    <a:pt x="185" y="627"/>
                  </a:lnTo>
                  <a:lnTo>
                    <a:pt x="185" y="627"/>
                  </a:lnTo>
                  <a:lnTo>
                    <a:pt x="196" y="607"/>
                  </a:lnTo>
                  <a:lnTo>
                    <a:pt x="196" y="607"/>
                  </a:lnTo>
                  <a:lnTo>
                    <a:pt x="196" y="607"/>
                  </a:lnTo>
                  <a:lnTo>
                    <a:pt x="208" y="587"/>
                  </a:lnTo>
                  <a:lnTo>
                    <a:pt x="208" y="587"/>
                  </a:lnTo>
                  <a:lnTo>
                    <a:pt x="208" y="587"/>
                  </a:lnTo>
                  <a:lnTo>
                    <a:pt x="219" y="570"/>
                  </a:lnTo>
                  <a:lnTo>
                    <a:pt x="219" y="570"/>
                  </a:lnTo>
                  <a:lnTo>
                    <a:pt x="219" y="570"/>
                  </a:lnTo>
                  <a:lnTo>
                    <a:pt x="233" y="550"/>
                  </a:lnTo>
                  <a:lnTo>
                    <a:pt x="233" y="550"/>
                  </a:lnTo>
                  <a:lnTo>
                    <a:pt x="233" y="550"/>
                  </a:lnTo>
                  <a:lnTo>
                    <a:pt x="245" y="533"/>
                  </a:lnTo>
                  <a:lnTo>
                    <a:pt x="245" y="533"/>
                  </a:lnTo>
                  <a:lnTo>
                    <a:pt x="245" y="533"/>
                  </a:lnTo>
                  <a:lnTo>
                    <a:pt x="259" y="515"/>
                  </a:lnTo>
                  <a:lnTo>
                    <a:pt x="259" y="515"/>
                  </a:lnTo>
                  <a:lnTo>
                    <a:pt x="259" y="515"/>
                  </a:lnTo>
                  <a:lnTo>
                    <a:pt x="273" y="496"/>
                  </a:lnTo>
                  <a:lnTo>
                    <a:pt x="273" y="496"/>
                  </a:lnTo>
                  <a:lnTo>
                    <a:pt x="273" y="496"/>
                  </a:lnTo>
                  <a:lnTo>
                    <a:pt x="287" y="478"/>
                  </a:lnTo>
                  <a:lnTo>
                    <a:pt x="287" y="478"/>
                  </a:lnTo>
                  <a:lnTo>
                    <a:pt x="287" y="478"/>
                  </a:lnTo>
                  <a:lnTo>
                    <a:pt x="302" y="461"/>
                  </a:lnTo>
                  <a:lnTo>
                    <a:pt x="302" y="461"/>
                  </a:lnTo>
                  <a:lnTo>
                    <a:pt x="302" y="461"/>
                  </a:lnTo>
                  <a:lnTo>
                    <a:pt x="316" y="444"/>
                  </a:lnTo>
                  <a:lnTo>
                    <a:pt x="316" y="444"/>
                  </a:lnTo>
                  <a:lnTo>
                    <a:pt x="316" y="444"/>
                  </a:lnTo>
                  <a:lnTo>
                    <a:pt x="330" y="427"/>
                  </a:lnTo>
                  <a:lnTo>
                    <a:pt x="330" y="427"/>
                  </a:lnTo>
                  <a:lnTo>
                    <a:pt x="330" y="427"/>
                  </a:lnTo>
                  <a:lnTo>
                    <a:pt x="347" y="410"/>
                  </a:lnTo>
                  <a:lnTo>
                    <a:pt x="347" y="410"/>
                  </a:lnTo>
                  <a:lnTo>
                    <a:pt x="347" y="410"/>
                  </a:lnTo>
                  <a:lnTo>
                    <a:pt x="361" y="393"/>
                  </a:lnTo>
                  <a:lnTo>
                    <a:pt x="361" y="393"/>
                  </a:lnTo>
                  <a:lnTo>
                    <a:pt x="361" y="393"/>
                  </a:lnTo>
                  <a:lnTo>
                    <a:pt x="379" y="379"/>
                  </a:lnTo>
                  <a:lnTo>
                    <a:pt x="379" y="379"/>
                  </a:lnTo>
                  <a:lnTo>
                    <a:pt x="379" y="379"/>
                  </a:lnTo>
                  <a:lnTo>
                    <a:pt x="393" y="362"/>
                  </a:lnTo>
                  <a:lnTo>
                    <a:pt x="393" y="362"/>
                  </a:lnTo>
                  <a:lnTo>
                    <a:pt x="393" y="362"/>
                  </a:lnTo>
                  <a:lnTo>
                    <a:pt x="410" y="347"/>
                  </a:lnTo>
                  <a:lnTo>
                    <a:pt x="410" y="347"/>
                  </a:lnTo>
                  <a:lnTo>
                    <a:pt x="410" y="347"/>
                  </a:lnTo>
                  <a:lnTo>
                    <a:pt x="427" y="330"/>
                  </a:lnTo>
                  <a:lnTo>
                    <a:pt x="427" y="330"/>
                  </a:lnTo>
                  <a:lnTo>
                    <a:pt x="427" y="330"/>
                  </a:lnTo>
                  <a:lnTo>
                    <a:pt x="444" y="316"/>
                  </a:lnTo>
                  <a:lnTo>
                    <a:pt x="444" y="316"/>
                  </a:lnTo>
                  <a:lnTo>
                    <a:pt x="444" y="316"/>
                  </a:lnTo>
                  <a:lnTo>
                    <a:pt x="461" y="302"/>
                  </a:lnTo>
                  <a:lnTo>
                    <a:pt x="461" y="302"/>
                  </a:lnTo>
                  <a:lnTo>
                    <a:pt x="461" y="302"/>
                  </a:lnTo>
                  <a:lnTo>
                    <a:pt x="478" y="288"/>
                  </a:lnTo>
                  <a:lnTo>
                    <a:pt x="478" y="288"/>
                  </a:lnTo>
                  <a:lnTo>
                    <a:pt x="478" y="288"/>
                  </a:lnTo>
                  <a:lnTo>
                    <a:pt x="495" y="273"/>
                  </a:lnTo>
                  <a:lnTo>
                    <a:pt x="495" y="273"/>
                  </a:lnTo>
                  <a:lnTo>
                    <a:pt x="495" y="273"/>
                  </a:lnTo>
                  <a:lnTo>
                    <a:pt x="515" y="259"/>
                  </a:lnTo>
                  <a:lnTo>
                    <a:pt x="515" y="259"/>
                  </a:lnTo>
                  <a:lnTo>
                    <a:pt x="515" y="259"/>
                  </a:lnTo>
                  <a:lnTo>
                    <a:pt x="532" y="245"/>
                  </a:lnTo>
                  <a:lnTo>
                    <a:pt x="532" y="245"/>
                  </a:lnTo>
                  <a:lnTo>
                    <a:pt x="532" y="245"/>
                  </a:lnTo>
                  <a:lnTo>
                    <a:pt x="549" y="233"/>
                  </a:lnTo>
                  <a:lnTo>
                    <a:pt x="549" y="233"/>
                  </a:lnTo>
                  <a:lnTo>
                    <a:pt x="549" y="233"/>
                  </a:lnTo>
                  <a:lnTo>
                    <a:pt x="569" y="219"/>
                  </a:lnTo>
                  <a:lnTo>
                    <a:pt x="569" y="219"/>
                  </a:lnTo>
                  <a:lnTo>
                    <a:pt x="569" y="219"/>
                  </a:lnTo>
                  <a:lnTo>
                    <a:pt x="586" y="208"/>
                  </a:lnTo>
                  <a:lnTo>
                    <a:pt x="586" y="208"/>
                  </a:lnTo>
                  <a:lnTo>
                    <a:pt x="586" y="208"/>
                  </a:lnTo>
                  <a:lnTo>
                    <a:pt x="606" y="196"/>
                  </a:lnTo>
                  <a:lnTo>
                    <a:pt x="606" y="196"/>
                  </a:lnTo>
                  <a:lnTo>
                    <a:pt x="606" y="196"/>
                  </a:lnTo>
                  <a:lnTo>
                    <a:pt x="626" y="185"/>
                  </a:lnTo>
                  <a:lnTo>
                    <a:pt x="626" y="185"/>
                  </a:lnTo>
                  <a:lnTo>
                    <a:pt x="626" y="185"/>
                  </a:lnTo>
                  <a:lnTo>
                    <a:pt x="646" y="174"/>
                  </a:lnTo>
                  <a:lnTo>
                    <a:pt x="646" y="174"/>
                  </a:lnTo>
                  <a:lnTo>
                    <a:pt x="646" y="174"/>
                  </a:lnTo>
                  <a:lnTo>
                    <a:pt x="666" y="162"/>
                  </a:lnTo>
                  <a:lnTo>
                    <a:pt x="666" y="162"/>
                  </a:lnTo>
                  <a:lnTo>
                    <a:pt x="666" y="162"/>
                  </a:lnTo>
                  <a:lnTo>
                    <a:pt x="686" y="151"/>
                  </a:lnTo>
                  <a:lnTo>
                    <a:pt x="686" y="151"/>
                  </a:lnTo>
                  <a:lnTo>
                    <a:pt x="686" y="151"/>
                  </a:lnTo>
                  <a:lnTo>
                    <a:pt x="706" y="139"/>
                  </a:lnTo>
                  <a:lnTo>
                    <a:pt x="706" y="139"/>
                  </a:lnTo>
                  <a:lnTo>
                    <a:pt x="706" y="139"/>
                  </a:lnTo>
                  <a:lnTo>
                    <a:pt x="726" y="131"/>
                  </a:lnTo>
                  <a:lnTo>
                    <a:pt x="726" y="131"/>
                  </a:lnTo>
                  <a:lnTo>
                    <a:pt x="726" y="131"/>
                  </a:lnTo>
                  <a:lnTo>
                    <a:pt x="746" y="119"/>
                  </a:lnTo>
                  <a:lnTo>
                    <a:pt x="746" y="119"/>
                  </a:lnTo>
                  <a:lnTo>
                    <a:pt x="746" y="119"/>
                  </a:lnTo>
                  <a:lnTo>
                    <a:pt x="766" y="111"/>
                  </a:lnTo>
                  <a:lnTo>
                    <a:pt x="766" y="111"/>
                  </a:lnTo>
                  <a:lnTo>
                    <a:pt x="766" y="111"/>
                  </a:lnTo>
                  <a:lnTo>
                    <a:pt x="786" y="102"/>
                  </a:lnTo>
                  <a:lnTo>
                    <a:pt x="786" y="102"/>
                  </a:lnTo>
                  <a:lnTo>
                    <a:pt x="786" y="102"/>
                  </a:lnTo>
                  <a:lnTo>
                    <a:pt x="808" y="94"/>
                  </a:lnTo>
                  <a:lnTo>
                    <a:pt x="808" y="94"/>
                  </a:lnTo>
                  <a:lnTo>
                    <a:pt x="808" y="94"/>
                  </a:lnTo>
                  <a:lnTo>
                    <a:pt x="828" y="85"/>
                  </a:lnTo>
                  <a:lnTo>
                    <a:pt x="828" y="85"/>
                  </a:lnTo>
                  <a:lnTo>
                    <a:pt x="828" y="85"/>
                  </a:lnTo>
                  <a:lnTo>
                    <a:pt x="848" y="77"/>
                  </a:lnTo>
                  <a:lnTo>
                    <a:pt x="848" y="77"/>
                  </a:lnTo>
                  <a:lnTo>
                    <a:pt x="848" y="77"/>
                  </a:lnTo>
                  <a:lnTo>
                    <a:pt x="871" y="68"/>
                  </a:lnTo>
                  <a:lnTo>
                    <a:pt x="871" y="68"/>
                  </a:lnTo>
                  <a:lnTo>
                    <a:pt x="871" y="68"/>
                  </a:lnTo>
                  <a:lnTo>
                    <a:pt x="891" y="62"/>
                  </a:lnTo>
                  <a:lnTo>
                    <a:pt x="891" y="62"/>
                  </a:lnTo>
                  <a:lnTo>
                    <a:pt x="891" y="62"/>
                  </a:lnTo>
                  <a:lnTo>
                    <a:pt x="914" y="57"/>
                  </a:lnTo>
                  <a:lnTo>
                    <a:pt x="914" y="57"/>
                  </a:lnTo>
                  <a:lnTo>
                    <a:pt x="914" y="57"/>
                  </a:lnTo>
                  <a:lnTo>
                    <a:pt x="936" y="48"/>
                  </a:lnTo>
                  <a:lnTo>
                    <a:pt x="936" y="48"/>
                  </a:lnTo>
                  <a:lnTo>
                    <a:pt x="936" y="48"/>
                  </a:lnTo>
                  <a:lnTo>
                    <a:pt x="956" y="43"/>
                  </a:lnTo>
                  <a:lnTo>
                    <a:pt x="956" y="43"/>
                  </a:lnTo>
                  <a:lnTo>
                    <a:pt x="956" y="43"/>
                  </a:lnTo>
                  <a:lnTo>
                    <a:pt x="979" y="37"/>
                  </a:lnTo>
                  <a:lnTo>
                    <a:pt x="979" y="37"/>
                  </a:lnTo>
                  <a:lnTo>
                    <a:pt x="979" y="37"/>
                  </a:lnTo>
                  <a:lnTo>
                    <a:pt x="1002" y="31"/>
                  </a:lnTo>
                  <a:lnTo>
                    <a:pt x="1002" y="31"/>
                  </a:lnTo>
                  <a:lnTo>
                    <a:pt x="1002" y="31"/>
                  </a:lnTo>
                  <a:lnTo>
                    <a:pt x="1022" y="28"/>
                  </a:lnTo>
                  <a:lnTo>
                    <a:pt x="1022" y="28"/>
                  </a:lnTo>
                  <a:lnTo>
                    <a:pt x="1022" y="28"/>
                  </a:lnTo>
                  <a:lnTo>
                    <a:pt x="1045" y="23"/>
                  </a:lnTo>
                  <a:lnTo>
                    <a:pt x="1045" y="23"/>
                  </a:lnTo>
                  <a:lnTo>
                    <a:pt x="1045" y="23"/>
                  </a:lnTo>
                  <a:lnTo>
                    <a:pt x="1067" y="20"/>
                  </a:lnTo>
                  <a:lnTo>
                    <a:pt x="1067" y="20"/>
                  </a:lnTo>
                  <a:lnTo>
                    <a:pt x="1067" y="20"/>
                  </a:lnTo>
                  <a:lnTo>
                    <a:pt x="1090" y="14"/>
                  </a:lnTo>
                  <a:lnTo>
                    <a:pt x="1090" y="14"/>
                  </a:lnTo>
                  <a:lnTo>
                    <a:pt x="1090" y="14"/>
                  </a:lnTo>
                  <a:lnTo>
                    <a:pt x="1113" y="11"/>
                  </a:lnTo>
                  <a:lnTo>
                    <a:pt x="1113" y="11"/>
                  </a:lnTo>
                  <a:lnTo>
                    <a:pt x="1113" y="11"/>
                  </a:lnTo>
                  <a:lnTo>
                    <a:pt x="1133" y="8"/>
                  </a:lnTo>
                  <a:lnTo>
                    <a:pt x="1133" y="8"/>
                  </a:lnTo>
                  <a:lnTo>
                    <a:pt x="1133" y="8"/>
                  </a:lnTo>
                  <a:lnTo>
                    <a:pt x="1156" y="6"/>
                  </a:lnTo>
                  <a:lnTo>
                    <a:pt x="1156" y="6"/>
                  </a:lnTo>
                  <a:lnTo>
                    <a:pt x="1156" y="6"/>
                  </a:lnTo>
                  <a:lnTo>
                    <a:pt x="1178" y="3"/>
                  </a:lnTo>
                  <a:lnTo>
                    <a:pt x="1178" y="3"/>
                  </a:lnTo>
                  <a:lnTo>
                    <a:pt x="1178" y="3"/>
                  </a:lnTo>
                  <a:lnTo>
                    <a:pt x="1201" y="3"/>
                  </a:lnTo>
                  <a:lnTo>
                    <a:pt x="1201" y="3"/>
                  </a:lnTo>
                  <a:lnTo>
                    <a:pt x="1201" y="3"/>
                  </a:lnTo>
                  <a:lnTo>
                    <a:pt x="1224" y="0"/>
                  </a:lnTo>
                  <a:lnTo>
                    <a:pt x="1224" y="0"/>
                  </a:lnTo>
                  <a:lnTo>
                    <a:pt x="1224" y="0"/>
                  </a:lnTo>
                  <a:lnTo>
                    <a:pt x="1247" y="0"/>
                  </a:lnTo>
                  <a:lnTo>
                    <a:pt x="1247" y="0"/>
                  </a:lnTo>
                  <a:lnTo>
                    <a:pt x="1247" y="0"/>
                  </a:lnTo>
                  <a:lnTo>
                    <a:pt x="1270" y="0"/>
                  </a:lnTo>
                  <a:lnTo>
                    <a:pt x="1270" y="0"/>
                  </a:lnTo>
                  <a:lnTo>
                    <a:pt x="1270" y="0"/>
                  </a:lnTo>
                  <a:lnTo>
                    <a:pt x="1292" y="0"/>
                  </a:lnTo>
                  <a:lnTo>
                    <a:pt x="1292" y="0"/>
                  </a:lnTo>
                  <a:lnTo>
                    <a:pt x="1292" y="1293"/>
                  </a:lnTo>
                  <a:lnTo>
                    <a:pt x="0" y="1225"/>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762920" y="3419640"/>
              <a:ext cx="1819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R&amp;D Personnel by Scientific Disciplines, 2005</a:t>
              </a:r>
              <a:endParaRPr b="0" lang="en-US" sz="700" spc="-1" strike="noStrike">
                <a:solidFill>
                  <a:srgbClr val="ffffff"/>
                </a:solidFill>
                <a:latin typeface="Arial"/>
              </a:endParaRPr>
            </a:p>
          </p:txBody>
        </p:sp>
        <p:sp>
          <p:nvSpPr>
            <p:cNvPr id="156" name=""/>
            <p:cNvSpPr/>
            <p:nvPr/>
          </p:nvSpPr>
          <p:spPr>
            <a:xfrm>
              <a:off x="3293280" y="3575160"/>
              <a:ext cx="25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Nat.Sc.</a:t>
              </a:r>
              <a:endParaRPr b="0" lang="en-US" sz="600" spc="-1" strike="noStrike">
                <a:solidFill>
                  <a:srgbClr val="ffffff"/>
                </a:solidFill>
                <a:latin typeface="Arial"/>
              </a:endParaRPr>
            </a:p>
          </p:txBody>
        </p:sp>
        <p:sp>
          <p:nvSpPr>
            <p:cNvPr id="157" name=""/>
            <p:cNvSpPr/>
            <p:nvPr/>
          </p:nvSpPr>
          <p:spPr>
            <a:xfrm>
              <a:off x="3364920" y="36792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8" name=""/>
            <p:cNvSpPr/>
            <p:nvPr/>
          </p:nvSpPr>
          <p:spPr>
            <a:xfrm>
              <a:off x="3351600" y="3781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5%</a:t>
              </a:r>
              <a:endParaRPr b="0" lang="en-US" sz="600" spc="-1" strike="noStrike">
                <a:solidFill>
                  <a:srgbClr val="ffffff"/>
                </a:solidFill>
                <a:latin typeface="Arial"/>
              </a:endParaRPr>
            </a:p>
          </p:txBody>
        </p:sp>
        <p:sp>
          <p:nvSpPr>
            <p:cNvPr id="159" name=""/>
            <p:cNvSpPr/>
            <p:nvPr/>
          </p:nvSpPr>
          <p:spPr>
            <a:xfrm>
              <a:off x="3783600" y="4786200"/>
              <a:ext cx="323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Tech. Sc.</a:t>
              </a:r>
              <a:endParaRPr b="0" lang="en-US" sz="600" spc="-1" strike="noStrike">
                <a:solidFill>
                  <a:srgbClr val="ffffff"/>
                </a:solidFill>
                <a:latin typeface="Arial"/>
              </a:endParaRPr>
            </a:p>
          </p:txBody>
        </p:sp>
        <p:sp>
          <p:nvSpPr>
            <p:cNvPr id="160" name=""/>
            <p:cNvSpPr/>
            <p:nvPr/>
          </p:nvSpPr>
          <p:spPr>
            <a:xfrm>
              <a:off x="3894480" y="488808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1" name=""/>
            <p:cNvSpPr/>
            <p:nvPr/>
          </p:nvSpPr>
          <p:spPr>
            <a:xfrm>
              <a:off x="3881880" y="4989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6%</a:t>
              </a:r>
              <a:endParaRPr b="0" lang="en-US" sz="600" spc="-1" strike="noStrike">
                <a:solidFill>
                  <a:srgbClr val="ffffff"/>
                </a:solidFill>
                <a:latin typeface="Arial"/>
              </a:endParaRPr>
            </a:p>
          </p:txBody>
        </p:sp>
        <p:sp>
          <p:nvSpPr>
            <p:cNvPr id="162" name=""/>
            <p:cNvSpPr/>
            <p:nvPr/>
          </p:nvSpPr>
          <p:spPr>
            <a:xfrm>
              <a:off x="2900520" y="5663880"/>
              <a:ext cx="302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Med. Sc.</a:t>
              </a:r>
              <a:endParaRPr b="0" lang="en-US" sz="600" spc="-1" strike="noStrike">
                <a:solidFill>
                  <a:srgbClr val="ffffff"/>
                </a:solidFill>
                <a:latin typeface="Arial"/>
              </a:endParaRPr>
            </a:p>
          </p:txBody>
        </p:sp>
        <p:sp>
          <p:nvSpPr>
            <p:cNvPr id="163" name=""/>
            <p:cNvSpPr/>
            <p:nvPr/>
          </p:nvSpPr>
          <p:spPr>
            <a:xfrm>
              <a:off x="2999160" y="576684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4" name=""/>
            <p:cNvSpPr/>
            <p:nvPr/>
          </p:nvSpPr>
          <p:spPr>
            <a:xfrm>
              <a:off x="2984760" y="5870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4%</a:t>
              </a:r>
              <a:endParaRPr b="0" lang="en-US" sz="600" spc="-1" strike="noStrike">
                <a:solidFill>
                  <a:srgbClr val="ffffff"/>
                </a:solidFill>
                <a:latin typeface="Arial"/>
              </a:endParaRPr>
            </a:p>
          </p:txBody>
        </p:sp>
        <p:sp>
          <p:nvSpPr>
            <p:cNvPr id="165" name=""/>
            <p:cNvSpPr/>
            <p:nvPr/>
          </p:nvSpPr>
          <p:spPr>
            <a:xfrm>
              <a:off x="2045880" y="5537520"/>
              <a:ext cx="305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gric. Sc</a:t>
              </a:r>
              <a:endParaRPr b="0" lang="en-US" sz="600" spc="-1" strike="noStrike">
                <a:solidFill>
                  <a:srgbClr val="ffffff"/>
                </a:solidFill>
                <a:latin typeface="Arial"/>
              </a:endParaRPr>
            </a:p>
          </p:txBody>
        </p:sp>
        <p:sp>
          <p:nvSpPr>
            <p:cNvPr id="166" name=""/>
            <p:cNvSpPr/>
            <p:nvPr/>
          </p:nvSpPr>
          <p:spPr>
            <a:xfrm>
              <a:off x="2143440" y="564012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7" name=""/>
            <p:cNvSpPr/>
            <p:nvPr/>
          </p:nvSpPr>
          <p:spPr>
            <a:xfrm>
              <a:off x="2154240" y="57452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8%</a:t>
              </a:r>
              <a:endParaRPr b="0" lang="en-US" sz="600" spc="-1" strike="noStrike">
                <a:solidFill>
                  <a:srgbClr val="ffffff"/>
                </a:solidFill>
                <a:latin typeface="Arial"/>
              </a:endParaRPr>
            </a:p>
          </p:txBody>
        </p:sp>
        <p:sp>
          <p:nvSpPr>
            <p:cNvPr id="168" name=""/>
            <p:cNvSpPr/>
            <p:nvPr/>
          </p:nvSpPr>
          <p:spPr>
            <a:xfrm>
              <a:off x="1680480" y="4970160"/>
              <a:ext cx="284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oc. Sc.</a:t>
              </a:r>
              <a:endParaRPr b="0" lang="en-US" sz="600" spc="-1" strike="noStrike">
                <a:solidFill>
                  <a:srgbClr val="ffffff"/>
                </a:solidFill>
                <a:latin typeface="Arial"/>
              </a:endParaRPr>
            </a:p>
          </p:txBody>
        </p:sp>
        <p:sp>
          <p:nvSpPr>
            <p:cNvPr id="169" name=""/>
            <p:cNvSpPr/>
            <p:nvPr/>
          </p:nvSpPr>
          <p:spPr>
            <a:xfrm>
              <a:off x="1767600" y="50742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70" name=""/>
            <p:cNvSpPr/>
            <p:nvPr/>
          </p:nvSpPr>
          <p:spPr>
            <a:xfrm>
              <a:off x="1752840" y="5178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3%</a:t>
              </a:r>
              <a:endParaRPr b="0" lang="en-US" sz="600" spc="-1" strike="noStrike">
                <a:solidFill>
                  <a:srgbClr val="ffffff"/>
                </a:solidFill>
                <a:latin typeface="Arial"/>
              </a:endParaRPr>
            </a:p>
          </p:txBody>
        </p:sp>
        <p:sp>
          <p:nvSpPr>
            <p:cNvPr id="171" name=""/>
            <p:cNvSpPr/>
            <p:nvPr/>
          </p:nvSpPr>
          <p:spPr>
            <a:xfrm>
              <a:off x="1796760" y="3735360"/>
              <a:ext cx="404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Humanities </a:t>
              </a:r>
              <a:endParaRPr b="0" lang="en-US" sz="600" spc="-1" strike="noStrike">
                <a:solidFill>
                  <a:srgbClr val="ffffff"/>
                </a:solidFill>
                <a:latin typeface="Arial"/>
              </a:endParaRPr>
            </a:p>
          </p:txBody>
        </p:sp>
        <p:sp>
          <p:nvSpPr>
            <p:cNvPr id="172" name=""/>
            <p:cNvSpPr/>
            <p:nvPr/>
          </p:nvSpPr>
          <p:spPr>
            <a:xfrm>
              <a:off x="1935720" y="38376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73" name=""/>
            <p:cNvSpPr/>
            <p:nvPr/>
          </p:nvSpPr>
          <p:spPr>
            <a:xfrm>
              <a:off x="1920960" y="39405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4%</a:t>
              </a:r>
              <a:endParaRPr b="0" lang="en-US" sz="600" spc="-1" strike="noStrike">
                <a:solidFill>
                  <a:srgbClr val="ffffff"/>
                </a:solidFill>
                <a:latin typeface="Arial"/>
              </a:endParaRPr>
            </a:p>
          </p:txBody>
        </p:sp>
      </p:grpSp>
      <p:grpSp>
        <p:nvGrpSpPr>
          <p:cNvPr id="174" name=""/>
          <p:cNvGrpSpPr/>
          <p:nvPr/>
        </p:nvGrpSpPr>
        <p:grpSpPr>
          <a:xfrm>
            <a:off x="4928400" y="3409920"/>
            <a:ext cx="2406240" cy="2670840"/>
            <a:chOff x="4928400" y="3409920"/>
            <a:chExt cx="2406240" cy="2670840"/>
          </a:xfrm>
        </p:grpSpPr>
        <p:sp>
          <p:nvSpPr>
            <p:cNvPr id="175" name=""/>
            <p:cNvSpPr/>
            <p:nvPr/>
          </p:nvSpPr>
          <p:spPr>
            <a:xfrm>
              <a:off x="5303520" y="3737160"/>
              <a:ext cx="1923480" cy="1918800"/>
            </a:xfrm>
            <a:custGeom>
              <a:avLst/>
              <a:gdLst/>
              <a:ahLst/>
              <a:rect l="l" t="t" r="r" b="b"/>
              <a:pathLst>
                <a:path w="2722" h="2716">
                  <a:moveTo>
                    <a:pt x="1360" y="0"/>
                  </a:moveTo>
                  <a:lnTo>
                    <a:pt x="1382" y="0"/>
                  </a:lnTo>
                  <a:lnTo>
                    <a:pt x="1382" y="0"/>
                  </a:lnTo>
                  <a:lnTo>
                    <a:pt x="1408" y="0"/>
                  </a:lnTo>
                  <a:lnTo>
                    <a:pt x="1408" y="0"/>
                  </a:lnTo>
                  <a:lnTo>
                    <a:pt x="1430" y="0"/>
                  </a:lnTo>
                  <a:lnTo>
                    <a:pt x="1430" y="0"/>
                  </a:lnTo>
                  <a:lnTo>
                    <a:pt x="1455" y="3"/>
                  </a:lnTo>
                  <a:lnTo>
                    <a:pt x="1455" y="3"/>
                  </a:lnTo>
                  <a:lnTo>
                    <a:pt x="1478" y="6"/>
                  </a:lnTo>
                  <a:lnTo>
                    <a:pt x="1478" y="6"/>
                  </a:lnTo>
                  <a:lnTo>
                    <a:pt x="1500" y="6"/>
                  </a:lnTo>
                  <a:lnTo>
                    <a:pt x="1500" y="6"/>
                  </a:lnTo>
                  <a:lnTo>
                    <a:pt x="1526" y="9"/>
                  </a:lnTo>
                  <a:lnTo>
                    <a:pt x="1526" y="9"/>
                  </a:lnTo>
                  <a:lnTo>
                    <a:pt x="1548" y="11"/>
                  </a:lnTo>
                  <a:lnTo>
                    <a:pt x="1573" y="17"/>
                  </a:lnTo>
                  <a:lnTo>
                    <a:pt x="1573" y="17"/>
                  </a:lnTo>
                  <a:lnTo>
                    <a:pt x="1596" y="20"/>
                  </a:lnTo>
                  <a:lnTo>
                    <a:pt x="1596" y="20"/>
                  </a:lnTo>
                  <a:lnTo>
                    <a:pt x="1618" y="25"/>
                  </a:lnTo>
                  <a:lnTo>
                    <a:pt x="1618" y="25"/>
                  </a:lnTo>
                  <a:lnTo>
                    <a:pt x="1644" y="28"/>
                  </a:lnTo>
                  <a:lnTo>
                    <a:pt x="1644" y="28"/>
                  </a:lnTo>
                  <a:lnTo>
                    <a:pt x="1666" y="34"/>
                  </a:lnTo>
                  <a:lnTo>
                    <a:pt x="1666" y="34"/>
                  </a:lnTo>
                  <a:lnTo>
                    <a:pt x="1688" y="39"/>
                  </a:lnTo>
                  <a:lnTo>
                    <a:pt x="1688" y="39"/>
                  </a:lnTo>
                  <a:lnTo>
                    <a:pt x="1711" y="45"/>
                  </a:lnTo>
                  <a:lnTo>
                    <a:pt x="1711" y="45"/>
                  </a:lnTo>
                  <a:lnTo>
                    <a:pt x="1733" y="53"/>
                  </a:lnTo>
                  <a:lnTo>
                    <a:pt x="1733" y="53"/>
                  </a:lnTo>
                  <a:lnTo>
                    <a:pt x="1759" y="59"/>
                  </a:lnTo>
                  <a:lnTo>
                    <a:pt x="1781" y="65"/>
                  </a:lnTo>
                  <a:lnTo>
                    <a:pt x="1781" y="65"/>
                  </a:lnTo>
                  <a:lnTo>
                    <a:pt x="1804" y="73"/>
                  </a:lnTo>
                  <a:lnTo>
                    <a:pt x="1804" y="73"/>
                  </a:lnTo>
                  <a:lnTo>
                    <a:pt x="1826" y="81"/>
                  </a:lnTo>
                  <a:lnTo>
                    <a:pt x="1826" y="81"/>
                  </a:lnTo>
                  <a:lnTo>
                    <a:pt x="1849" y="90"/>
                  </a:lnTo>
                  <a:lnTo>
                    <a:pt x="1849" y="90"/>
                  </a:lnTo>
                  <a:lnTo>
                    <a:pt x="1868" y="98"/>
                  </a:lnTo>
                  <a:lnTo>
                    <a:pt x="1868" y="98"/>
                  </a:lnTo>
                  <a:lnTo>
                    <a:pt x="1891" y="107"/>
                  </a:lnTo>
                  <a:lnTo>
                    <a:pt x="1891" y="107"/>
                  </a:lnTo>
                  <a:lnTo>
                    <a:pt x="1913" y="118"/>
                  </a:lnTo>
                  <a:lnTo>
                    <a:pt x="1913" y="118"/>
                  </a:lnTo>
                  <a:lnTo>
                    <a:pt x="1936" y="126"/>
                  </a:lnTo>
                  <a:lnTo>
                    <a:pt x="1955" y="137"/>
                  </a:lnTo>
                  <a:lnTo>
                    <a:pt x="1955" y="137"/>
                  </a:lnTo>
                  <a:lnTo>
                    <a:pt x="1978" y="149"/>
                  </a:lnTo>
                  <a:lnTo>
                    <a:pt x="1978" y="149"/>
                  </a:lnTo>
                  <a:lnTo>
                    <a:pt x="1998" y="160"/>
                  </a:lnTo>
                  <a:lnTo>
                    <a:pt x="1998" y="160"/>
                  </a:lnTo>
                  <a:lnTo>
                    <a:pt x="2020" y="171"/>
                  </a:lnTo>
                  <a:lnTo>
                    <a:pt x="2020" y="171"/>
                  </a:lnTo>
                  <a:lnTo>
                    <a:pt x="2040" y="182"/>
                  </a:lnTo>
                  <a:lnTo>
                    <a:pt x="2040" y="182"/>
                  </a:lnTo>
                  <a:lnTo>
                    <a:pt x="2062" y="193"/>
                  </a:lnTo>
                  <a:lnTo>
                    <a:pt x="2062" y="193"/>
                  </a:lnTo>
                  <a:lnTo>
                    <a:pt x="2082" y="205"/>
                  </a:lnTo>
                  <a:lnTo>
                    <a:pt x="2082" y="205"/>
                  </a:lnTo>
                  <a:lnTo>
                    <a:pt x="2101" y="219"/>
                  </a:lnTo>
                  <a:lnTo>
                    <a:pt x="2121" y="233"/>
                  </a:lnTo>
                  <a:lnTo>
                    <a:pt x="2121" y="233"/>
                  </a:lnTo>
                  <a:lnTo>
                    <a:pt x="2141" y="244"/>
                  </a:lnTo>
                  <a:lnTo>
                    <a:pt x="2141" y="244"/>
                  </a:lnTo>
                  <a:lnTo>
                    <a:pt x="2160" y="258"/>
                  </a:lnTo>
                  <a:lnTo>
                    <a:pt x="2160" y="258"/>
                  </a:lnTo>
                  <a:lnTo>
                    <a:pt x="2180" y="272"/>
                  </a:lnTo>
                  <a:lnTo>
                    <a:pt x="2180" y="272"/>
                  </a:lnTo>
                  <a:lnTo>
                    <a:pt x="2197" y="289"/>
                  </a:lnTo>
                  <a:lnTo>
                    <a:pt x="2197" y="289"/>
                  </a:lnTo>
                  <a:lnTo>
                    <a:pt x="2217" y="303"/>
                  </a:lnTo>
                  <a:lnTo>
                    <a:pt x="2217" y="303"/>
                  </a:lnTo>
                  <a:lnTo>
                    <a:pt x="2234" y="317"/>
                  </a:lnTo>
                  <a:lnTo>
                    <a:pt x="2234" y="317"/>
                  </a:lnTo>
                  <a:lnTo>
                    <a:pt x="2253" y="333"/>
                  </a:lnTo>
                  <a:lnTo>
                    <a:pt x="2253" y="333"/>
                  </a:lnTo>
                  <a:lnTo>
                    <a:pt x="2270" y="347"/>
                  </a:lnTo>
                  <a:lnTo>
                    <a:pt x="2290" y="364"/>
                  </a:lnTo>
                  <a:lnTo>
                    <a:pt x="2290" y="364"/>
                  </a:lnTo>
                  <a:lnTo>
                    <a:pt x="2307" y="381"/>
                  </a:lnTo>
                  <a:lnTo>
                    <a:pt x="2307" y="381"/>
                  </a:lnTo>
                  <a:lnTo>
                    <a:pt x="2323" y="398"/>
                  </a:lnTo>
                  <a:lnTo>
                    <a:pt x="2323" y="398"/>
                  </a:lnTo>
                  <a:lnTo>
                    <a:pt x="2340" y="415"/>
                  </a:lnTo>
                  <a:lnTo>
                    <a:pt x="2340" y="415"/>
                  </a:lnTo>
                  <a:lnTo>
                    <a:pt x="2354" y="431"/>
                  </a:lnTo>
                  <a:lnTo>
                    <a:pt x="2354" y="431"/>
                  </a:lnTo>
                  <a:lnTo>
                    <a:pt x="2371" y="448"/>
                  </a:lnTo>
                  <a:lnTo>
                    <a:pt x="2371" y="448"/>
                  </a:lnTo>
                  <a:lnTo>
                    <a:pt x="2388" y="468"/>
                  </a:lnTo>
                  <a:lnTo>
                    <a:pt x="2388" y="468"/>
                  </a:lnTo>
                  <a:lnTo>
                    <a:pt x="2402" y="485"/>
                  </a:lnTo>
                  <a:lnTo>
                    <a:pt x="2419" y="504"/>
                  </a:lnTo>
                  <a:lnTo>
                    <a:pt x="2419" y="504"/>
                  </a:lnTo>
                  <a:lnTo>
                    <a:pt x="2433" y="521"/>
                  </a:lnTo>
                  <a:lnTo>
                    <a:pt x="2433" y="521"/>
                  </a:lnTo>
                  <a:lnTo>
                    <a:pt x="2447" y="541"/>
                  </a:lnTo>
                  <a:lnTo>
                    <a:pt x="2447" y="541"/>
                  </a:lnTo>
                  <a:lnTo>
                    <a:pt x="2461" y="560"/>
                  </a:lnTo>
                  <a:lnTo>
                    <a:pt x="2461" y="560"/>
                  </a:lnTo>
                  <a:lnTo>
                    <a:pt x="2475" y="580"/>
                  </a:lnTo>
                  <a:lnTo>
                    <a:pt x="2475" y="580"/>
                  </a:lnTo>
                  <a:lnTo>
                    <a:pt x="2489" y="599"/>
                  </a:lnTo>
                  <a:lnTo>
                    <a:pt x="2489" y="599"/>
                  </a:lnTo>
                  <a:lnTo>
                    <a:pt x="2503" y="619"/>
                  </a:lnTo>
                  <a:lnTo>
                    <a:pt x="2503" y="619"/>
                  </a:lnTo>
                  <a:lnTo>
                    <a:pt x="2514" y="639"/>
                  </a:lnTo>
                  <a:lnTo>
                    <a:pt x="2526" y="658"/>
                  </a:lnTo>
                  <a:lnTo>
                    <a:pt x="2526" y="658"/>
                  </a:lnTo>
                  <a:lnTo>
                    <a:pt x="2540" y="678"/>
                  </a:lnTo>
                  <a:lnTo>
                    <a:pt x="2540" y="678"/>
                  </a:lnTo>
                  <a:lnTo>
                    <a:pt x="2551" y="700"/>
                  </a:lnTo>
                  <a:lnTo>
                    <a:pt x="2551" y="700"/>
                  </a:lnTo>
                  <a:lnTo>
                    <a:pt x="2562" y="720"/>
                  </a:lnTo>
                  <a:lnTo>
                    <a:pt x="2562" y="720"/>
                  </a:lnTo>
                  <a:lnTo>
                    <a:pt x="2573" y="742"/>
                  </a:lnTo>
                  <a:lnTo>
                    <a:pt x="2573" y="742"/>
                  </a:lnTo>
                  <a:lnTo>
                    <a:pt x="2585" y="762"/>
                  </a:lnTo>
                  <a:lnTo>
                    <a:pt x="2585" y="762"/>
                  </a:lnTo>
                  <a:lnTo>
                    <a:pt x="2593" y="784"/>
                  </a:lnTo>
                  <a:lnTo>
                    <a:pt x="2593" y="784"/>
                  </a:lnTo>
                  <a:lnTo>
                    <a:pt x="2604" y="804"/>
                  </a:lnTo>
                  <a:lnTo>
                    <a:pt x="2613" y="826"/>
                  </a:lnTo>
                  <a:lnTo>
                    <a:pt x="2613" y="826"/>
                  </a:lnTo>
                  <a:lnTo>
                    <a:pt x="2621" y="849"/>
                  </a:lnTo>
                  <a:lnTo>
                    <a:pt x="2621" y="849"/>
                  </a:lnTo>
                  <a:lnTo>
                    <a:pt x="2632" y="871"/>
                  </a:lnTo>
                  <a:lnTo>
                    <a:pt x="2632" y="871"/>
                  </a:lnTo>
                  <a:lnTo>
                    <a:pt x="2641" y="893"/>
                  </a:lnTo>
                  <a:lnTo>
                    <a:pt x="2641" y="893"/>
                  </a:lnTo>
                  <a:lnTo>
                    <a:pt x="2647" y="916"/>
                  </a:lnTo>
                  <a:lnTo>
                    <a:pt x="2647" y="916"/>
                  </a:lnTo>
                  <a:lnTo>
                    <a:pt x="2655" y="938"/>
                  </a:lnTo>
                  <a:lnTo>
                    <a:pt x="2655" y="938"/>
                  </a:lnTo>
                  <a:lnTo>
                    <a:pt x="2663" y="961"/>
                  </a:lnTo>
                  <a:lnTo>
                    <a:pt x="2663" y="961"/>
                  </a:lnTo>
                  <a:lnTo>
                    <a:pt x="2669" y="983"/>
                  </a:lnTo>
                  <a:lnTo>
                    <a:pt x="2669" y="983"/>
                  </a:lnTo>
                  <a:lnTo>
                    <a:pt x="2675" y="1005"/>
                  </a:lnTo>
                  <a:lnTo>
                    <a:pt x="2680" y="1028"/>
                  </a:lnTo>
                  <a:lnTo>
                    <a:pt x="2680" y="1028"/>
                  </a:lnTo>
                  <a:lnTo>
                    <a:pt x="2686" y="1053"/>
                  </a:lnTo>
                  <a:lnTo>
                    <a:pt x="2686" y="1053"/>
                  </a:lnTo>
                  <a:lnTo>
                    <a:pt x="2691" y="1075"/>
                  </a:lnTo>
                  <a:lnTo>
                    <a:pt x="2691" y="1075"/>
                  </a:lnTo>
                  <a:lnTo>
                    <a:pt x="2697" y="1098"/>
                  </a:lnTo>
                  <a:lnTo>
                    <a:pt x="2697" y="1098"/>
                  </a:lnTo>
                  <a:lnTo>
                    <a:pt x="2700" y="1123"/>
                  </a:lnTo>
                  <a:lnTo>
                    <a:pt x="2700" y="1123"/>
                  </a:lnTo>
                  <a:lnTo>
                    <a:pt x="2706" y="1145"/>
                  </a:lnTo>
                  <a:lnTo>
                    <a:pt x="2706" y="1145"/>
                  </a:lnTo>
                  <a:lnTo>
                    <a:pt x="2708" y="1168"/>
                  </a:lnTo>
                  <a:lnTo>
                    <a:pt x="2708" y="1168"/>
                  </a:lnTo>
                  <a:lnTo>
                    <a:pt x="2711" y="1193"/>
                  </a:lnTo>
                  <a:lnTo>
                    <a:pt x="2714" y="1215"/>
                  </a:lnTo>
                  <a:lnTo>
                    <a:pt x="2714" y="1215"/>
                  </a:lnTo>
                  <a:lnTo>
                    <a:pt x="2717" y="1238"/>
                  </a:lnTo>
                  <a:lnTo>
                    <a:pt x="2717" y="1238"/>
                  </a:lnTo>
                  <a:lnTo>
                    <a:pt x="2720" y="1263"/>
                  </a:lnTo>
                  <a:lnTo>
                    <a:pt x="2720" y="1263"/>
                  </a:lnTo>
                  <a:lnTo>
                    <a:pt x="2720" y="1285"/>
                  </a:lnTo>
                  <a:lnTo>
                    <a:pt x="2720" y="1285"/>
                  </a:lnTo>
                  <a:lnTo>
                    <a:pt x="2720" y="1311"/>
                  </a:lnTo>
                  <a:lnTo>
                    <a:pt x="2720" y="1311"/>
                  </a:lnTo>
                  <a:lnTo>
                    <a:pt x="2722" y="1333"/>
                  </a:lnTo>
                  <a:lnTo>
                    <a:pt x="2722" y="1333"/>
                  </a:lnTo>
                  <a:lnTo>
                    <a:pt x="2722" y="1358"/>
                  </a:lnTo>
                  <a:lnTo>
                    <a:pt x="2722" y="1358"/>
                  </a:lnTo>
                  <a:lnTo>
                    <a:pt x="2722" y="1380"/>
                  </a:lnTo>
                  <a:lnTo>
                    <a:pt x="2720" y="1406"/>
                  </a:lnTo>
                  <a:lnTo>
                    <a:pt x="2720" y="1406"/>
                  </a:lnTo>
                  <a:lnTo>
                    <a:pt x="2720" y="1428"/>
                  </a:lnTo>
                  <a:lnTo>
                    <a:pt x="2720" y="1428"/>
                  </a:lnTo>
                  <a:lnTo>
                    <a:pt x="2720" y="1453"/>
                  </a:lnTo>
                  <a:lnTo>
                    <a:pt x="2720" y="1453"/>
                  </a:lnTo>
                  <a:lnTo>
                    <a:pt x="2717" y="1476"/>
                  </a:lnTo>
                  <a:lnTo>
                    <a:pt x="2717" y="1476"/>
                  </a:lnTo>
                  <a:lnTo>
                    <a:pt x="2714" y="1498"/>
                  </a:lnTo>
                  <a:lnTo>
                    <a:pt x="2714" y="1498"/>
                  </a:lnTo>
                  <a:lnTo>
                    <a:pt x="2711" y="1523"/>
                  </a:lnTo>
                  <a:lnTo>
                    <a:pt x="2711" y="1523"/>
                  </a:lnTo>
                  <a:lnTo>
                    <a:pt x="2708" y="1546"/>
                  </a:lnTo>
                  <a:lnTo>
                    <a:pt x="2708" y="1546"/>
                  </a:lnTo>
                  <a:lnTo>
                    <a:pt x="2706" y="1571"/>
                  </a:lnTo>
                  <a:lnTo>
                    <a:pt x="2706" y="1571"/>
                  </a:lnTo>
                  <a:lnTo>
                    <a:pt x="2700" y="1593"/>
                  </a:lnTo>
                  <a:lnTo>
                    <a:pt x="2697" y="1616"/>
                  </a:lnTo>
                  <a:lnTo>
                    <a:pt x="2697" y="1616"/>
                  </a:lnTo>
                  <a:lnTo>
                    <a:pt x="2691" y="1641"/>
                  </a:lnTo>
                  <a:lnTo>
                    <a:pt x="2691" y="1641"/>
                  </a:lnTo>
                  <a:lnTo>
                    <a:pt x="2686" y="1663"/>
                  </a:lnTo>
                  <a:lnTo>
                    <a:pt x="2686" y="1663"/>
                  </a:lnTo>
                  <a:lnTo>
                    <a:pt x="2680" y="1686"/>
                  </a:lnTo>
                  <a:lnTo>
                    <a:pt x="2680" y="1686"/>
                  </a:lnTo>
                  <a:lnTo>
                    <a:pt x="2675" y="1708"/>
                  </a:lnTo>
                  <a:lnTo>
                    <a:pt x="2675" y="1708"/>
                  </a:lnTo>
                  <a:lnTo>
                    <a:pt x="2669" y="1730"/>
                  </a:lnTo>
                  <a:lnTo>
                    <a:pt x="2669" y="1730"/>
                  </a:lnTo>
                  <a:lnTo>
                    <a:pt x="2663" y="1756"/>
                  </a:lnTo>
                  <a:lnTo>
                    <a:pt x="2663" y="1756"/>
                  </a:lnTo>
                  <a:lnTo>
                    <a:pt x="2655" y="1778"/>
                  </a:lnTo>
                  <a:lnTo>
                    <a:pt x="2647" y="1800"/>
                  </a:lnTo>
                  <a:lnTo>
                    <a:pt x="2647" y="1800"/>
                  </a:lnTo>
                  <a:lnTo>
                    <a:pt x="2641" y="1823"/>
                  </a:lnTo>
                  <a:lnTo>
                    <a:pt x="2641" y="1823"/>
                  </a:lnTo>
                  <a:lnTo>
                    <a:pt x="2632" y="1845"/>
                  </a:lnTo>
                  <a:lnTo>
                    <a:pt x="2632" y="1845"/>
                  </a:lnTo>
                  <a:lnTo>
                    <a:pt x="2621" y="1865"/>
                  </a:lnTo>
                  <a:lnTo>
                    <a:pt x="2621" y="1865"/>
                  </a:lnTo>
                  <a:lnTo>
                    <a:pt x="2613" y="1887"/>
                  </a:lnTo>
                  <a:lnTo>
                    <a:pt x="2613" y="1887"/>
                  </a:lnTo>
                  <a:lnTo>
                    <a:pt x="2604" y="1910"/>
                  </a:lnTo>
                  <a:lnTo>
                    <a:pt x="2604" y="1910"/>
                  </a:lnTo>
                  <a:lnTo>
                    <a:pt x="2593" y="1932"/>
                  </a:lnTo>
                  <a:lnTo>
                    <a:pt x="2593" y="1932"/>
                  </a:lnTo>
                  <a:lnTo>
                    <a:pt x="2585" y="1952"/>
                  </a:lnTo>
                  <a:lnTo>
                    <a:pt x="2573" y="1974"/>
                  </a:lnTo>
                  <a:lnTo>
                    <a:pt x="2573" y="1974"/>
                  </a:lnTo>
                  <a:lnTo>
                    <a:pt x="2562" y="1994"/>
                  </a:lnTo>
                  <a:lnTo>
                    <a:pt x="2562" y="1994"/>
                  </a:lnTo>
                  <a:lnTo>
                    <a:pt x="2551" y="2016"/>
                  </a:lnTo>
                  <a:lnTo>
                    <a:pt x="2551" y="2016"/>
                  </a:lnTo>
                  <a:lnTo>
                    <a:pt x="2540" y="2036"/>
                  </a:lnTo>
                  <a:lnTo>
                    <a:pt x="2540" y="2036"/>
                  </a:lnTo>
                  <a:lnTo>
                    <a:pt x="2526" y="2058"/>
                  </a:lnTo>
                  <a:lnTo>
                    <a:pt x="2526" y="2058"/>
                  </a:lnTo>
                  <a:lnTo>
                    <a:pt x="2514" y="2078"/>
                  </a:lnTo>
                  <a:lnTo>
                    <a:pt x="2514" y="2078"/>
                  </a:lnTo>
                  <a:lnTo>
                    <a:pt x="2503" y="2097"/>
                  </a:lnTo>
                  <a:lnTo>
                    <a:pt x="2503" y="2097"/>
                  </a:lnTo>
                  <a:lnTo>
                    <a:pt x="2489" y="2117"/>
                  </a:lnTo>
                  <a:lnTo>
                    <a:pt x="2489" y="2117"/>
                  </a:lnTo>
                  <a:lnTo>
                    <a:pt x="2475" y="2136"/>
                  </a:lnTo>
                  <a:lnTo>
                    <a:pt x="2461" y="2156"/>
                  </a:lnTo>
                  <a:lnTo>
                    <a:pt x="2461" y="2156"/>
                  </a:lnTo>
                  <a:lnTo>
                    <a:pt x="2447" y="2176"/>
                  </a:lnTo>
                  <a:lnTo>
                    <a:pt x="2447" y="2176"/>
                  </a:lnTo>
                  <a:lnTo>
                    <a:pt x="2433" y="2192"/>
                  </a:lnTo>
                  <a:lnTo>
                    <a:pt x="2433" y="2192"/>
                  </a:lnTo>
                  <a:lnTo>
                    <a:pt x="2419" y="2212"/>
                  </a:lnTo>
                  <a:lnTo>
                    <a:pt x="2419" y="2212"/>
                  </a:lnTo>
                  <a:lnTo>
                    <a:pt x="2402" y="2229"/>
                  </a:lnTo>
                  <a:lnTo>
                    <a:pt x="2402" y="2229"/>
                  </a:lnTo>
                  <a:lnTo>
                    <a:pt x="2388" y="2248"/>
                  </a:lnTo>
                  <a:lnTo>
                    <a:pt x="2388" y="2248"/>
                  </a:lnTo>
                  <a:lnTo>
                    <a:pt x="2371" y="2265"/>
                  </a:lnTo>
                  <a:lnTo>
                    <a:pt x="2371" y="2265"/>
                  </a:lnTo>
                  <a:lnTo>
                    <a:pt x="2354" y="2285"/>
                  </a:lnTo>
                  <a:lnTo>
                    <a:pt x="2340" y="2302"/>
                  </a:lnTo>
                  <a:lnTo>
                    <a:pt x="2340" y="2302"/>
                  </a:lnTo>
                  <a:lnTo>
                    <a:pt x="2323" y="2318"/>
                  </a:lnTo>
                  <a:lnTo>
                    <a:pt x="2323" y="2318"/>
                  </a:lnTo>
                  <a:lnTo>
                    <a:pt x="2307" y="2335"/>
                  </a:lnTo>
                  <a:lnTo>
                    <a:pt x="2307" y="2335"/>
                  </a:lnTo>
                  <a:lnTo>
                    <a:pt x="2290" y="2349"/>
                  </a:lnTo>
                  <a:lnTo>
                    <a:pt x="2290" y="2349"/>
                  </a:lnTo>
                  <a:lnTo>
                    <a:pt x="2270" y="2366"/>
                  </a:lnTo>
                  <a:lnTo>
                    <a:pt x="2270" y="2366"/>
                  </a:lnTo>
                  <a:lnTo>
                    <a:pt x="2253" y="2383"/>
                  </a:lnTo>
                  <a:lnTo>
                    <a:pt x="2253" y="2383"/>
                  </a:lnTo>
                  <a:lnTo>
                    <a:pt x="2234" y="2397"/>
                  </a:lnTo>
                  <a:lnTo>
                    <a:pt x="2234" y="2397"/>
                  </a:lnTo>
                  <a:lnTo>
                    <a:pt x="2217" y="2414"/>
                  </a:lnTo>
                  <a:lnTo>
                    <a:pt x="2197" y="2428"/>
                  </a:lnTo>
                  <a:lnTo>
                    <a:pt x="2197" y="2428"/>
                  </a:lnTo>
                  <a:lnTo>
                    <a:pt x="2180" y="2442"/>
                  </a:lnTo>
                  <a:lnTo>
                    <a:pt x="2180" y="2442"/>
                  </a:lnTo>
                  <a:lnTo>
                    <a:pt x="2160" y="2456"/>
                  </a:lnTo>
                  <a:lnTo>
                    <a:pt x="2160" y="2456"/>
                  </a:lnTo>
                  <a:lnTo>
                    <a:pt x="2141" y="2470"/>
                  </a:lnTo>
                  <a:lnTo>
                    <a:pt x="2141" y="2470"/>
                  </a:lnTo>
                  <a:lnTo>
                    <a:pt x="2121" y="2484"/>
                  </a:lnTo>
                  <a:lnTo>
                    <a:pt x="2121" y="2484"/>
                  </a:lnTo>
                  <a:lnTo>
                    <a:pt x="2101" y="2498"/>
                  </a:lnTo>
                  <a:lnTo>
                    <a:pt x="2101" y="2498"/>
                  </a:lnTo>
                  <a:lnTo>
                    <a:pt x="2082" y="2509"/>
                  </a:lnTo>
                  <a:lnTo>
                    <a:pt x="2082" y="2509"/>
                  </a:lnTo>
                  <a:lnTo>
                    <a:pt x="2062" y="2520"/>
                  </a:lnTo>
                  <a:lnTo>
                    <a:pt x="2062" y="2520"/>
                  </a:lnTo>
                  <a:lnTo>
                    <a:pt x="2040" y="2534"/>
                  </a:lnTo>
                  <a:lnTo>
                    <a:pt x="2020" y="2545"/>
                  </a:lnTo>
                  <a:lnTo>
                    <a:pt x="2020" y="2545"/>
                  </a:lnTo>
                  <a:lnTo>
                    <a:pt x="1998" y="2556"/>
                  </a:lnTo>
                  <a:lnTo>
                    <a:pt x="1998" y="2556"/>
                  </a:lnTo>
                  <a:lnTo>
                    <a:pt x="1978" y="2568"/>
                  </a:lnTo>
                  <a:lnTo>
                    <a:pt x="1978" y="2568"/>
                  </a:lnTo>
                  <a:lnTo>
                    <a:pt x="1955" y="2579"/>
                  </a:lnTo>
                  <a:lnTo>
                    <a:pt x="1955" y="2579"/>
                  </a:lnTo>
                  <a:lnTo>
                    <a:pt x="1936" y="2587"/>
                  </a:lnTo>
                  <a:lnTo>
                    <a:pt x="1936" y="2587"/>
                  </a:lnTo>
                  <a:lnTo>
                    <a:pt x="1913" y="2598"/>
                  </a:lnTo>
                  <a:lnTo>
                    <a:pt x="1913" y="2598"/>
                  </a:lnTo>
                  <a:lnTo>
                    <a:pt x="1891" y="2607"/>
                  </a:lnTo>
                  <a:lnTo>
                    <a:pt x="1891" y="2607"/>
                  </a:lnTo>
                  <a:lnTo>
                    <a:pt x="1868" y="2615"/>
                  </a:lnTo>
                  <a:lnTo>
                    <a:pt x="1849" y="2626"/>
                  </a:lnTo>
                  <a:lnTo>
                    <a:pt x="1849" y="2626"/>
                  </a:lnTo>
                  <a:lnTo>
                    <a:pt x="1826" y="2635"/>
                  </a:lnTo>
                  <a:lnTo>
                    <a:pt x="1826" y="2635"/>
                  </a:lnTo>
                  <a:lnTo>
                    <a:pt x="1804" y="2640"/>
                  </a:lnTo>
                  <a:lnTo>
                    <a:pt x="1804" y="2640"/>
                  </a:lnTo>
                  <a:lnTo>
                    <a:pt x="1781" y="2649"/>
                  </a:lnTo>
                  <a:lnTo>
                    <a:pt x="1781" y="2649"/>
                  </a:lnTo>
                  <a:lnTo>
                    <a:pt x="1759" y="2657"/>
                  </a:lnTo>
                  <a:lnTo>
                    <a:pt x="1759" y="2657"/>
                  </a:lnTo>
                  <a:lnTo>
                    <a:pt x="1733" y="2663"/>
                  </a:lnTo>
                  <a:lnTo>
                    <a:pt x="1733" y="2663"/>
                  </a:lnTo>
                  <a:lnTo>
                    <a:pt x="1711" y="2668"/>
                  </a:lnTo>
                  <a:lnTo>
                    <a:pt x="1711" y="2668"/>
                  </a:lnTo>
                  <a:lnTo>
                    <a:pt x="1688" y="2674"/>
                  </a:lnTo>
                  <a:lnTo>
                    <a:pt x="1666" y="2679"/>
                  </a:lnTo>
                  <a:lnTo>
                    <a:pt x="1666" y="2679"/>
                  </a:lnTo>
                  <a:lnTo>
                    <a:pt x="1644" y="2685"/>
                  </a:lnTo>
                  <a:lnTo>
                    <a:pt x="1644" y="2685"/>
                  </a:lnTo>
                  <a:lnTo>
                    <a:pt x="1618" y="2691"/>
                  </a:lnTo>
                  <a:lnTo>
                    <a:pt x="1618" y="2691"/>
                  </a:lnTo>
                  <a:lnTo>
                    <a:pt x="1596" y="2693"/>
                  </a:lnTo>
                  <a:lnTo>
                    <a:pt x="1596" y="2693"/>
                  </a:lnTo>
                  <a:lnTo>
                    <a:pt x="1573" y="2699"/>
                  </a:lnTo>
                  <a:lnTo>
                    <a:pt x="1573" y="2699"/>
                  </a:lnTo>
                  <a:lnTo>
                    <a:pt x="1548" y="2702"/>
                  </a:lnTo>
                  <a:lnTo>
                    <a:pt x="1548" y="2702"/>
                  </a:lnTo>
                  <a:lnTo>
                    <a:pt x="1526" y="2705"/>
                  </a:lnTo>
                  <a:lnTo>
                    <a:pt x="1526" y="2705"/>
                  </a:lnTo>
                  <a:lnTo>
                    <a:pt x="1500" y="2707"/>
                  </a:lnTo>
                  <a:lnTo>
                    <a:pt x="1500" y="2707"/>
                  </a:lnTo>
                  <a:lnTo>
                    <a:pt x="1478" y="2710"/>
                  </a:lnTo>
                  <a:lnTo>
                    <a:pt x="1455" y="2713"/>
                  </a:lnTo>
                  <a:lnTo>
                    <a:pt x="1455" y="2713"/>
                  </a:lnTo>
                  <a:lnTo>
                    <a:pt x="1430" y="2713"/>
                  </a:lnTo>
                  <a:lnTo>
                    <a:pt x="1430" y="2713"/>
                  </a:lnTo>
                  <a:lnTo>
                    <a:pt x="1408" y="2713"/>
                  </a:lnTo>
                  <a:lnTo>
                    <a:pt x="1408" y="2713"/>
                  </a:lnTo>
                  <a:lnTo>
                    <a:pt x="1382" y="2716"/>
                  </a:lnTo>
                  <a:lnTo>
                    <a:pt x="1382" y="2716"/>
                  </a:lnTo>
                  <a:lnTo>
                    <a:pt x="1360" y="2716"/>
                  </a:lnTo>
                  <a:lnTo>
                    <a:pt x="1360" y="2716"/>
                  </a:lnTo>
                  <a:lnTo>
                    <a:pt x="1334" y="2716"/>
                  </a:lnTo>
                  <a:lnTo>
                    <a:pt x="1334" y="2716"/>
                  </a:lnTo>
                  <a:lnTo>
                    <a:pt x="1312" y="2713"/>
                  </a:lnTo>
                  <a:lnTo>
                    <a:pt x="1312" y="2713"/>
                  </a:lnTo>
                  <a:lnTo>
                    <a:pt x="1287" y="2713"/>
                  </a:lnTo>
                  <a:lnTo>
                    <a:pt x="1264" y="2713"/>
                  </a:lnTo>
                  <a:lnTo>
                    <a:pt x="1264" y="2713"/>
                  </a:lnTo>
                  <a:lnTo>
                    <a:pt x="1239" y="2710"/>
                  </a:lnTo>
                  <a:lnTo>
                    <a:pt x="1239" y="2710"/>
                  </a:lnTo>
                  <a:lnTo>
                    <a:pt x="1216" y="2707"/>
                  </a:lnTo>
                  <a:lnTo>
                    <a:pt x="1216" y="2707"/>
                  </a:lnTo>
                  <a:lnTo>
                    <a:pt x="1194" y="2705"/>
                  </a:lnTo>
                  <a:lnTo>
                    <a:pt x="1194" y="2705"/>
                  </a:lnTo>
                  <a:lnTo>
                    <a:pt x="1169" y="2702"/>
                  </a:lnTo>
                  <a:lnTo>
                    <a:pt x="1169" y="2702"/>
                  </a:lnTo>
                  <a:lnTo>
                    <a:pt x="1146" y="2699"/>
                  </a:lnTo>
                  <a:lnTo>
                    <a:pt x="1146" y="2699"/>
                  </a:lnTo>
                  <a:lnTo>
                    <a:pt x="1124" y="2693"/>
                  </a:lnTo>
                  <a:lnTo>
                    <a:pt x="1124" y="2693"/>
                  </a:lnTo>
                  <a:lnTo>
                    <a:pt x="1098" y="2691"/>
                  </a:lnTo>
                  <a:lnTo>
                    <a:pt x="1076" y="2685"/>
                  </a:lnTo>
                  <a:lnTo>
                    <a:pt x="1076" y="2685"/>
                  </a:lnTo>
                  <a:lnTo>
                    <a:pt x="1054" y="2679"/>
                  </a:lnTo>
                  <a:lnTo>
                    <a:pt x="1054" y="2679"/>
                  </a:lnTo>
                  <a:lnTo>
                    <a:pt x="1028" y="2674"/>
                  </a:lnTo>
                  <a:lnTo>
                    <a:pt x="1028" y="2674"/>
                  </a:lnTo>
                  <a:lnTo>
                    <a:pt x="1006" y="2668"/>
                  </a:lnTo>
                  <a:lnTo>
                    <a:pt x="1006" y="2668"/>
                  </a:lnTo>
                  <a:lnTo>
                    <a:pt x="983" y="2663"/>
                  </a:lnTo>
                  <a:lnTo>
                    <a:pt x="983" y="2663"/>
                  </a:lnTo>
                  <a:lnTo>
                    <a:pt x="961" y="2657"/>
                  </a:lnTo>
                  <a:lnTo>
                    <a:pt x="961" y="2657"/>
                  </a:lnTo>
                  <a:lnTo>
                    <a:pt x="938" y="2649"/>
                  </a:lnTo>
                  <a:lnTo>
                    <a:pt x="938" y="2649"/>
                  </a:lnTo>
                  <a:lnTo>
                    <a:pt x="916" y="2640"/>
                  </a:lnTo>
                  <a:lnTo>
                    <a:pt x="893" y="2635"/>
                  </a:lnTo>
                  <a:lnTo>
                    <a:pt x="893" y="2635"/>
                  </a:lnTo>
                  <a:lnTo>
                    <a:pt x="871" y="2626"/>
                  </a:lnTo>
                  <a:lnTo>
                    <a:pt x="871" y="2626"/>
                  </a:lnTo>
                  <a:lnTo>
                    <a:pt x="848" y="2615"/>
                  </a:lnTo>
                  <a:lnTo>
                    <a:pt x="848" y="2615"/>
                  </a:lnTo>
                  <a:lnTo>
                    <a:pt x="826" y="2607"/>
                  </a:lnTo>
                  <a:lnTo>
                    <a:pt x="826" y="2607"/>
                  </a:lnTo>
                  <a:lnTo>
                    <a:pt x="803" y="2598"/>
                  </a:lnTo>
                  <a:lnTo>
                    <a:pt x="803" y="2598"/>
                  </a:lnTo>
                  <a:lnTo>
                    <a:pt x="784" y="2587"/>
                  </a:lnTo>
                  <a:lnTo>
                    <a:pt x="784" y="2587"/>
                  </a:lnTo>
                  <a:lnTo>
                    <a:pt x="761" y="2579"/>
                  </a:lnTo>
                  <a:lnTo>
                    <a:pt x="761" y="2579"/>
                  </a:lnTo>
                  <a:lnTo>
                    <a:pt x="742" y="2568"/>
                  </a:lnTo>
                  <a:lnTo>
                    <a:pt x="742" y="2568"/>
                  </a:lnTo>
                  <a:lnTo>
                    <a:pt x="719" y="2556"/>
                  </a:lnTo>
                  <a:lnTo>
                    <a:pt x="700" y="2545"/>
                  </a:lnTo>
                  <a:lnTo>
                    <a:pt x="700" y="2545"/>
                  </a:lnTo>
                  <a:lnTo>
                    <a:pt x="677" y="2534"/>
                  </a:lnTo>
                  <a:lnTo>
                    <a:pt x="677" y="2534"/>
                  </a:lnTo>
                  <a:lnTo>
                    <a:pt x="657" y="2520"/>
                  </a:lnTo>
                  <a:lnTo>
                    <a:pt x="657" y="2520"/>
                  </a:lnTo>
                  <a:lnTo>
                    <a:pt x="638" y="2509"/>
                  </a:lnTo>
                  <a:lnTo>
                    <a:pt x="638" y="2509"/>
                  </a:lnTo>
                  <a:lnTo>
                    <a:pt x="618" y="2498"/>
                  </a:lnTo>
                  <a:lnTo>
                    <a:pt x="618" y="2498"/>
                  </a:lnTo>
                  <a:lnTo>
                    <a:pt x="598" y="2484"/>
                  </a:lnTo>
                  <a:lnTo>
                    <a:pt x="598" y="2484"/>
                  </a:lnTo>
                  <a:lnTo>
                    <a:pt x="579" y="2470"/>
                  </a:lnTo>
                  <a:lnTo>
                    <a:pt x="579" y="2470"/>
                  </a:lnTo>
                  <a:lnTo>
                    <a:pt x="559" y="2456"/>
                  </a:lnTo>
                  <a:lnTo>
                    <a:pt x="539" y="2442"/>
                  </a:lnTo>
                  <a:lnTo>
                    <a:pt x="539" y="2442"/>
                  </a:lnTo>
                  <a:lnTo>
                    <a:pt x="520" y="2428"/>
                  </a:lnTo>
                  <a:lnTo>
                    <a:pt x="520" y="2428"/>
                  </a:lnTo>
                  <a:lnTo>
                    <a:pt x="503" y="2414"/>
                  </a:lnTo>
                  <a:lnTo>
                    <a:pt x="503" y="2414"/>
                  </a:lnTo>
                  <a:lnTo>
                    <a:pt x="483" y="2397"/>
                  </a:lnTo>
                  <a:lnTo>
                    <a:pt x="483" y="2397"/>
                  </a:lnTo>
                  <a:lnTo>
                    <a:pt x="466" y="2383"/>
                  </a:lnTo>
                  <a:lnTo>
                    <a:pt x="466" y="2383"/>
                  </a:lnTo>
                  <a:lnTo>
                    <a:pt x="447" y="2366"/>
                  </a:lnTo>
                  <a:lnTo>
                    <a:pt x="447" y="2366"/>
                  </a:lnTo>
                  <a:lnTo>
                    <a:pt x="430" y="2349"/>
                  </a:lnTo>
                  <a:lnTo>
                    <a:pt x="430" y="2349"/>
                  </a:lnTo>
                  <a:lnTo>
                    <a:pt x="413" y="2335"/>
                  </a:lnTo>
                  <a:lnTo>
                    <a:pt x="396" y="2318"/>
                  </a:lnTo>
                  <a:lnTo>
                    <a:pt x="396" y="2318"/>
                  </a:lnTo>
                  <a:lnTo>
                    <a:pt x="379" y="2302"/>
                  </a:lnTo>
                  <a:lnTo>
                    <a:pt x="379" y="2302"/>
                  </a:lnTo>
                  <a:lnTo>
                    <a:pt x="362" y="2285"/>
                  </a:lnTo>
                  <a:lnTo>
                    <a:pt x="362" y="2285"/>
                  </a:lnTo>
                  <a:lnTo>
                    <a:pt x="346" y="2265"/>
                  </a:lnTo>
                  <a:lnTo>
                    <a:pt x="346" y="2265"/>
                  </a:lnTo>
                  <a:lnTo>
                    <a:pt x="331" y="2248"/>
                  </a:lnTo>
                  <a:lnTo>
                    <a:pt x="331" y="2248"/>
                  </a:lnTo>
                  <a:lnTo>
                    <a:pt x="315" y="2229"/>
                  </a:lnTo>
                  <a:lnTo>
                    <a:pt x="315" y="2229"/>
                  </a:lnTo>
                  <a:lnTo>
                    <a:pt x="301" y="2212"/>
                  </a:lnTo>
                  <a:lnTo>
                    <a:pt x="301" y="2212"/>
                  </a:lnTo>
                  <a:lnTo>
                    <a:pt x="287" y="2192"/>
                  </a:lnTo>
                  <a:lnTo>
                    <a:pt x="287" y="2192"/>
                  </a:lnTo>
                  <a:lnTo>
                    <a:pt x="270" y="2176"/>
                  </a:lnTo>
                  <a:lnTo>
                    <a:pt x="256" y="2156"/>
                  </a:lnTo>
                  <a:lnTo>
                    <a:pt x="256" y="2156"/>
                  </a:lnTo>
                  <a:lnTo>
                    <a:pt x="242" y="2136"/>
                  </a:lnTo>
                  <a:lnTo>
                    <a:pt x="242" y="2136"/>
                  </a:lnTo>
                  <a:lnTo>
                    <a:pt x="230" y="2117"/>
                  </a:lnTo>
                  <a:lnTo>
                    <a:pt x="230" y="2117"/>
                  </a:lnTo>
                  <a:lnTo>
                    <a:pt x="216" y="2097"/>
                  </a:lnTo>
                  <a:lnTo>
                    <a:pt x="216" y="2097"/>
                  </a:lnTo>
                  <a:lnTo>
                    <a:pt x="202" y="2078"/>
                  </a:lnTo>
                  <a:lnTo>
                    <a:pt x="202" y="2078"/>
                  </a:lnTo>
                  <a:lnTo>
                    <a:pt x="191" y="2058"/>
                  </a:lnTo>
                  <a:lnTo>
                    <a:pt x="191" y="2058"/>
                  </a:lnTo>
                  <a:lnTo>
                    <a:pt x="180" y="2036"/>
                  </a:lnTo>
                  <a:lnTo>
                    <a:pt x="180" y="2036"/>
                  </a:lnTo>
                  <a:lnTo>
                    <a:pt x="169" y="2016"/>
                  </a:lnTo>
                  <a:lnTo>
                    <a:pt x="157" y="1994"/>
                  </a:lnTo>
                  <a:lnTo>
                    <a:pt x="157" y="1994"/>
                  </a:lnTo>
                  <a:lnTo>
                    <a:pt x="146" y="1974"/>
                  </a:lnTo>
                  <a:lnTo>
                    <a:pt x="146" y="1974"/>
                  </a:lnTo>
                  <a:lnTo>
                    <a:pt x="135" y="1952"/>
                  </a:lnTo>
                  <a:lnTo>
                    <a:pt x="135" y="1952"/>
                  </a:lnTo>
                  <a:lnTo>
                    <a:pt x="124" y="1932"/>
                  </a:lnTo>
                  <a:lnTo>
                    <a:pt x="124" y="1932"/>
                  </a:lnTo>
                  <a:lnTo>
                    <a:pt x="115" y="1910"/>
                  </a:lnTo>
                  <a:lnTo>
                    <a:pt x="115" y="1910"/>
                  </a:lnTo>
                  <a:lnTo>
                    <a:pt x="104" y="1887"/>
                  </a:lnTo>
                  <a:lnTo>
                    <a:pt x="104" y="1887"/>
                  </a:lnTo>
                  <a:lnTo>
                    <a:pt x="95" y="1865"/>
                  </a:lnTo>
                  <a:lnTo>
                    <a:pt x="95" y="1865"/>
                  </a:lnTo>
                  <a:lnTo>
                    <a:pt x="87" y="1845"/>
                  </a:lnTo>
                  <a:lnTo>
                    <a:pt x="79" y="1823"/>
                  </a:lnTo>
                  <a:lnTo>
                    <a:pt x="79" y="1823"/>
                  </a:lnTo>
                  <a:lnTo>
                    <a:pt x="70" y="1800"/>
                  </a:lnTo>
                  <a:lnTo>
                    <a:pt x="70" y="1800"/>
                  </a:lnTo>
                  <a:lnTo>
                    <a:pt x="62" y="1778"/>
                  </a:lnTo>
                  <a:lnTo>
                    <a:pt x="62" y="1778"/>
                  </a:lnTo>
                  <a:lnTo>
                    <a:pt x="56" y="1756"/>
                  </a:lnTo>
                  <a:lnTo>
                    <a:pt x="56" y="1756"/>
                  </a:lnTo>
                  <a:lnTo>
                    <a:pt x="51" y="1730"/>
                  </a:lnTo>
                  <a:lnTo>
                    <a:pt x="51" y="1730"/>
                  </a:lnTo>
                  <a:lnTo>
                    <a:pt x="42" y="1708"/>
                  </a:lnTo>
                  <a:lnTo>
                    <a:pt x="42" y="1708"/>
                  </a:lnTo>
                  <a:lnTo>
                    <a:pt x="36" y="1686"/>
                  </a:lnTo>
                  <a:lnTo>
                    <a:pt x="36" y="1686"/>
                  </a:lnTo>
                  <a:lnTo>
                    <a:pt x="31" y="1663"/>
                  </a:lnTo>
                  <a:lnTo>
                    <a:pt x="31" y="1663"/>
                  </a:lnTo>
                  <a:lnTo>
                    <a:pt x="25" y="1641"/>
                  </a:lnTo>
                  <a:lnTo>
                    <a:pt x="22" y="1616"/>
                  </a:lnTo>
                  <a:lnTo>
                    <a:pt x="22" y="1616"/>
                  </a:lnTo>
                  <a:lnTo>
                    <a:pt x="17" y="1593"/>
                  </a:lnTo>
                  <a:lnTo>
                    <a:pt x="17" y="1593"/>
                  </a:lnTo>
                  <a:lnTo>
                    <a:pt x="14" y="1571"/>
                  </a:lnTo>
                  <a:lnTo>
                    <a:pt x="14" y="1571"/>
                  </a:lnTo>
                  <a:lnTo>
                    <a:pt x="8" y="1546"/>
                  </a:lnTo>
                  <a:lnTo>
                    <a:pt x="8" y="1546"/>
                  </a:lnTo>
                  <a:lnTo>
                    <a:pt x="6" y="1523"/>
                  </a:lnTo>
                  <a:lnTo>
                    <a:pt x="6" y="1523"/>
                  </a:lnTo>
                  <a:lnTo>
                    <a:pt x="3" y="1498"/>
                  </a:lnTo>
                  <a:lnTo>
                    <a:pt x="3" y="1498"/>
                  </a:lnTo>
                  <a:lnTo>
                    <a:pt x="3" y="1476"/>
                  </a:lnTo>
                  <a:lnTo>
                    <a:pt x="3" y="1476"/>
                  </a:lnTo>
                  <a:lnTo>
                    <a:pt x="0" y="1453"/>
                  </a:lnTo>
                  <a:lnTo>
                    <a:pt x="1360" y="1358"/>
                  </a:lnTo>
                  <a:lnTo>
                    <a:pt x="136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03520" y="3737160"/>
              <a:ext cx="1923480" cy="1918800"/>
            </a:xfrm>
            <a:custGeom>
              <a:avLst/>
              <a:gdLst/>
              <a:ahLst/>
              <a:rect l="l" t="t" r="r" b="b"/>
              <a:pathLst>
                <a:path w="2722" h="2716">
                  <a:moveTo>
                    <a:pt x="1360" y="0"/>
                  </a:moveTo>
                  <a:lnTo>
                    <a:pt x="1382" y="0"/>
                  </a:lnTo>
                  <a:lnTo>
                    <a:pt x="1382" y="0"/>
                  </a:lnTo>
                  <a:lnTo>
                    <a:pt x="1408" y="0"/>
                  </a:lnTo>
                  <a:lnTo>
                    <a:pt x="1408" y="0"/>
                  </a:lnTo>
                  <a:lnTo>
                    <a:pt x="1430" y="0"/>
                  </a:lnTo>
                  <a:lnTo>
                    <a:pt x="1430" y="0"/>
                  </a:lnTo>
                  <a:lnTo>
                    <a:pt x="1455" y="3"/>
                  </a:lnTo>
                  <a:lnTo>
                    <a:pt x="1455" y="3"/>
                  </a:lnTo>
                  <a:lnTo>
                    <a:pt x="1478" y="6"/>
                  </a:lnTo>
                  <a:lnTo>
                    <a:pt x="1478" y="6"/>
                  </a:lnTo>
                  <a:lnTo>
                    <a:pt x="1500" y="6"/>
                  </a:lnTo>
                  <a:lnTo>
                    <a:pt x="1500" y="6"/>
                  </a:lnTo>
                  <a:lnTo>
                    <a:pt x="1526" y="9"/>
                  </a:lnTo>
                  <a:lnTo>
                    <a:pt x="1526" y="9"/>
                  </a:lnTo>
                  <a:lnTo>
                    <a:pt x="1548" y="11"/>
                  </a:lnTo>
                  <a:lnTo>
                    <a:pt x="1573" y="17"/>
                  </a:lnTo>
                  <a:lnTo>
                    <a:pt x="1573" y="17"/>
                  </a:lnTo>
                  <a:lnTo>
                    <a:pt x="1596" y="20"/>
                  </a:lnTo>
                  <a:lnTo>
                    <a:pt x="1596" y="20"/>
                  </a:lnTo>
                  <a:lnTo>
                    <a:pt x="1618" y="25"/>
                  </a:lnTo>
                  <a:lnTo>
                    <a:pt x="1618" y="25"/>
                  </a:lnTo>
                  <a:lnTo>
                    <a:pt x="1644" y="28"/>
                  </a:lnTo>
                  <a:lnTo>
                    <a:pt x="1644" y="28"/>
                  </a:lnTo>
                  <a:lnTo>
                    <a:pt x="1666" y="34"/>
                  </a:lnTo>
                  <a:lnTo>
                    <a:pt x="1666" y="34"/>
                  </a:lnTo>
                  <a:lnTo>
                    <a:pt x="1688" y="39"/>
                  </a:lnTo>
                  <a:lnTo>
                    <a:pt x="1688" y="39"/>
                  </a:lnTo>
                  <a:lnTo>
                    <a:pt x="1711" y="45"/>
                  </a:lnTo>
                  <a:lnTo>
                    <a:pt x="1711" y="45"/>
                  </a:lnTo>
                  <a:lnTo>
                    <a:pt x="1733" y="53"/>
                  </a:lnTo>
                  <a:lnTo>
                    <a:pt x="1733" y="53"/>
                  </a:lnTo>
                  <a:lnTo>
                    <a:pt x="1759" y="59"/>
                  </a:lnTo>
                  <a:lnTo>
                    <a:pt x="1781" y="65"/>
                  </a:lnTo>
                  <a:lnTo>
                    <a:pt x="1781" y="65"/>
                  </a:lnTo>
                  <a:lnTo>
                    <a:pt x="1804" y="73"/>
                  </a:lnTo>
                  <a:lnTo>
                    <a:pt x="1804" y="73"/>
                  </a:lnTo>
                  <a:lnTo>
                    <a:pt x="1826" y="81"/>
                  </a:lnTo>
                  <a:lnTo>
                    <a:pt x="1826" y="81"/>
                  </a:lnTo>
                  <a:lnTo>
                    <a:pt x="1849" y="90"/>
                  </a:lnTo>
                  <a:lnTo>
                    <a:pt x="1849" y="90"/>
                  </a:lnTo>
                  <a:lnTo>
                    <a:pt x="1868" y="98"/>
                  </a:lnTo>
                  <a:lnTo>
                    <a:pt x="1868" y="98"/>
                  </a:lnTo>
                  <a:lnTo>
                    <a:pt x="1891" y="107"/>
                  </a:lnTo>
                  <a:lnTo>
                    <a:pt x="1891" y="107"/>
                  </a:lnTo>
                  <a:lnTo>
                    <a:pt x="1913" y="118"/>
                  </a:lnTo>
                  <a:lnTo>
                    <a:pt x="1913" y="118"/>
                  </a:lnTo>
                  <a:lnTo>
                    <a:pt x="1936" y="126"/>
                  </a:lnTo>
                  <a:lnTo>
                    <a:pt x="1955" y="137"/>
                  </a:lnTo>
                  <a:lnTo>
                    <a:pt x="1955" y="137"/>
                  </a:lnTo>
                  <a:lnTo>
                    <a:pt x="1978" y="149"/>
                  </a:lnTo>
                  <a:lnTo>
                    <a:pt x="1978" y="149"/>
                  </a:lnTo>
                  <a:lnTo>
                    <a:pt x="1998" y="160"/>
                  </a:lnTo>
                  <a:lnTo>
                    <a:pt x="1998" y="160"/>
                  </a:lnTo>
                  <a:lnTo>
                    <a:pt x="2020" y="171"/>
                  </a:lnTo>
                  <a:lnTo>
                    <a:pt x="2020" y="171"/>
                  </a:lnTo>
                  <a:lnTo>
                    <a:pt x="2040" y="182"/>
                  </a:lnTo>
                  <a:lnTo>
                    <a:pt x="2040" y="182"/>
                  </a:lnTo>
                  <a:lnTo>
                    <a:pt x="2062" y="193"/>
                  </a:lnTo>
                  <a:lnTo>
                    <a:pt x="2062" y="193"/>
                  </a:lnTo>
                  <a:lnTo>
                    <a:pt x="2082" y="205"/>
                  </a:lnTo>
                  <a:lnTo>
                    <a:pt x="2082" y="205"/>
                  </a:lnTo>
                  <a:lnTo>
                    <a:pt x="2101" y="219"/>
                  </a:lnTo>
                  <a:lnTo>
                    <a:pt x="2121" y="233"/>
                  </a:lnTo>
                  <a:lnTo>
                    <a:pt x="2121" y="233"/>
                  </a:lnTo>
                  <a:lnTo>
                    <a:pt x="2141" y="244"/>
                  </a:lnTo>
                  <a:lnTo>
                    <a:pt x="2141" y="244"/>
                  </a:lnTo>
                  <a:lnTo>
                    <a:pt x="2160" y="258"/>
                  </a:lnTo>
                  <a:lnTo>
                    <a:pt x="2160" y="258"/>
                  </a:lnTo>
                  <a:lnTo>
                    <a:pt x="2180" y="272"/>
                  </a:lnTo>
                  <a:lnTo>
                    <a:pt x="2180" y="272"/>
                  </a:lnTo>
                  <a:lnTo>
                    <a:pt x="2197" y="289"/>
                  </a:lnTo>
                  <a:lnTo>
                    <a:pt x="2197" y="289"/>
                  </a:lnTo>
                  <a:lnTo>
                    <a:pt x="2217" y="303"/>
                  </a:lnTo>
                  <a:lnTo>
                    <a:pt x="2217" y="303"/>
                  </a:lnTo>
                  <a:lnTo>
                    <a:pt x="2234" y="317"/>
                  </a:lnTo>
                  <a:lnTo>
                    <a:pt x="2234" y="317"/>
                  </a:lnTo>
                  <a:lnTo>
                    <a:pt x="2253" y="333"/>
                  </a:lnTo>
                  <a:lnTo>
                    <a:pt x="2253" y="333"/>
                  </a:lnTo>
                  <a:lnTo>
                    <a:pt x="2270" y="347"/>
                  </a:lnTo>
                  <a:lnTo>
                    <a:pt x="2290" y="364"/>
                  </a:lnTo>
                  <a:lnTo>
                    <a:pt x="2290" y="364"/>
                  </a:lnTo>
                  <a:lnTo>
                    <a:pt x="2307" y="381"/>
                  </a:lnTo>
                  <a:lnTo>
                    <a:pt x="2307" y="381"/>
                  </a:lnTo>
                  <a:lnTo>
                    <a:pt x="2323" y="398"/>
                  </a:lnTo>
                  <a:lnTo>
                    <a:pt x="2323" y="398"/>
                  </a:lnTo>
                  <a:lnTo>
                    <a:pt x="2340" y="415"/>
                  </a:lnTo>
                  <a:lnTo>
                    <a:pt x="2340" y="415"/>
                  </a:lnTo>
                  <a:lnTo>
                    <a:pt x="2354" y="431"/>
                  </a:lnTo>
                  <a:lnTo>
                    <a:pt x="2354" y="431"/>
                  </a:lnTo>
                  <a:lnTo>
                    <a:pt x="2371" y="448"/>
                  </a:lnTo>
                  <a:lnTo>
                    <a:pt x="2371" y="448"/>
                  </a:lnTo>
                  <a:lnTo>
                    <a:pt x="2388" y="468"/>
                  </a:lnTo>
                  <a:lnTo>
                    <a:pt x="2388" y="468"/>
                  </a:lnTo>
                  <a:lnTo>
                    <a:pt x="2402" y="485"/>
                  </a:lnTo>
                  <a:lnTo>
                    <a:pt x="2419" y="504"/>
                  </a:lnTo>
                  <a:lnTo>
                    <a:pt x="2419" y="504"/>
                  </a:lnTo>
                  <a:lnTo>
                    <a:pt x="2433" y="521"/>
                  </a:lnTo>
                  <a:lnTo>
                    <a:pt x="2433" y="521"/>
                  </a:lnTo>
                  <a:lnTo>
                    <a:pt x="2447" y="541"/>
                  </a:lnTo>
                  <a:lnTo>
                    <a:pt x="2447" y="541"/>
                  </a:lnTo>
                  <a:lnTo>
                    <a:pt x="2461" y="560"/>
                  </a:lnTo>
                  <a:lnTo>
                    <a:pt x="2461" y="560"/>
                  </a:lnTo>
                  <a:lnTo>
                    <a:pt x="2475" y="580"/>
                  </a:lnTo>
                  <a:lnTo>
                    <a:pt x="2475" y="580"/>
                  </a:lnTo>
                  <a:lnTo>
                    <a:pt x="2489" y="599"/>
                  </a:lnTo>
                  <a:lnTo>
                    <a:pt x="2489" y="599"/>
                  </a:lnTo>
                  <a:lnTo>
                    <a:pt x="2503" y="619"/>
                  </a:lnTo>
                  <a:lnTo>
                    <a:pt x="2503" y="619"/>
                  </a:lnTo>
                  <a:lnTo>
                    <a:pt x="2514" y="639"/>
                  </a:lnTo>
                  <a:lnTo>
                    <a:pt x="2526" y="658"/>
                  </a:lnTo>
                  <a:lnTo>
                    <a:pt x="2526" y="658"/>
                  </a:lnTo>
                  <a:lnTo>
                    <a:pt x="2540" y="678"/>
                  </a:lnTo>
                  <a:lnTo>
                    <a:pt x="2540" y="678"/>
                  </a:lnTo>
                  <a:lnTo>
                    <a:pt x="2551" y="700"/>
                  </a:lnTo>
                  <a:lnTo>
                    <a:pt x="2551" y="700"/>
                  </a:lnTo>
                  <a:lnTo>
                    <a:pt x="2562" y="720"/>
                  </a:lnTo>
                  <a:lnTo>
                    <a:pt x="2562" y="720"/>
                  </a:lnTo>
                  <a:lnTo>
                    <a:pt x="2573" y="742"/>
                  </a:lnTo>
                  <a:lnTo>
                    <a:pt x="2573" y="742"/>
                  </a:lnTo>
                  <a:lnTo>
                    <a:pt x="2585" y="762"/>
                  </a:lnTo>
                  <a:lnTo>
                    <a:pt x="2585" y="762"/>
                  </a:lnTo>
                  <a:lnTo>
                    <a:pt x="2593" y="784"/>
                  </a:lnTo>
                  <a:lnTo>
                    <a:pt x="2593" y="784"/>
                  </a:lnTo>
                  <a:lnTo>
                    <a:pt x="2604" y="804"/>
                  </a:lnTo>
                  <a:lnTo>
                    <a:pt x="2613" y="826"/>
                  </a:lnTo>
                  <a:lnTo>
                    <a:pt x="2613" y="826"/>
                  </a:lnTo>
                  <a:lnTo>
                    <a:pt x="2621" y="849"/>
                  </a:lnTo>
                  <a:lnTo>
                    <a:pt x="2621" y="849"/>
                  </a:lnTo>
                  <a:lnTo>
                    <a:pt x="2632" y="871"/>
                  </a:lnTo>
                  <a:lnTo>
                    <a:pt x="2632" y="871"/>
                  </a:lnTo>
                  <a:lnTo>
                    <a:pt x="2641" y="893"/>
                  </a:lnTo>
                  <a:lnTo>
                    <a:pt x="2641" y="893"/>
                  </a:lnTo>
                  <a:lnTo>
                    <a:pt x="2647" y="916"/>
                  </a:lnTo>
                  <a:lnTo>
                    <a:pt x="2647" y="916"/>
                  </a:lnTo>
                  <a:lnTo>
                    <a:pt x="2655" y="938"/>
                  </a:lnTo>
                  <a:lnTo>
                    <a:pt x="2655" y="938"/>
                  </a:lnTo>
                  <a:lnTo>
                    <a:pt x="2663" y="961"/>
                  </a:lnTo>
                  <a:lnTo>
                    <a:pt x="2663" y="961"/>
                  </a:lnTo>
                  <a:lnTo>
                    <a:pt x="2669" y="983"/>
                  </a:lnTo>
                  <a:lnTo>
                    <a:pt x="2669" y="983"/>
                  </a:lnTo>
                  <a:lnTo>
                    <a:pt x="2675" y="1005"/>
                  </a:lnTo>
                  <a:lnTo>
                    <a:pt x="2680" y="1028"/>
                  </a:lnTo>
                  <a:lnTo>
                    <a:pt x="2680" y="1028"/>
                  </a:lnTo>
                  <a:lnTo>
                    <a:pt x="2686" y="1053"/>
                  </a:lnTo>
                  <a:lnTo>
                    <a:pt x="2686" y="1053"/>
                  </a:lnTo>
                  <a:lnTo>
                    <a:pt x="2691" y="1075"/>
                  </a:lnTo>
                  <a:lnTo>
                    <a:pt x="2691" y="1075"/>
                  </a:lnTo>
                  <a:lnTo>
                    <a:pt x="2697" y="1098"/>
                  </a:lnTo>
                  <a:lnTo>
                    <a:pt x="2697" y="1098"/>
                  </a:lnTo>
                  <a:lnTo>
                    <a:pt x="2700" y="1123"/>
                  </a:lnTo>
                  <a:lnTo>
                    <a:pt x="2700" y="1123"/>
                  </a:lnTo>
                  <a:lnTo>
                    <a:pt x="2706" y="1145"/>
                  </a:lnTo>
                  <a:lnTo>
                    <a:pt x="2706" y="1145"/>
                  </a:lnTo>
                  <a:lnTo>
                    <a:pt x="2708" y="1168"/>
                  </a:lnTo>
                  <a:lnTo>
                    <a:pt x="2708" y="1168"/>
                  </a:lnTo>
                  <a:lnTo>
                    <a:pt x="2711" y="1193"/>
                  </a:lnTo>
                  <a:lnTo>
                    <a:pt x="2714" y="1215"/>
                  </a:lnTo>
                  <a:lnTo>
                    <a:pt x="2714" y="1215"/>
                  </a:lnTo>
                  <a:lnTo>
                    <a:pt x="2717" y="1238"/>
                  </a:lnTo>
                  <a:lnTo>
                    <a:pt x="2717" y="1238"/>
                  </a:lnTo>
                  <a:lnTo>
                    <a:pt x="2720" y="1263"/>
                  </a:lnTo>
                  <a:lnTo>
                    <a:pt x="2720" y="1263"/>
                  </a:lnTo>
                  <a:lnTo>
                    <a:pt x="2720" y="1285"/>
                  </a:lnTo>
                  <a:lnTo>
                    <a:pt x="2720" y="1285"/>
                  </a:lnTo>
                  <a:lnTo>
                    <a:pt x="2720" y="1311"/>
                  </a:lnTo>
                  <a:lnTo>
                    <a:pt x="2720" y="1311"/>
                  </a:lnTo>
                  <a:lnTo>
                    <a:pt x="2722" y="1333"/>
                  </a:lnTo>
                  <a:lnTo>
                    <a:pt x="2722" y="1333"/>
                  </a:lnTo>
                  <a:lnTo>
                    <a:pt x="2722" y="1358"/>
                  </a:lnTo>
                  <a:lnTo>
                    <a:pt x="2722" y="1358"/>
                  </a:lnTo>
                  <a:lnTo>
                    <a:pt x="2722" y="1380"/>
                  </a:lnTo>
                  <a:lnTo>
                    <a:pt x="2720" y="1406"/>
                  </a:lnTo>
                  <a:lnTo>
                    <a:pt x="2720" y="1406"/>
                  </a:lnTo>
                  <a:lnTo>
                    <a:pt x="2720" y="1428"/>
                  </a:lnTo>
                  <a:lnTo>
                    <a:pt x="2720" y="1428"/>
                  </a:lnTo>
                  <a:lnTo>
                    <a:pt x="2720" y="1453"/>
                  </a:lnTo>
                  <a:lnTo>
                    <a:pt x="2720" y="1453"/>
                  </a:lnTo>
                  <a:lnTo>
                    <a:pt x="2717" y="1476"/>
                  </a:lnTo>
                  <a:lnTo>
                    <a:pt x="2717" y="1476"/>
                  </a:lnTo>
                  <a:lnTo>
                    <a:pt x="2714" y="1498"/>
                  </a:lnTo>
                  <a:lnTo>
                    <a:pt x="2714" y="1498"/>
                  </a:lnTo>
                  <a:lnTo>
                    <a:pt x="2711" y="1523"/>
                  </a:lnTo>
                  <a:lnTo>
                    <a:pt x="2711" y="1523"/>
                  </a:lnTo>
                  <a:lnTo>
                    <a:pt x="2708" y="1546"/>
                  </a:lnTo>
                  <a:lnTo>
                    <a:pt x="2708" y="1546"/>
                  </a:lnTo>
                  <a:lnTo>
                    <a:pt x="2706" y="1571"/>
                  </a:lnTo>
                  <a:lnTo>
                    <a:pt x="2706" y="1571"/>
                  </a:lnTo>
                  <a:lnTo>
                    <a:pt x="2700" y="1593"/>
                  </a:lnTo>
                  <a:lnTo>
                    <a:pt x="2697" y="1616"/>
                  </a:lnTo>
                  <a:lnTo>
                    <a:pt x="2697" y="1616"/>
                  </a:lnTo>
                  <a:lnTo>
                    <a:pt x="2691" y="1641"/>
                  </a:lnTo>
                  <a:lnTo>
                    <a:pt x="2691" y="1641"/>
                  </a:lnTo>
                  <a:lnTo>
                    <a:pt x="2686" y="1663"/>
                  </a:lnTo>
                  <a:lnTo>
                    <a:pt x="2686" y="1663"/>
                  </a:lnTo>
                  <a:lnTo>
                    <a:pt x="2680" y="1686"/>
                  </a:lnTo>
                  <a:lnTo>
                    <a:pt x="2680" y="1686"/>
                  </a:lnTo>
                  <a:lnTo>
                    <a:pt x="2675" y="1708"/>
                  </a:lnTo>
                  <a:lnTo>
                    <a:pt x="2675" y="1708"/>
                  </a:lnTo>
                  <a:lnTo>
                    <a:pt x="2669" y="1730"/>
                  </a:lnTo>
                  <a:lnTo>
                    <a:pt x="2669" y="1730"/>
                  </a:lnTo>
                  <a:lnTo>
                    <a:pt x="2663" y="1756"/>
                  </a:lnTo>
                  <a:lnTo>
                    <a:pt x="2663" y="1756"/>
                  </a:lnTo>
                  <a:lnTo>
                    <a:pt x="2655" y="1778"/>
                  </a:lnTo>
                  <a:lnTo>
                    <a:pt x="2647" y="1800"/>
                  </a:lnTo>
                  <a:lnTo>
                    <a:pt x="2647" y="1800"/>
                  </a:lnTo>
                  <a:lnTo>
                    <a:pt x="2641" y="1823"/>
                  </a:lnTo>
                  <a:lnTo>
                    <a:pt x="2641" y="1823"/>
                  </a:lnTo>
                  <a:lnTo>
                    <a:pt x="2632" y="1845"/>
                  </a:lnTo>
                  <a:lnTo>
                    <a:pt x="2632" y="1845"/>
                  </a:lnTo>
                  <a:lnTo>
                    <a:pt x="2621" y="1865"/>
                  </a:lnTo>
                  <a:lnTo>
                    <a:pt x="2621" y="1865"/>
                  </a:lnTo>
                  <a:lnTo>
                    <a:pt x="2613" y="1887"/>
                  </a:lnTo>
                  <a:lnTo>
                    <a:pt x="2613" y="1887"/>
                  </a:lnTo>
                  <a:lnTo>
                    <a:pt x="2604" y="1910"/>
                  </a:lnTo>
                  <a:lnTo>
                    <a:pt x="2604" y="1910"/>
                  </a:lnTo>
                  <a:lnTo>
                    <a:pt x="2593" y="1932"/>
                  </a:lnTo>
                  <a:lnTo>
                    <a:pt x="2593" y="1932"/>
                  </a:lnTo>
                  <a:lnTo>
                    <a:pt x="2585" y="1952"/>
                  </a:lnTo>
                  <a:lnTo>
                    <a:pt x="2573" y="1974"/>
                  </a:lnTo>
                  <a:lnTo>
                    <a:pt x="2573" y="1974"/>
                  </a:lnTo>
                  <a:lnTo>
                    <a:pt x="2562" y="1994"/>
                  </a:lnTo>
                  <a:lnTo>
                    <a:pt x="2562" y="1994"/>
                  </a:lnTo>
                  <a:lnTo>
                    <a:pt x="2551" y="2016"/>
                  </a:lnTo>
                  <a:lnTo>
                    <a:pt x="2551" y="2016"/>
                  </a:lnTo>
                  <a:lnTo>
                    <a:pt x="2540" y="2036"/>
                  </a:lnTo>
                  <a:lnTo>
                    <a:pt x="2540" y="2036"/>
                  </a:lnTo>
                  <a:lnTo>
                    <a:pt x="2526" y="2058"/>
                  </a:lnTo>
                  <a:lnTo>
                    <a:pt x="2526" y="2058"/>
                  </a:lnTo>
                  <a:lnTo>
                    <a:pt x="2514" y="2078"/>
                  </a:lnTo>
                  <a:lnTo>
                    <a:pt x="2514" y="2078"/>
                  </a:lnTo>
                  <a:lnTo>
                    <a:pt x="2503" y="2097"/>
                  </a:lnTo>
                  <a:lnTo>
                    <a:pt x="2503" y="2097"/>
                  </a:lnTo>
                  <a:lnTo>
                    <a:pt x="2489" y="2117"/>
                  </a:lnTo>
                  <a:lnTo>
                    <a:pt x="2489" y="2117"/>
                  </a:lnTo>
                  <a:lnTo>
                    <a:pt x="2475" y="2136"/>
                  </a:lnTo>
                  <a:lnTo>
                    <a:pt x="2461" y="2156"/>
                  </a:lnTo>
                  <a:lnTo>
                    <a:pt x="2461" y="2156"/>
                  </a:lnTo>
                  <a:lnTo>
                    <a:pt x="2447" y="2176"/>
                  </a:lnTo>
                  <a:lnTo>
                    <a:pt x="2447" y="2176"/>
                  </a:lnTo>
                  <a:lnTo>
                    <a:pt x="2433" y="2192"/>
                  </a:lnTo>
                  <a:lnTo>
                    <a:pt x="2433" y="2192"/>
                  </a:lnTo>
                  <a:lnTo>
                    <a:pt x="2419" y="2212"/>
                  </a:lnTo>
                  <a:lnTo>
                    <a:pt x="2419" y="2212"/>
                  </a:lnTo>
                  <a:lnTo>
                    <a:pt x="2402" y="2229"/>
                  </a:lnTo>
                  <a:lnTo>
                    <a:pt x="2402" y="2229"/>
                  </a:lnTo>
                  <a:lnTo>
                    <a:pt x="2388" y="2248"/>
                  </a:lnTo>
                  <a:lnTo>
                    <a:pt x="2388" y="2248"/>
                  </a:lnTo>
                  <a:lnTo>
                    <a:pt x="2371" y="2265"/>
                  </a:lnTo>
                  <a:lnTo>
                    <a:pt x="2371" y="2265"/>
                  </a:lnTo>
                  <a:lnTo>
                    <a:pt x="2354" y="2285"/>
                  </a:lnTo>
                  <a:lnTo>
                    <a:pt x="2340" y="2302"/>
                  </a:lnTo>
                  <a:lnTo>
                    <a:pt x="2340" y="2302"/>
                  </a:lnTo>
                  <a:lnTo>
                    <a:pt x="2323" y="2318"/>
                  </a:lnTo>
                  <a:lnTo>
                    <a:pt x="2323" y="2318"/>
                  </a:lnTo>
                  <a:lnTo>
                    <a:pt x="2307" y="2335"/>
                  </a:lnTo>
                  <a:lnTo>
                    <a:pt x="2307" y="2335"/>
                  </a:lnTo>
                  <a:lnTo>
                    <a:pt x="2290" y="2349"/>
                  </a:lnTo>
                  <a:lnTo>
                    <a:pt x="2290" y="2349"/>
                  </a:lnTo>
                  <a:lnTo>
                    <a:pt x="2270" y="2366"/>
                  </a:lnTo>
                  <a:lnTo>
                    <a:pt x="2270" y="2366"/>
                  </a:lnTo>
                  <a:lnTo>
                    <a:pt x="2253" y="2383"/>
                  </a:lnTo>
                  <a:lnTo>
                    <a:pt x="2253" y="2383"/>
                  </a:lnTo>
                  <a:lnTo>
                    <a:pt x="2234" y="2397"/>
                  </a:lnTo>
                  <a:lnTo>
                    <a:pt x="2234" y="2397"/>
                  </a:lnTo>
                  <a:lnTo>
                    <a:pt x="2217" y="2414"/>
                  </a:lnTo>
                  <a:lnTo>
                    <a:pt x="2197" y="2428"/>
                  </a:lnTo>
                  <a:lnTo>
                    <a:pt x="2197" y="2428"/>
                  </a:lnTo>
                  <a:lnTo>
                    <a:pt x="2180" y="2442"/>
                  </a:lnTo>
                  <a:lnTo>
                    <a:pt x="2180" y="2442"/>
                  </a:lnTo>
                  <a:lnTo>
                    <a:pt x="2160" y="2456"/>
                  </a:lnTo>
                  <a:lnTo>
                    <a:pt x="2160" y="2456"/>
                  </a:lnTo>
                  <a:lnTo>
                    <a:pt x="2141" y="2470"/>
                  </a:lnTo>
                  <a:lnTo>
                    <a:pt x="2141" y="2470"/>
                  </a:lnTo>
                  <a:lnTo>
                    <a:pt x="2121" y="2484"/>
                  </a:lnTo>
                  <a:lnTo>
                    <a:pt x="2121" y="2484"/>
                  </a:lnTo>
                  <a:lnTo>
                    <a:pt x="2101" y="2498"/>
                  </a:lnTo>
                  <a:lnTo>
                    <a:pt x="2101" y="2498"/>
                  </a:lnTo>
                  <a:lnTo>
                    <a:pt x="2082" y="2509"/>
                  </a:lnTo>
                  <a:lnTo>
                    <a:pt x="2082" y="2509"/>
                  </a:lnTo>
                  <a:lnTo>
                    <a:pt x="2062" y="2520"/>
                  </a:lnTo>
                  <a:lnTo>
                    <a:pt x="2062" y="2520"/>
                  </a:lnTo>
                  <a:lnTo>
                    <a:pt x="2040" y="2534"/>
                  </a:lnTo>
                  <a:lnTo>
                    <a:pt x="2020" y="2545"/>
                  </a:lnTo>
                  <a:lnTo>
                    <a:pt x="2020" y="2545"/>
                  </a:lnTo>
                  <a:lnTo>
                    <a:pt x="1998" y="2556"/>
                  </a:lnTo>
                  <a:lnTo>
                    <a:pt x="1998" y="2556"/>
                  </a:lnTo>
                  <a:lnTo>
                    <a:pt x="1978" y="2568"/>
                  </a:lnTo>
                  <a:lnTo>
                    <a:pt x="1978" y="2568"/>
                  </a:lnTo>
                  <a:lnTo>
                    <a:pt x="1955" y="2579"/>
                  </a:lnTo>
                  <a:lnTo>
                    <a:pt x="1955" y="2579"/>
                  </a:lnTo>
                  <a:lnTo>
                    <a:pt x="1936" y="2587"/>
                  </a:lnTo>
                  <a:lnTo>
                    <a:pt x="1936" y="2587"/>
                  </a:lnTo>
                  <a:lnTo>
                    <a:pt x="1913" y="2598"/>
                  </a:lnTo>
                  <a:lnTo>
                    <a:pt x="1913" y="2598"/>
                  </a:lnTo>
                  <a:lnTo>
                    <a:pt x="1891" y="2607"/>
                  </a:lnTo>
                  <a:lnTo>
                    <a:pt x="1891" y="2607"/>
                  </a:lnTo>
                  <a:lnTo>
                    <a:pt x="1868" y="2615"/>
                  </a:lnTo>
                  <a:lnTo>
                    <a:pt x="1849" y="2626"/>
                  </a:lnTo>
                  <a:lnTo>
                    <a:pt x="1849" y="2626"/>
                  </a:lnTo>
                  <a:lnTo>
                    <a:pt x="1826" y="2635"/>
                  </a:lnTo>
                  <a:lnTo>
                    <a:pt x="1826" y="2635"/>
                  </a:lnTo>
                  <a:lnTo>
                    <a:pt x="1804" y="2640"/>
                  </a:lnTo>
                  <a:lnTo>
                    <a:pt x="1804" y="2640"/>
                  </a:lnTo>
                  <a:lnTo>
                    <a:pt x="1781" y="2649"/>
                  </a:lnTo>
                  <a:lnTo>
                    <a:pt x="1781" y="2649"/>
                  </a:lnTo>
                  <a:lnTo>
                    <a:pt x="1759" y="2657"/>
                  </a:lnTo>
                  <a:lnTo>
                    <a:pt x="1759" y="2657"/>
                  </a:lnTo>
                  <a:lnTo>
                    <a:pt x="1733" y="2663"/>
                  </a:lnTo>
                  <a:lnTo>
                    <a:pt x="1733" y="2663"/>
                  </a:lnTo>
                  <a:lnTo>
                    <a:pt x="1711" y="2668"/>
                  </a:lnTo>
                  <a:lnTo>
                    <a:pt x="1711" y="2668"/>
                  </a:lnTo>
                  <a:lnTo>
                    <a:pt x="1688" y="2674"/>
                  </a:lnTo>
                  <a:lnTo>
                    <a:pt x="1666" y="2679"/>
                  </a:lnTo>
                  <a:lnTo>
                    <a:pt x="1666" y="2679"/>
                  </a:lnTo>
                  <a:lnTo>
                    <a:pt x="1644" y="2685"/>
                  </a:lnTo>
                  <a:lnTo>
                    <a:pt x="1644" y="2685"/>
                  </a:lnTo>
                  <a:lnTo>
                    <a:pt x="1618" y="2691"/>
                  </a:lnTo>
                  <a:lnTo>
                    <a:pt x="1618" y="2691"/>
                  </a:lnTo>
                  <a:lnTo>
                    <a:pt x="1596" y="2693"/>
                  </a:lnTo>
                  <a:lnTo>
                    <a:pt x="1596" y="2693"/>
                  </a:lnTo>
                  <a:lnTo>
                    <a:pt x="1573" y="2699"/>
                  </a:lnTo>
                  <a:lnTo>
                    <a:pt x="1573" y="2699"/>
                  </a:lnTo>
                  <a:lnTo>
                    <a:pt x="1548" y="2702"/>
                  </a:lnTo>
                  <a:lnTo>
                    <a:pt x="1548" y="2702"/>
                  </a:lnTo>
                  <a:lnTo>
                    <a:pt x="1526" y="2705"/>
                  </a:lnTo>
                  <a:lnTo>
                    <a:pt x="1526" y="2705"/>
                  </a:lnTo>
                  <a:lnTo>
                    <a:pt x="1500" y="2707"/>
                  </a:lnTo>
                  <a:lnTo>
                    <a:pt x="1500" y="2707"/>
                  </a:lnTo>
                  <a:lnTo>
                    <a:pt x="1478" y="2710"/>
                  </a:lnTo>
                  <a:lnTo>
                    <a:pt x="1455" y="2713"/>
                  </a:lnTo>
                  <a:lnTo>
                    <a:pt x="1455" y="2713"/>
                  </a:lnTo>
                  <a:lnTo>
                    <a:pt x="1430" y="2713"/>
                  </a:lnTo>
                  <a:lnTo>
                    <a:pt x="1430" y="2713"/>
                  </a:lnTo>
                  <a:lnTo>
                    <a:pt x="1408" y="2713"/>
                  </a:lnTo>
                  <a:lnTo>
                    <a:pt x="1408" y="2713"/>
                  </a:lnTo>
                  <a:lnTo>
                    <a:pt x="1382" y="2716"/>
                  </a:lnTo>
                  <a:lnTo>
                    <a:pt x="1382" y="2716"/>
                  </a:lnTo>
                  <a:lnTo>
                    <a:pt x="1360" y="2716"/>
                  </a:lnTo>
                  <a:lnTo>
                    <a:pt x="1360" y="2716"/>
                  </a:lnTo>
                  <a:lnTo>
                    <a:pt x="1334" y="2716"/>
                  </a:lnTo>
                  <a:lnTo>
                    <a:pt x="1334" y="2716"/>
                  </a:lnTo>
                  <a:lnTo>
                    <a:pt x="1312" y="2713"/>
                  </a:lnTo>
                  <a:lnTo>
                    <a:pt x="1312" y="2713"/>
                  </a:lnTo>
                  <a:lnTo>
                    <a:pt x="1287" y="2713"/>
                  </a:lnTo>
                  <a:lnTo>
                    <a:pt x="1264" y="2713"/>
                  </a:lnTo>
                  <a:lnTo>
                    <a:pt x="1264" y="2713"/>
                  </a:lnTo>
                  <a:lnTo>
                    <a:pt x="1239" y="2710"/>
                  </a:lnTo>
                  <a:lnTo>
                    <a:pt x="1239" y="2710"/>
                  </a:lnTo>
                  <a:lnTo>
                    <a:pt x="1216" y="2707"/>
                  </a:lnTo>
                  <a:lnTo>
                    <a:pt x="1216" y="2707"/>
                  </a:lnTo>
                  <a:lnTo>
                    <a:pt x="1194" y="2705"/>
                  </a:lnTo>
                  <a:lnTo>
                    <a:pt x="1194" y="2705"/>
                  </a:lnTo>
                  <a:lnTo>
                    <a:pt x="1169" y="2702"/>
                  </a:lnTo>
                  <a:lnTo>
                    <a:pt x="1169" y="2702"/>
                  </a:lnTo>
                  <a:lnTo>
                    <a:pt x="1146" y="2699"/>
                  </a:lnTo>
                  <a:lnTo>
                    <a:pt x="1146" y="2699"/>
                  </a:lnTo>
                  <a:lnTo>
                    <a:pt x="1124" y="2693"/>
                  </a:lnTo>
                  <a:lnTo>
                    <a:pt x="1124" y="2693"/>
                  </a:lnTo>
                  <a:lnTo>
                    <a:pt x="1098" y="2691"/>
                  </a:lnTo>
                  <a:lnTo>
                    <a:pt x="1076" y="2685"/>
                  </a:lnTo>
                  <a:lnTo>
                    <a:pt x="1076" y="2685"/>
                  </a:lnTo>
                  <a:lnTo>
                    <a:pt x="1054" y="2679"/>
                  </a:lnTo>
                  <a:lnTo>
                    <a:pt x="1054" y="2679"/>
                  </a:lnTo>
                  <a:lnTo>
                    <a:pt x="1028" y="2674"/>
                  </a:lnTo>
                  <a:lnTo>
                    <a:pt x="1028" y="2674"/>
                  </a:lnTo>
                  <a:lnTo>
                    <a:pt x="1006" y="2668"/>
                  </a:lnTo>
                  <a:lnTo>
                    <a:pt x="1006" y="2668"/>
                  </a:lnTo>
                  <a:lnTo>
                    <a:pt x="983" y="2663"/>
                  </a:lnTo>
                  <a:lnTo>
                    <a:pt x="983" y="2663"/>
                  </a:lnTo>
                  <a:lnTo>
                    <a:pt x="961" y="2657"/>
                  </a:lnTo>
                  <a:lnTo>
                    <a:pt x="961" y="2657"/>
                  </a:lnTo>
                  <a:lnTo>
                    <a:pt x="938" y="2649"/>
                  </a:lnTo>
                  <a:lnTo>
                    <a:pt x="938" y="2649"/>
                  </a:lnTo>
                  <a:lnTo>
                    <a:pt x="916" y="2640"/>
                  </a:lnTo>
                  <a:lnTo>
                    <a:pt x="893" y="2635"/>
                  </a:lnTo>
                  <a:lnTo>
                    <a:pt x="893" y="2635"/>
                  </a:lnTo>
                  <a:lnTo>
                    <a:pt x="871" y="2626"/>
                  </a:lnTo>
                  <a:lnTo>
                    <a:pt x="871" y="2626"/>
                  </a:lnTo>
                  <a:lnTo>
                    <a:pt x="848" y="2615"/>
                  </a:lnTo>
                  <a:lnTo>
                    <a:pt x="848" y="2615"/>
                  </a:lnTo>
                  <a:lnTo>
                    <a:pt x="826" y="2607"/>
                  </a:lnTo>
                  <a:lnTo>
                    <a:pt x="826" y="2607"/>
                  </a:lnTo>
                  <a:lnTo>
                    <a:pt x="803" y="2598"/>
                  </a:lnTo>
                  <a:lnTo>
                    <a:pt x="803" y="2598"/>
                  </a:lnTo>
                  <a:lnTo>
                    <a:pt x="784" y="2587"/>
                  </a:lnTo>
                  <a:lnTo>
                    <a:pt x="784" y="2587"/>
                  </a:lnTo>
                  <a:lnTo>
                    <a:pt x="761" y="2579"/>
                  </a:lnTo>
                  <a:lnTo>
                    <a:pt x="761" y="2579"/>
                  </a:lnTo>
                  <a:lnTo>
                    <a:pt x="742" y="2568"/>
                  </a:lnTo>
                  <a:lnTo>
                    <a:pt x="742" y="2568"/>
                  </a:lnTo>
                  <a:lnTo>
                    <a:pt x="719" y="2556"/>
                  </a:lnTo>
                  <a:lnTo>
                    <a:pt x="700" y="2545"/>
                  </a:lnTo>
                  <a:lnTo>
                    <a:pt x="700" y="2545"/>
                  </a:lnTo>
                  <a:lnTo>
                    <a:pt x="677" y="2534"/>
                  </a:lnTo>
                  <a:lnTo>
                    <a:pt x="677" y="2534"/>
                  </a:lnTo>
                  <a:lnTo>
                    <a:pt x="657" y="2520"/>
                  </a:lnTo>
                  <a:lnTo>
                    <a:pt x="657" y="2520"/>
                  </a:lnTo>
                  <a:lnTo>
                    <a:pt x="638" y="2509"/>
                  </a:lnTo>
                  <a:lnTo>
                    <a:pt x="638" y="2509"/>
                  </a:lnTo>
                  <a:lnTo>
                    <a:pt x="618" y="2498"/>
                  </a:lnTo>
                  <a:lnTo>
                    <a:pt x="618" y="2498"/>
                  </a:lnTo>
                  <a:lnTo>
                    <a:pt x="598" y="2484"/>
                  </a:lnTo>
                  <a:lnTo>
                    <a:pt x="598" y="2484"/>
                  </a:lnTo>
                  <a:lnTo>
                    <a:pt x="579" y="2470"/>
                  </a:lnTo>
                  <a:lnTo>
                    <a:pt x="579" y="2470"/>
                  </a:lnTo>
                  <a:lnTo>
                    <a:pt x="559" y="2456"/>
                  </a:lnTo>
                  <a:lnTo>
                    <a:pt x="539" y="2442"/>
                  </a:lnTo>
                  <a:lnTo>
                    <a:pt x="539" y="2442"/>
                  </a:lnTo>
                  <a:lnTo>
                    <a:pt x="520" y="2428"/>
                  </a:lnTo>
                  <a:lnTo>
                    <a:pt x="520" y="2428"/>
                  </a:lnTo>
                  <a:lnTo>
                    <a:pt x="503" y="2414"/>
                  </a:lnTo>
                  <a:lnTo>
                    <a:pt x="503" y="2414"/>
                  </a:lnTo>
                  <a:lnTo>
                    <a:pt x="483" y="2397"/>
                  </a:lnTo>
                  <a:lnTo>
                    <a:pt x="483" y="2397"/>
                  </a:lnTo>
                  <a:lnTo>
                    <a:pt x="466" y="2383"/>
                  </a:lnTo>
                  <a:lnTo>
                    <a:pt x="466" y="2383"/>
                  </a:lnTo>
                  <a:lnTo>
                    <a:pt x="447" y="2366"/>
                  </a:lnTo>
                  <a:lnTo>
                    <a:pt x="447" y="2366"/>
                  </a:lnTo>
                  <a:lnTo>
                    <a:pt x="430" y="2349"/>
                  </a:lnTo>
                  <a:lnTo>
                    <a:pt x="430" y="2349"/>
                  </a:lnTo>
                  <a:lnTo>
                    <a:pt x="413" y="2335"/>
                  </a:lnTo>
                  <a:lnTo>
                    <a:pt x="396" y="2318"/>
                  </a:lnTo>
                  <a:lnTo>
                    <a:pt x="396" y="2318"/>
                  </a:lnTo>
                  <a:lnTo>
                    <a:pt x="379" y="2302"/>
                  </a:lnTo>
                  <a:lnTo>
                    <a:pt x="379" y="2302"/>
                  </a:lnTo>
                  <a:lnTo>
                    <a:pt x="362" y="2285"/>
                  </a:lnTo>
                  <a:lnTo>
                    <a:pt x="362" y="2285"/>
                  </a:lnTo>
                  <a:lnTo>
                    <a:pt x="346" y="2265"/>
                  </a:lnTo>
                  <a:lnTo>
                    <a:pt x="346" y="2265"/>
                  </a:lnTo>
                  <a:lnTo>
                    <a:pt x="331" y="2248"/>
                  </a:lnTo>
                  <a:lnTo>
                    <a:pt x="331" y="2248"/>
                  </a:lnTo>
                  <a:lnTo>
                    <a:pt x="315" y="2229"/>
                  </a:lnTo>
                  <a:lnTo>
                    <a:pt x="315" y="2229"/>
                  </a:lnTo>
                  <a:lnTo>
                    <a:pt x="301" y="2212"/>
                  </a:lnTo>
                  <a:lnTo>
                    <a:pt x="301" y="2212"/>
                  </a:lnTo>
                  <a:lnTo>
                    <a:pt x="287" y="2192"/>
                  </a:lnTo>
                  <a:lnTo>
                    <a:pt x="287" y="2192"/>
                  </a:lnTo>
                  <a:lnTo>
                    <a:pt x="270" y="2176"/>
                  </a:lnTo>
                  <a:lnTo>
                    <a:pt x="256" y="2156"/>
                  </a:lnTo>
                  <a:lnTo>
                    <a:pt x="256" y="2156"/>
                  </a:lnTo>
                  <a:lnTo>
                    <a:pt x="242" y="2136"/>
                  </a:lnTo>
                  <a:lnTo>
                    <a:pt x="242" y="2136"/>
                  </a:lnTo>
                  <a:lnTo>
                    <a:pt x="230" y="2117"/>
                  </a:lnTo>
                  <a:lnTo>
                    <a:pt x="230" y="2117"/>
                  </a:lnTo>
                  <a:lnTo>
                    <a:pt x="216" y="2097"/>
                  </a:lnTo>
                  <a:lnTo>
                    <a:pt x="216" y="2097"/>
                  </a:lnTo>
                  <a:lnTo>
                    <a:pt x="202" y="2078"/>
                  </a:lnTo>
                  <a:lnTo>
                    <a:pt x="202" y="2078"/>
                  </a:lnTo>
                  <a:lnTo>
                    <a:pt x="191" y="2058"/>
                  </a:lnTo>
                  <a:lnTo>
                    <a:pt x="191" y="2058"/>
                  </a:lnTo>
                  <a:lnTo>
                    <a:pt x="180" y="2036"/>
                  </a:lnTo>
                  <a:lnTo>
                    <a:pt x="180" y="2036"/>
                  </a:lnTo>
                  <a:lnTo>
                    <a:pt x="169" y="2016"/>
                  </a:lnTo>
                  <a:lnTo>
                    <a:pt x="157" y="1994"/>
                  </a:lnTo>
                  <a:lnTo>
                    <a:pt x="157" y="1994"/>
                  </a:lnTo>
                  <a:lnTo>
                    <a:pt x="146" y="1974"/>
                  </a:lnTo>
                  <a:lnTo>
                    <a:pt x="146" y="1974"/>
                  </a:lnTo>
                  <a:lnTo>
                    <a:pt x="135" y="1952"/>
                  </a:lnTo>
                  <a:lnTo>
                    <a:pt x="135" y="1952"/>
                  </a:lnTo>
                  <a:lnTo>
                    <a:pt x="124" y="1932"/>
                  </a:lnTo>
                  <a:lnTo>
                    <a:pt x="124" y="1932"/>
                  </a:lnTo>
                  <a:lnTo>
                    <a:pt x="115" y="1910"/>
                  </a:lnTo>
                  <a:lnTo>
                    <a:pt x="115" y="1910"/>
                  </a:lnTo>
                  <a:lnTo>
                    <a:pt x="104" y="1887"/>
                  </a:lnTo>
                  <a:lnTo>
                    <a:pt x="104" y="1887"/>
                  </a:lnTo>
                  <a:lnTo>
                    <a:pt x="95" y="1865"/>
                  </a:lnTo>
                  <a:lnTo>
                    <a:pt x="95" y="1865"/>
                  </a:lnTo>
                  <a:lnTo>
                    <a:pt x="87" y="1845"/>
                  </a:lnTo>
                  <a:lnTo>
                    <a:pt x="79" y="1823"/>
                  </a:lnTo>
                  <a:lnTo>
                    <a:pt x="79" y="1823"/>
                  </a:lnTo>
                  <a:lnTo>
                    <a:pt x="70" y="1800"/>
                  </a:lnTo>
                  <a:lnTo>
                    <a:pt x="70" y="1800"/>
                  </a:lnTo>
                  <a:lnTo>
                    <a:pt x="62" y="1778"/>
                  </a:lnTo>
                  <a:lnTo>
                    <a:pt x="62" y="1778"/>
                  </a:lnTo>
                  <a:lnTo>
                    <a:pt x="56" y="1756"/>
                  </a:lnTo>
                  <a:lnTo>
                    <a:pt x="56" y="1756"/>
                  </a:lnTo>
                  <a:lnTo>
                    <a:pt x="51" y="1730"/>
                  </a:lnTo>
                  <a:lnTo>
                    <a:pt x="51" y="1730"/>
                  </a:lnTo>
                  <a:lnTo>
                    <a:pt x="42" y="1708"/>
                  </a:lnTo>
                  <a:lnTo>
                    <a:pt x="42" y="1708"/>
                  </a:lnTo>
                  <a:lnTo>
                    <a:pt x="36" y="1686"/>
                  </a:lnTo>
                  <a:lnTo>
                    <a:pt x="36" y="1686"/>
                  </a:lnTo>
                  <a:lnTo>
                    <a:pt x="31" y="1663"/>
                  </a:lnTo>
                  <a:lnTo>
                    <a:pt x="31" y="1663"/>
                  </a:lnTo>
                  <a:lnTo>
                    <a:pt x="25" y="1641"/>
                  </a:lnTo>
                  <a:lnTo>
                    <a:pt x="22" y="1616"/>
                  </a:lnTo>
                  <a:lnTo>
                    <a:pt x="22" y="1616"/>
                  </a:lnTo>
                  <a:lnTo>
                    <a:pt x="17" y="1593"/>
                  </a:lnTo>
                  <a:lnTo>
                    <a:pt x="17" y="1593"/>
                  </a:lnTo>
                  <a:lnTo>
                    <a:pt x="14" y="1571"/>
                  </a:lnTo>
                  <a:lnTo>
                    <a:pt x="14" y="1571"/>
                  </a:lnTo>
                  <a:lnTo>
                    <a:pt x="8" y="1546"/>
                  </a:lnTo>
                  <a:lnTo>
                    <a:pt x="8" y="1546"/>
                  </a:lnTo>
                  <a:lnTo>
                    <a:pt x="6" y="1523"/>
                  </a:lnTo>
                  <a:lnTo>
                    <a:pt x="6" y="1523"/>
                  </a:lnTo>
                  <a:lnTo>
                    <a:pt x="3" y="1498"/>
                  </a:lnTo>
                  <a:lnTo>
                    <a:pt x="3" y="1498"/>
                  </a:lnTo>
                  <a:lnTo>
                    <a:pt x="3" y="1476"/>
                  </a:lnTo>
                  <a:lnTo>
                    <a:pt x="3" y="1476"/>
                  </a:lnTo>
                  <a:lnTo>
                    <a:pt x="0" y="1453"/>
                  </a:lnTo>
                  <a:lnTo>
                    <a:pt x="1360" y="1358"/>
                  </a:lnTo>
                  <a:lnTo>
                    <a:pt x="1360" y="0"/>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301360" y="4006440"/>
              <a:ext cx="963360" cy="757080"/>
            </a:xfrm>
            <a:custGeom>
              <a:avLst/>
              <a:gdLst/>
              <a:ahLst/>
              <a:rect l="l" t="t" r="r" b="b"/>
              <a:pathLst>
                <a:path w="1363" h="1072">
                  <a:moveTo>
                    <a:pt x="3" y="1072"/>
                  </a:moveTo>
                  <a:lnTo>
                    <a:pt x="3" y="1072"/>
                  </a:lnTo>
                  <a:lnTo>
                    <a:pt x="0" y="1047"/>
                  </a:lnTo>
                  <a:lnTo>
                    <a:pt x="0" y="1047"/>
                  </a:lnTo>
                  <a:lnTo>
                    <a:pt x="0" y="1047"/>
                  </a:lnTo>
                  <a:lnTo>
                    <a:pt x="0" y="1025"/>
                  </a:lnTo>
                  <a:lnTo>
                    <a:pt x="0" y="1025"/>
                  </a:lnTo>
                  <a:lnTo>
                    <a:pt x="0" y="1025"/>
                  </a:lnTo>
                  <a:lnTo>
                    <a:pt x="0" y="999"/>
                  </a:lnTo>
                  <a:lnTo>
                    <a:pt x="0" y="999"/>
                  </a:lnTo>
                  <a:lnTo>
                    <a:pt x="0" y="999"/>
                  </a:lnTo>
                  <a:lnTo>
                    <a:pt x="0" y="977"/>
                  </a:lnTo>
                  <a:lnTo>
                    <a:pt x="0" y="977"/>
                  </a:lnTo>
                  <a:lnTo>
                    <a:pt x="0" y="977"/>
                  </a:lnTo>
                  <a:lnTo>
                    <a:pt x="0" y="952"/>
                  </a:lnTo>
                  <a:lnTo>
                    <a:pt x="0" y="952"/>
                  </a:lnTo>
                  <a:lnTo>
                    <a:pt x="0" y="952"/>
                  </a:lnTo>
                  <a:lnTo>
                    <a:pt x="0" y="930"/>
                  </a:lnTo>
                  <a:lnTo>
                    <a:pt x="0" y="930"/>
                  </a:lnTo>
                  <a:lnTo>
                    <a:pt x="0" y="930"/>
                  </a:lnTo>
                  <a:lnTo>
                    <a:pt x="0" y="904"/>
                  </a:lnTo>
                  <a:lnTo>
                    <a:pt x="0" y="904"/>
                  </a:lnTo>
                  <a:lnTo>
                    <a:pt x="0" y="904"/>
                  </a:lnTo>
                  <a:lnTo>
                    <a:pt x="3" y="882"/>
                  </a:lnTo>
                  <a:lnTo>
                    <a:pt x="3" y="882"/>
                  </a:lnTo>
                  <a:lnTo>
                    <a:pt x="3" y="882"/>
                  </a:lnTo>
                  <a:lnTo>
                    <a:pt x="6" y="857"/>
                  </a:lnTo>
                  <a:lnTo>
                    <a:pt x="6" y="857"/>
                  </a:lnTo>
                  <a:lnTo>
                    <a:pt x="6" y="857"/>
                  </a:lnTo>
                  <a:lnTo>
                    <a:pt x="6" y="834"/>
                  </a:lnTo>
                  <a:lnTo>
                    <a:pt x="6" y="834"/>
                  </a:lnTo>
                  <a:lnTo>
                    <a:pt x="6" y="834"/>
                  </a:lnTo>
                  <a:lnTo>
                    <a:pt x="9" y="812"/>
                  </a:lnTo>
                  <a:lnTo>
                    <a:pt x="9" y="812"/>
                  </a:lnTo>
                  <a:lnTo>
                    <a:pt x="9" y="812"/>
                  </a:lnTo>
                  <a:lnTo>
                    <a:pt x="11" y="787"/>
                  </a:lnTo>
                  <a:lnTo>
                    <a:pt x="11" y="787"/>
                  </a:lnTo>
                  <a:lnTo>
                    <a:pt x="11" y="787"/>
                  </a:lnTo>
                  <a:lnTo>
                    <a:pt x="17" y="764"/>
                  </a:lnTo>
                  <a:lnTo>
                    <a:pt x="17" y="764"/>
                  </a:lnTo>
                  <a:lnTo>
                    <a:pt x="17" y="764"/>
                  </a:lnTo>
                  <a:lnTo>
                    <a:pt x="20" y="742"/>
                  </a:lnTo>
                  <a:lnTo>
                    <a:pt x="20" y="742"/>
                  </a:lnTo>
                  <a:lnTo>
                    <a:pt x="20" y="742"/>
                  </a:lnTo>
                  <a:lnTo>
                    <a:pt x="25" y="717"/>
                  </a:lnTo>
                  <a:lnTo>
                    <a:pt x="25" y="717"/>
                  </a:lnTo>
                  <a:lnTo>
                    <a:pt x="25" y="717"/>
                  </a:lnTo>
                  <a:lnTo>
                    <a:pt x="28" y="694"/>
                  </a:lnTo>
                  <a:lnTo>
                    <a:pt x="28" y="694"/>
                  </a:lnTo>
                  <a:lnTo>
                    <a:pt x="28" y="694"/>
                  </a:lnTo>
                  <a:lnTo>
                    <a:pt x="34" y="672"/>
                  </a:lnTo>
                  <a:lnTo>
                    <a:pt x="34" y="672"/>
                  </a:lnTo>
                  <a:lnTo>
                    <a:pt x="34" y="672"/>
                  </a:lnTo>
                  <a:lnTo>
                    <a:pt x="39" y="647"/>
                  </a:lnTo>
                  <a:lnTo>
                    <a:pt x="39" y="647"/>
                  </a:lnTo>
                  <a:lnTo>
                    <a:pt x="39" y="647"/>
                  </a:lnTo>
                  <a:lnTo>
                    <a:pt x="45" y="624"/>
                  </a:lnTo>
                  <a:lnTo>
                    <a:pt x="45" y="624"/>
                  </a:lnTo>
                  <a:lnTo>
                    <a:pt x="45" y="624"/>
                  </a:lnTo>
                  <a:lnTo>
                    <a:pt x="54" y="602"/>
                  </a:lnTo>
                  <a:lnTo>
                    <a:pt x="54" y="602"/>
                  </a:lnTo>
                  <a:lnTo>
                    <a:pt x="54" y="602"/>
                  </a:lnTo>
                  <a:lnTo>
                    <a:pt x="59" y="580"/>
                  </a:lnTo>
                  <a:lnTo>
                    <a:pt x="59" y="580"/>
                  </a:lnTo>
                  <a:lnTo>
                    <a:pt x="59" y="580"/>
                  </a:lnTo>
                  <a:lnTo>
                    <a:pt x="65" y="557"/>
                  </a:lnTo>
                  <a:lnTo>
                    <a:pt x="65" y="557"/>
                  </a:lnTo>
                  <a:lnTo>
                    <a:pt x="65" y="557"/>
                  </a:lnTo>
                  <a:lnTo>
                    <a:pt x="73" y="535"/>
                  </a:lnTo>
                  <a:lnTo>
                    <a:pt x="73" y="535"/>
                  </a:lnTo>
                  <a:lnTo>
                    <a:pt x="73" y="535"/>
                  </a:lnTo>
                  <a:lnTo>
                    <a:pt x="82" y="512"/>
                  </a:lnTo>
                  <a:lnTo>
                    <a:pt x="82" y="512"/>
                  </a:lnTo>
                  <a:lnTo>
                    <a:pt x="82" y="512"/>
                  </a:lnTo>
                  <a:lnTo>
                    <a:pt x="90" y="490"/>
                  </a:lnTo>
                  <a:lnTo>
                    <a:pt x="90" y="490"/>
                  </a:lnTo>
                  <a:lnTo>
                    <a:pt x="90" y="490"/>
                  </a:lnTo>
                  <a:lnTo>
                    <a:pt x="98" y="468"/>
                  </a:lnTo>
                  <a:lnTo>
                    <a:pt x="98" y="468"/>
                  </a:lnTo>
                  <a:lnTo>
                    <a:pt x="98" y="468"/>
                  </a:lnTo>
                  <a:lnTo>
                    <a:pt x="107" y="445"/>
                  </a:lnTo>
                  <a:lnTo>
                    <a:pt x="107" y="445"/>
                  </a:lnTo>
                  <a:lnTo>
                    <a:pt x="107" y="445"/>
                  </a:lnTo>
                  <a:lnTo>
                    <a:pt x="118" y="423"/>
                  </a:lnTo>
                  <a:lnTo>
                    <a:pt x="118" y="423"/>
                  </a:lnTo>
                  <a:lnTo>
                    <a:pt x="118" y="423"/>
                  </a:lnTo>
                  <a:lnTo>
                    <a:pt x="127" y="403"/>
                  </a:lnTo>
                  <a:lnTo>
                    <a:pt x="127" y="403"/>
                  </a:lnTo>
                  <a:lnTo>
                    <a:pt x="127" y="403"/>
                  </a:lnTo>
                  <a:lnTo>
                    <a:pt x="138" y="381"/>
                  </a:lnTo>
                  <a:lnTo>
                    <a:pt x="138" y="381"/>
                  </a:lnTo>
                  <a:lnTo>
                    <a:pt x="138" y="381"/>
                  </a:lnTo>
                  <a:lnTo>
                    <a:pt x="149" y="361"/>
                  </a:lnTo>
                  <a:lnTo>
                    <a:pt x="149" y="361"/>
                  </a:lnTo>
                  <a:lnTo>
                    <a:pt x="149" y="361"/>
                  </a:lnTo>
                  <a:lnTo>
                    <a:pt x="160" y="339"/>
                  </a:lnTo>
                  <a:lnTo>
                    <a:pt x="160" y="339"/>
                  </a:lnTo>
                  <a:lnTo>
                    <a:pt x="160" y="339"/>
                  </a:lnTo>
                  <a:lnTo>
                    <a:pt x="172" y="319"/>
                  </a:lnTo>
                  <a:lnTo>
                    <a:pt x="172" y="319"/>
                  </a:lnTo>
                  <a:lnTo>
                    <a:pt x="172" y="319"/>
                  </a:lnTo>
                  <a:lnTo>
                    <a:pt x="183" y="297"/>
                  </a:lnTo>
                  <a:lnTo>
                    <a:pt x="183" y="297"/>
                  </a:lnTo>
                  <a:lnTo>
                    <a:pt x="183" y="297"/>
                  </a:lnTo>
                  <a:lnTo>
                    <a:pt x="194" y="277"/>
                  </a:lnTo>
                  <a:lnTo>
                    <a:pt x="194" y="277"/>
                  </a:lnTo>
                  <a:lnTo>
                    <a:pt x="194" y="277"/>
                  </a:lnTo>
                  <a:lnTo>
                    <a:pt x="205" y="258"/>
                  </a:lnTo>
                  <a:lnTo>
                    <a:pt x="205" y="258"/>
                  </a:lnTo>
                  <a:lnTo>
                    <a:pt x="205" y="258"/>
                  </a:lnTo>
                  <a:lnTo>
                    <a:pt x="219" y="238"/>
                  </a:lnTo>
                  <a:lnTo>
                    <a:pt x="219" y="238"/>
                  </a:lnTo>
                  <a:lnTo>
                    <a:pt x="219" y="238"/>
                  </a:lnTo>
                  <a:lnTo>
                    <a:pt x="233" y="218"/>
                  </a:lnTo>
                  <a:lnTo>
                    <a:pt x="233" y="218"/>
                  </a:lnTo>
                  <a:lnTo>
                    <a:pt x="233" y="218"/>
                  </a:lnTo>
                  <a:lnTo>
                    <a:pt x="245" y="199"/>
                  </a:lnTo>
                  <a:lnTo>
                    <a:pt x="245" y="199"/>
                  </a:lnTo>
                  <a:lnTo>
                    <a:pt x="245" y="199"/>
                  </a:lnTo>
                  <a:lnTo>
                    <a:pt x="259" y="179"/>
                  </a:lnTo>
                  <a:lnTo>
                    <a:pt x="259" y="179"/>
                  </a:lnTo>
                  <a:lnTo>
                    <a:pt x="259" y="179"/>
                  </a:lnTo>
                  <a:lnTo>
                    <a:pt x="273" y="160"/>
                  </a:lnTo>
                  <a:lnTo>
                    <a:pt x="273" y="160"/>
                  </a:lnTo>
                  <a:lnTo>
                    <a:pt x="273" y="160"/>
                  </a:lnTo>
                  <a:lnTo>
                    <a:pt x="290" y="140"/>
                  </a:lnTo>
                  <a:lnTo>
                    <a:pt x="290" y="140"/>
                  </a:lnTo>
                  <a:lnTo>
                    <a:pt x="290" y="140"/>
                  </a:lnTo>
                  <a:lnTo>
                    <a:pt x="304" y="123"/>
                  </a:lnTo>
                  <a:lnTo>
                    <a:pt x="304" y="123"/>
                  </a:lnTo>
                  <a:lnTo>
                    <a:pt x="304" y="123"/>
                  </a:lnTo>
                  <a:lnTo>
                    <a:pt x="318" y="104"/>
                  </a:lnTo>
                  <a:lnTo>
                    <a:pt x="318" y="104"/>
                  </a:lnTo>
                  <a:lnTo>
                    <a:pt x="318" y="104"/>
                  </a:lnTo>
                  <a:lnTo>
                    <a:pt x="334" y="87"/>
                  </a:lnTo>
                  <a:lnTo>
                    <a:pt x="334" y="87"/>
                  </a:lnTo>
                  <a:lnTo>
                    <a:pt x="334" y="87"/>
                  </a:lnTo>
                  <a:lnTo>
                    <a:pt x="349" y="67"/>
                  </a:lnTo>
                  <a:lnTo>
                    <a:pt x="349" y="67"/>
                  </a:lnTo>
                  <a:lnTo>
                    <a:pt x="349" y="67"/>
                  </a:lnTo>
                  <a:lnTo>
                    <a:pt x="365" y="50"/>
                  </a:lnTo>
                  <a:lnTo>
                    <a:pt x="365" y="50"/>
                  </a:lnTo>
                  <a:lnTo>
                    <a:pt x="365" y="50"/>
                  </a:lnTo>
                  <a:lnTo>
                    <a:pt x="382" y="34"/>
                  </a:lnTo>
                  <a:lnTo>
                    <a:pt x="382" y="34"/>
                  </a:lnTo>
                  <a:lnTo>
                    <a:pt x="382" y="34"/>
                  </a:lnTo>
                  <a:lnTo>
                    <a:pt x="399" y="17"/>
                  </a:lnTo>
                  <a:lnTo>
                    <a:pt x="399" y="17"/>
                  </a:lnTo>
                  <a:lnTo>
                    <a:pt x="399" y="17"/>
                  </a:lnTo>
                  <a:lnTo>
                    <a:pt x="416" y="0"/>
                  </a:lnTo>
                  <a:lnTo>
                    <a:pt x="416" y="0"/>
                  </a:lnTo>
                  <a:lnTo>
                    <a:pt x="1363" y="977"/>
                  </a:lnTo>
                  <a:lnTo>
                    <a:pt x="3" y="1072"/>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301360" y="4006440"/>
              <a:ext cx="963360" cy="757080"/>
            </a:xfrm>
            <a:custGeom>
              <a:avLst/>
              <a:gdLst/>
              <a:ahLst/>
              <a:rect l="l" t="t" r="r" b="b"/>
              <a:pathLst>
                <a:path w="1363" h="1072">
                  <a:moveTo>
                    <a:pt x="3" y="1072"/>
                  </a:moveTo>
                  <a:lnTo>
                    <a:pt x="3" y="1072"/>
                  </a:lnTo>
                  <a:lnTo>
                    <a:pt x="0" y="1047"/>
                  </a:lnTo>
                  <a:lnTo>
                    <a:pt x="0" y="1047"/>
                  </a:lnTo>
                  <a:lnTo>
                    <a:pt x="0" y="1047"/>
                  </a:lnTo>
                  <a:lnTo>
                    <a:pt x="0" y="1025"/>
                  </a:lnTo>
                  <a:lnTo>
                    <a:pt x="0" y="1025"/>
                  </a:lnTo>
                  <a:lnTo>
                    <a:pt x="0" y="1025"/>
                  </a:lnTo>
                  <a:lnTo>
                    <a:pt x="0" y="999"/>
                  </a:lnTo>
                  <a:lnTo>
                    <a:pt x="0" y="999"/>
                  </a:lnTo>
                  <a:lnTo>
                    <a:pt x="0" y="999"/>
                  </a:lnTo>
                  <a:lnTo>
                    <a:pt x="0" y="977"/>
                  </a:lnTo>
                  <a:lnTo>
                    <a:pt x="0" y="977"/>
                  </a:lnTo>
                  <a:lnTo>
                    <a:pt x="0" y="977"/>
                  </a:lnTo>
                  <a:lnTo>
                    <a:pt x="0" y="952"/>
                  </a:lnTo>
                  <a:lnTo>
                    <a:pt x="0" y="952"/>
                  </a:lnTo>
                  <a:lnTo>
                    <a:pt x="0" y="952"/>
                  </a:lnTo>
                  <a:lnTo>
                    <a:pt x="0" y="930"/>
                  </a:lnTo>
                  <a:lnTo>
                    <a:pt x="0" y="930"/>
                  </a:lnTo>
                  <a:lnTo>
                    <a:pt x="0" y="930"/>
                  </a:lnTo>
                  <a:lnTo>
                    <a:pt x="0" y="904"/>
                  </a:lnTo>
                  <a:lnTo>
                    <a:pt x="0" y="904"/>
                  </a:lnTo>
                  <a:lnTo>
                    <a:pt x="0" y="904"/>
                  </a:lnTo>
                  <a:lnTo>
                    <a:pt x="3" y="882"/>
                  </a:lnTo>
                  <a:lnTo>
                    <a:pt x="3" y="882"/>
                  </a:lnTo>
                  <a:lnTo>
                    <a:pt x="3" y="882"/>
                  </a:lnTo>
                  <a:lnTo>
                    <a:pt x="6" y="857"/>
                  </a:lnTo>
                  <a:lnTo>
                    <a:pt x="6" y="857"/>
                  </a:lnTo>
                  <a:lnTo>
                    <a:pt x="6" y="857"/>
                  </a:lnTo>
                  <a:lnTo>
                    <a:pt x="6" y="834"/>
                  </a:lnTo>
                  <a:lnTo>
                    <a:pt x="6" y="834"/>
                  </a:lnTo>
                  <a:lnTo>
                    <a:pt x="6" y="834"/>
                  </a:lnTo>
                  <a:lnTo>
                    <a:pt x="9" y="812"/>
                  </a:lnTo>
                  <a:lnTo>
                    <a:pt x="9" y="812"/>
                  </a:lnTo>
                  <a:lnTo>
                    <a:pt x="9" y="812"/>
                  </a:lnTo>
                  <a:lnTo>
                    <a:pt x="11" y="787"/>
                  </a:lnTo>
                  <a:lnTo>
                    <a:pt x="11" y="787"/>
                  </a:lnTo>
                  <a:lnTo>
                    <a:pt x="11" y="787"/>
                  </a:lnTo>
                  <a:lnTo>
                    <a:pt x="17" y="764"/>
                  </a:lnTo>
                  <a:lnTo>
                    <a:pt x="17" y="764"/>
                  </a:lnTo>
                  <a:lnTo>
                    <a:pt x="17" y="764"/>
                  </a:lnTo>
                  <a:lnTo>
                    <a:pt x="20" y="742"/>
                  </a:lnTo>
                  <a:lnTo>
                    <a:pt x="20" y="742"/>
                  </a:lnTo>
                  <a:lnTo>
                    <a:pt x="20" y="742"/>
                  </a:lnTo>
                  <a:lnTo>
                    <a:pt x="25" y="717"/>
                  </a:lnTo>
                  <a:lnTo>
                    <a:pt x="25" y="717"/>
                  </a:lnTo>
                  <a:lnTo>
                    <a:pt x="25" y="717"/>
                  </a:lnTo>
                  <a:lnTo>
                    <a:pt x="28" y="694"/>
                  </a:lnTo>
                  <a:lnTo>
                    <a:pt x="28" y="694"/>
                  </a:lnTo>
                  <a:lnTo>
                    <a:pt x="28" y="694"/>
                  </a:lnTo>
                  <a:lnTo>
                    <a:pt x="34" y="672"/>
                  </a:lnTo>
                  <a:lnTo>
                    <a:pt x="34" y="672"/>
                  </a:lnTo>
                  <a:lnTo>
                    <a:pt x="34" y="672"/>
                  </a:lnTo>
                  <a:lnTo>
                    <a:pt x="39" y="647"/>
                  </a:lnTo>
                  <a:lnTo>
                    <a:pt x="39" y="647"/>
                  </a:lnTo>
                  <a:lnTo>
                    <a:pt x="39" y="647"/>
                  </a:lnTo>
                  <a:lnTo>
                    <a:pt x="45" y="624"/>
                  </a:lnTo>
                  <a:lnTo>
                    <a:pt x="45" y="624"/>
                  </a:lnTo>
                  <a:lnTo>
                    <a:pt x="45" y="624"/>
                  </a:lnTo>
                  <a:lnTo>
                    <a:pt x="54" y="602"/>
                  </a:lnTo>
                  <a:lnTo>
                    <a:pt x="54" y="602"/>
                  </a:lnTo>
                  <a:lnTo>
                    <a:pt x="54" y="602"/>
                  </a:lnTo>
                  <a:lnTo>
                    <a:pt x="59" y="580"/>
                  </a:lnTo>
                  <a:lnTo>
                    <a:pt x="59" y="580"/>
                  </a:lnTo>
                  <a:lnTo>
                    <a:pt x="59" y="580"/>
                  </a:lnTo>
                  <a:lnTo>
                    <a:pt x="65" y="557"/>
                  </a:lnTo>
                  <a:lnTo>
                    <a:pt x="65" y="557"/>
                  </a:lnTo>
                  <a:lnTo>
                    <a:pt x="65" y="557"/>
                  </a:lnTo>
                  <a:lnTo>
                    <a:pt x="73" y="535"/>
                  </a:lnTo>
                  <a:lnTo>
                    <a:pt x="73" y="535"/>
                  </a:lnTo>
                  <a:lnTo>
                    <a:pt x="73" y="535"/>
                  </a:lnTo>
                  <a:lnTo>
                    <a:pt x="82" y="512"/>
                  </a:lnTo>
                  <a:lnTo>
                    <a:pt x="82" y="512"/>
                  </a:lnTo>
                  <a:lnTo>
                    <a:pt x="82" y="512"/>
                  </a:lnTo>
                  <a:lnTo>
                    <a:pt x="90" y="490"/>
                  </a:lnTo>
                  <a:lnTo>
                    <a:pt x="90" y="490"/>
                  </a:lnTo>
                  <a:lnTo>
                    <a:pt x="90" y="490"/>
                  </a:lnTo>
                  <a:lnTo>
                    <a:pt x="98" y="468"/>
                  </a:lnTo>
                  <a:lnTo>
                    <a:pt x="98" y="468"/>
                  </a:lnTo>
                  <a:lnTo>
                    <a:pt x="98" y="468"/>
                  </a:lnTo>
                  <a:lnTo>
                    <a:pt x="107" y="445"/>
                  </a:lnTo>
                  <a:lnTo>
                    <a:pt x="107" y="445"/>
                  </a:lnTo>
                  <a:lnTo>
                    <a:pt x="107" y="445"/>
                  </a:lnTo>
                  <a:lnTo>
                    <a:pt x="118" y="423"/>
                  </a:lnTo>
                  <a:lnTo>
                    <a:pt x="118" y="423"/>
                  </a:lnTo>
                  <a:lnTo>
                    <a:pt x="118" y="423"/>
                  </a:lnTo>
                  <a:lnTo>
                    <a:pt x="127" y="403"/>
                  </a:lnTo>
                  <a:lnTo>
                    <a:pt x="127" y="403"/>
                  </a:lnTo>
                  <a:lnTo>
                    <a:pt x="127" y="403"/>
                  </a:lnTo>
                  <a:lnTo>
                    <a:pt x="138" y="381"/>
                  </a:lnTo>
                  <a:lnTo>
                    <a:pt x="138" y="381"/>
                  </a:lnTo>
                  <a:lnTo>
                    <a:pt x="138" y="381"/>
                  </a:lnTo>
                  <a:lnTo>
                    <a:pt x="149" y="361"/>
                  </a:lnTo>
                  <a:lnTo>
                    <a:pt x="149" y="361"/>
                  </a:lnTo>
                  <a:lnTo>
                    <a:pt x="149" y="361"/>
                  </a:lnTo>
                  <a:lnTo>
                    <a:pt x="160" y="339"/>
                  </a:lnTo>
                  <a:lnTo>
                    <a:pt x="160" y="339"/>
                  </a:lnTo>
                  <a:lnTo>
                    <a:pt x="160" y="339"/>
                  </a:lnTo>
                  <a:lnTo>
                    <a:pt x="172" y="319"/>
                  </a:lnTo>
                  <a:lnTo>
                    <a:pt x="172" y="319"/>
                  </a:lnTo>
                  <a:lnTo>
                    <a:pt x="172" y="319"/>
                  </a:lnTo>
                  <a:lnTo>
                    <a:pt x="183" y="297"/>
                  </a:lnTo>
                  <a:lnTo>
                    <a:pt x="183" y="297"/>
                  </a:lnTo>
                  <a:lnTo>
                    <a:pt x="183" y="297"/>
                  </a:lnTo>
                  <a:lnTo>
                    <a:pt x="194" y="277"/>
                  </a:lnTo>
                  <a:lnTo>
                    <a:pt x="194" y="277"/>
                  </a:lnTo>
                  <a:lnTo>
                    <a:pt x="194" y="277"/>
                  </a:lnTo>
                  <a:lnTo>
                    <a:pt x="205" y="258"/>
                  </a:lnTo>
                  <a:lnTo>
                    <a:pt x="205" y="258"/>
                  </a:lnTo>
                  <a:lnTo>
                    <a:pt x="205" y="258"/>
                  </a:lnTo>
                  <a:lnTo>
                    <a:pt x="219" y="238"/>
                  </a:lnTo>
                  <a:lnTo>
                    <a:pt x="219" y="238"/>
                  </a:lnTo>
                  <a:lnTo>
                    <a:pt x="219" y="238"/>
                  </a:lnTo>
                  <a:lnTo>
                    <a:pt x="233" y="218"/>
                  </a:lnTo>
                  <a:lnTo>
                    <a:pt x="233" y="218"/>
                  </a:lnTo>
                  <a:lnTo>
                    <a:pt x="233" y="218"/>
                  </a:lnTo>
                  <a:lnTo>
                    <a:pt x="245" y="199"/>
                  </a:lnTo>
                  <a:lnTo>
                    <a:pt x="245" y="199"/>
                  </a:lnTo>
                  <a:lnTo>
                    <a:pt x="245" y="199"/>
                  </a:lnTo>
                  <a:lnTo>
                    <a:pt x="259" y="179"/>
                  </a:lnTo>
                  <a:lnTo>
                    <a:pt x="259" y="179"/>
                  </a:lnTo>
                  <a:lnTo>
                    <a:pt x="259" y="179"/>
                  </a:lnTo>
                  <a:lnTo>
                    <a:pt x="273" y="160"/>
                  </a:lnTo>
                  <a:lnTo>
                    <a:pt x="273" y="160"/>
                  </a:lnTo>
                  <a:lnTo>
                    <a:pt x="273" y="160"/>
                  </a:lnTo>
                  <a:lnTo>
                    <a:pt x="290" y="140"/>
                  </a:lnTo>
                  <a:lnTo>
                    <a:pt x="290" y="140"/>
                  </a:lnTo>
                  <a:lnTo>
                    <a:pt x="290" y="140"/>
                  </a:lnTo>
                  <a:lnTo>
                    <a:pt x="304" y="123"/>
                  </a:lnTo>
                  <a:lnTo>
                    <a:pt x="304" y="123"/>
                  </a:lnTo>
                  <a:lnTo>
                    <a:pt x="304" y="123"/>
                  </a:lnTo>
                  <a:lnTo>
                    <a:pt x="318" y="104"/>
                  </a:lnTo>
                  <a:lnTo>
                    <a:pt x="318" y="104"/>
                  </a:lnTo>
                  <a:lnTo>
                    <a:pt x="318" y="104"/>
                  </a:lnTo>
                  <a:lnTo>
                    <a:pt x="334" y="87"/>
                  </a:lnTo>
                  <a:lnTo>
                    <a:pt x="334" y="87"/>
                  </a:lnTo>
                  <a:lnTo>
                    <a:pt x="334" y="87"/>
                  </a:lnTo>
                  <a:lnTo>
                    <a:pt x="349" y="67"/>
                  </a:lnTo>
                  <a:lnTo>
                    <a:pt x="349" y="67"/>
                  </a:lnTo>
                  <a:lnTo>
                    <a:pt x="349" y="67"/>
                  </a:lnTo>
                  <a:lnTo>
                    <a:pt x="365" y="50"/>
                  </a:lnTo>
                  <a:lnTo>
                    <a:pt x="365" y="50"/>
                  </a:lnTo>
                  <a:lnTo>
                    <a:pt x="365" y="50"/>
                  </a:lnTo>
                  <a:lnTo>
                    <a:pt x="382" y="34"/>
                  </a:lnTo>
                  <a:lnTo>
                    <a:pt x="382" y="34"/>
                  </a:lnTo>
                  <a:lnTo>
                    <a:pt x="382" y="34"/>
                  </a:lnTo>
                  <a:lnTo>
                    <a:pt x="399" y="17"/>
                  </a:lnTo>
                  <a:lnTo>
                    <a:pt x="399" y="17"/>
                  </a:lnTo>
                  <a:lnTo>
                    <a:pt x="399" y="17"/>
                  </a:lnTo>
                  <a:lnTo>
                    <a:pt x="416" y="0"/>
                  </a:lnTo>
                  <a:lnTo>
                    <a:pt x="416" y="0"/>
                  </a:lnTo>
                  <a:lnTo>
                    <a:pt x="1363" y="977"/>
                  </a:lnTo>
                  <a:lnTo>
                    <a:pt x="3" y="1072"/>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595480" y="3737160"/>
              <a:ext cx="669240" cy="959400"/>
            </a:xfrm>
            <a:custGeom>
              <a:avLst/>
              <a:gdLst/>
              <a:ahLst/>
              <a:rect l="l" t="t" r="r" b="b"/>
              <a:pathLst>
                <a:path w="947" h="1358">
                  <a:moveTo>
                    <a:pt x="0" y="381"/>
                  </a:moveTo>
                  <a:lnTo>
                    <a:pt x="0" y="381"/>
                  </a:lnTo>
                  <a:lnTo>
                    <a:pt x="17" y="364"/>
                  </a:lnTo>
                  <a:lnTo>
                    <a:pt x="17" y="364"/>
                  </a:lnTo>
                  <a:lnTo>
                    <a:pt x="17" y="364"/>
                  </a:lnTo>
                  <a:lnTo>
                    <a:pt x="34" y="347"/>
                  </a:lnTo>
                  <a:lnTo>
                    <a:pt x="34" y="347"/>
                  </a:lnTo>
                  <a:lnTo>
                    <a:pt x="34" y="347"/>
                  </a:lnTo>
                  <a:lnTo>
                    <a:pt x="53" y="333"/>
                  </a:lnTo>
                  <a:lnTo>
                    <a:pt x="53" y="333"/>
                  </a:lnTo>
                  <a:lnTo>
                    <a:pt x="53" y="333"/>
                  </a:lnTo>
                  <a:lnTo>
                    <a:pt x="70" y="317"/>
                  </a:lnTo>
                  <a:lnTo>
                    <a:pt x="70" y="317"/>
                  </a:lnTo>
                  <a:lnTo>
                    <a:pt x="70" y="317"/>
                  </a:lnTo>
                  <a:lnTo>
                    <a:pt x="90" y="303"/>
                  </a:lnTo>
                  <a:lnTo>
                    <a:pt x="90" y="303"/>
                  </a:lnTo>
                  <a:lnTo>
                    <a:pt x="90" y="303"/>
                  </a:lnTo>
                  <a:lnTo>
                    <a:pt x="107" y="289"/>
                  </a:lnTo>
                  <a:lnTo>
                    <a:pt x="107" y="289"/>
                  </a:lnTo>
                  <a:lnTo>
                    <a:pt x="107" y="289"/>
                  </a:lnTo>
                  <a:lnTo>
                    <a:pt x="126" y="272"/>
                  </a:lnTo>
                  <a:lnTo>
                    <a:pt x="126" y="272"/>
                  </a:lnTo>
                  <a:lnTo>
                    <a:pt x="126" y="272"/>
                  </a:lnTo>
                  <a:lnTo>
                    <a:pt x="146" y="258"/>
                  </a:lnTo>
                  <a:lnTo>
                    <a:pt x="146" y="258"/>
                  </a:lnTo>
                  <a:lnTo>
                    <a:pt x="146" y="258"/>
                  </a:lnTo>
                  <a:lnTo>
                    <a:pt x="166" y="244"/>
                  </a:lnTo>
                  <a:lnTo>
                    <a:pt x="166" y="244"/>
                  </a:lnTo>
                  <a:lnTo>
                    <a:pt x="166" y="244"/>
                  </a:lnTo>
                  <a:lnTo>
                    <a:pt x="185" y="233"/>
                  </a:lnTo>
                  <a:lnTo>
                    <a:pt x="185" y="233"/>
                  </a:lnTo>
                  <a:lnTo>
                    <a:pt x="185" y="233"/>
                  </a:lnTo>
                  <a:lnTo>
                    <a:pt x="205" y="219"/>
                  </a:lnTo>
                  <a:lnTo>
                    <a:pt x="205" y="219"/>
                  </a:lnTo>
                  <a:lnTo>
                    <a:pt x="205" y="219"/>
                  </a:lnTo>
                  <a:lnTo>
                    <a:pt x="225" y="205"/>
                  </a:lnTo>
                  <a:lnTo>
                    <a:pt x="225" y="205"/>
                  </a:lnTo>
                  <a:lnTo>
                    <a:pt x="225" y="205"/>
                  </a:lnTo>
                  <a:lnTo>
                    <a:pt x="244" y="193"/>
                  </a:lnTo>
                  <a:lnTo>
                    <a:pt x="244" y="193"/>
                  </a:lnTo>
                  <a:lnTo>
                    <a:pt x="244" y="193"/>
                  </a:lnTo>
                  <a:lnTo>
                    <a:pt x="264" y="182"/>
                  </a:lnTo>
                  <a:lnTo>
                    <a:pt x="264" y="182"/>
                  </a:lnTo>
                  <a:lnTo>
                    <a:pt x="264" y="182"/>
                  </a:lnTo>
                  <a:lnTo>
                    <a:pt x="287" y="171"/>
                  </a:lnTo>
                  <a:lnTo>
                    <a:pt x="287" y="171"/>
                  </a:lnTo>
                  <a:lnTo>
                    <a:pt x="287" y="171"/>
                  </a:lnTo>
                  <a:lnTo>
                    <a:pt x="306" y="160"/>
                  </a:lnTo>
                  <a:lnTo>
                    <a:pt x="306" y="160"/>
                  </a:lnTo>
                  <a:lnTo>
                    <a:pt x="306" y="160"/>
                  </a:lnTo>
                  <a:lnTo>
                    <a:pt x="329" y="149"/>
                  </a:lnTo>
                  <a:lnTo>
                    <a:pt x="329" y="149"/>
                  </a:lnTo>
                  <a:lnTo>
                    <a:pt x="329" y="149"/>
                  </a:lnTo>
                  <a:lnTo>
                    <a:pt x="348" y="137"/>
                  </a:lnTo>
                  <a:lnTo>
                    <a:pt x="348" y="137"/>
                  </a:lnTo>
                  <a:lnTo>
                    <a:pt x="348" y="137"/>
                  </a:lnTo>
                  <a:lnTo>
                    <a:pt x="371" y="126"/>
                  </a:lnTo>
                  <a:lnTo>
                    <a:pt x="371" y="126"/>
                  </a:lnTo>
                  <a:lnTo>
                    <a:pt x="371" y="126"/>
                  </a:lnTo>
                  <a:lnTo>
                    <a:pt x="390" y="118"/>
                  </a:lnTo>
                  <a:lnTo>
                    <a:pt x="390" y="118"/>
                  </a:lnTo>
                  <a:lnTo>
                    <a:pt x="390" y="118"/>
                  </a:lnTo>
                  <a:lnTo>
                    <a:pt x="413" y="107"/>
                  </a:lnTo>
                  <a:lnTo>
                    <a:pt x="413" y="107"/>
                  </a:lnTo>
                  <a:lnTo>
                    <a:pt x="413" y="107"/>
                  </a:lnTo>
                  <a:lnTo>
                    <a:pt x="435" y="98"/>
                  </a:lnTo>
                  <a:lnTo>
                    <a:pt x="435" y="98"/>
                  </a:lnTo>
                  <a:lnTo>
                    <a:pt x="435" y="98"/>
                  </a:lnTo>
                  <a:lnTo>
                    <a:pt x="458" y="90"/>
                  </a:lnTo>
                  <a:lnTo>
                    <a:pt x="458" y="90"/>
                  </a:lnTo>
                  <a:lnTo>
                    <a:pt x="458" y="90"/>
                  </a:lnTo>
                  <a:lnTo>
                    <a:pt x="480" y="81"/>
                  </a:lnTo>
                  <a:lnTo>
                    <a:pt x="480" y="81"/>
                  </a:lnTo>
                  <a:lnTo>
                    <a:pt x="480" y="81"/>
                  </a:lnTo>
                  <a:lnTo>
                    <a:pt x="503" y="73"/>
                  </a:lnTo>
                  <a:lnTo>
                    <a:pt x="503" y="73"/>
                  </a:lnTo>
                  <a:lnTo>
                    <a:pt x="503" y="73"/>
                  </a:lnTo>
                  <a:lnTo>
                    <a:pt x="525" y="65"/>
                  </a:lnTo>
                  <a:lnTo>
                    <a:pt x="525" y="65"/>
                  </a:lnTo>
                  <a:lnTo>
                    <a:pt x="525" y="65"/>
                  </a:lnTo>
                  <a:lnTo>
                    <a:pt x="548" y="59"/>
                  </a:lnTo>
                  <a:lnTo>
                    <a:pt x="548" y="59"/>
                  </a:lnTo>
                  <a:lnTo>
                    <a:pt x="548" y="59"/>
                  </a:lnTo>
                  <a:lnTo>
                    <a:pt x="570" y="53"/>
                  </a:lnTo>
                  <a:lnTo>
                    <a:pt x="570" y="53"/>
                  </a:lnTo>
                  <a:lnTo>
                    <a:pt x="570" y="53"/>
                  </a:lnTo>
                  <a:lnTo>
                    <a:pt x="593" y="45"/>
                  </a:lnTo>
                  <a:lnTo>
                    <a:pt x="593" y="45"/>
                  </a:lnTo>
                  <a:lnTo>
                    <a:pt x="593" y="45"/>
                  </a:lnTo>
                  <a:lnTo>
                    <a:pt x="615" y="39"/>
                  </a:lnTo>
                  <a:lnTo>
                    <a:pt x="615" y="39"/>
                  </a:lnTo>
                  <a:lnTo>
                    <a:pt x="615" y="39"/>
                  </a:lnTo>
                  <a:lnTo>
                    <a:pt x="641" y="34"/>
                  </a:lnTo>
                  <a:lnTo>
                    <a:pt x="641" y="34"/>
                  </a:lnTo>
                  <a:lnTo>
                    <a:pt x="641" y="34"/>
                  </a:lnTo>
                  <a:lnTo>
                    <a:pt x="663" y="28"/>
                  </a:lnTo>
                  <a:lnTo>
                    <a:pt x="663" y="28"/>
                  </a:lnTo>
                  <a:lnTo>
                    <a:pt x="663" y="28"/>
                  </a:lnTo>
                  <a:lnTo>
                    <a:pt x="685" y="25"/>
                  </a:lnTo>
                  <a:lnTo>
                    <a:pt x="685" y="25"/>
                  </a:lnTo>
                  <a:lnTo>
                    <a:pt x="685" y="25"/>
                  </a:lnTo>
                  <a:lnTo>
                    <a:pt x="711" y="20"/>
                  </a:lnTo>
                  <a:lnTo>
                    <a:pt x="711" y="20"/>
                  </a:lnTo>
                  <a:lnTo>
                    <a:pt x="711" y="20"/>
                  </a:lnTo>
                  <a:lnTo>
                    <a:pt x="733" y="17"/>
                  </a:lnTo>
                  <a:lnTo>
                    <a:pt x="733" y="17"/>
                  </a:lnTo>
                  <a:lnTo>
                    <a:pt x="733" y="17"/>
                  </a:lnTo>
                  <a:lnTo>
                    <a:pt x="756" y="11"/>
                  </a:lnTo>
                  <a:lnTo>
                    <a:pt x="756" y="11"/>
                  </a:lnTo>
                  <a:lnTo>
                    <a:pt x="756" y="11"/>
                  </a:lnTo>
                  <a:lnTo>
                    <a:pt x="781" y="9"/>
                  </a:lnTo>
                  <a:lnTo>
                    <a:pt x="781" y="9"/>
                  </a:lnTo>
                  <a:lnTo>
                    <a:pt x="781" y="9"/>
                  </a:lnTo>
                  <a:lnTo>
                    <a:pt x="803" y="6"/>
                  </a:lnTo>
                  <a:lnTo>
                    <a:pt x="803" y="6"/>
                  </a:lnTo>
                  <a:lnTo>
                    <a:pt x="803" y="6"/>
                  </a:lnTo>
                  <a:lnTo>
                    <a:pt x="826" y="6"/>
                  </a:lnTo>
                  <a:lnTo>
                    <a:pt x="826" y="6"/>
                  </a:lnTo>
                  <a:lnTo>
                    <a:pt x="826" y="6"/>
                  </a:lnTo>
                  <a:lnTo>
                    <a:pt x="851" y="3"/>
                  </a:lnTo>
                  <a:lnTo>
                    <a:pt x="851" y="3"/>
                  </a:lnTo>
                  <a:lnTo>
                    <a:pt x="851" y="3"/>
                  </a:lnTo>
                  <a:lnTo>
                    <a:pt x="874" y="0"/>
                  </a:lnTo>
                  <a:lnTo>
                    <a:pt x="874" y="0"/>
                  </a:lnTo>
                  <a:lnTo>
                    <a:pt x="874" y="0"/>
                  </a:lnTo>
                  <a:lnTo>
                    <a:pt x="899" y="0"/>
                  </a:lnTo>
                  <a:lnTo>
                    <a:pt x="899" y="0"/>
                  </a:lnTo>
                  <a:lnTo>
                    <a:pt x="899" y="0"/>
                  </a:lnTo>
                  <a:lnTo>
                    <a:pt x="921" y="0"/>
                  </a:lnTo>
                  <a:lnTo>
                    <a:pt x="921" y="0"/>
                  </a:lnTo>
                  <a:lnTo>
                    <a:pt x="921" y="0"/>
                  </a:lnTo>
                  <a:lnTo>
                    <a:pt x="947" y="0"/>
                  </a:lnTo>
                  <a:lnTo>
                    <a:pt x="947" y="0"/>
                  </a:lnTo>
                  <a:lnTo>
                    <a:pt x="947" y="1358"/>
                  </a:lnTo>
                  <a:lnTo>
                    <a:pt x="0" y="381"/>
                  </a:lnTo>
                  <a:close/>
                </a:path>
              </a:pathLst>
            </a:custGeom>
            <a:solidFill>
              <a:srgbClr val="ff00ff"/>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08000" y="3409920"/>
              <a:ext cx="1268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R&amp;D Personnel by Sectors 2005</a:t>
              </a:r>
              <a:endParaRPr b="0" lang="en-US" sz="700" spc="-1" strike="noStrike">
                <a:solidFill>
                  <a:srgbClr val="ffffff"/>
                </a:solidFill>
                <a:latin typeface="Arial"/>
              </a:endParaRPr>
            </a:p>
          </p:txBody>
        </p:sp>
        <p:sp>
          <p:nvSpPr>
            <p:cNvPr id="181" name=""/>
            <p:cNvSpPr/>
            <p:nvPr/>
          </p:nvSpPr>
          <p:spPr>
            <a:xfrm>
              <a:off x="6223320" y="353592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82" name=""/>
            <p:cNvSpPr/>
            <p:nvPr/>
          </p:nvSpPr>
          <p:spPr>
            <a:xfrm>
              <a:off x="6768720" y="5351760"/>
              <a:ext cx="200520" cy="302400"/>
            </a:xfrm>
            <a:custGeom>
              <a:avLst/>
              <a:gdLst/>
              <a:ahLst/>
              <a:rect l="l" t="t" r="r" b="b"/>
              <a:pathLst>
                <a:path w="101" h="153">
                  <a:moveTo>
                    <a:pt x="0" y="153"/>
                  </a:moveTo>
                  <a:lnTo>
                    <a:pt x="0" y="124"/>
                  </a:lnTo>
                  <a:lnTo>
                    <a:pt x="1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581440" y="3798720"/>
              <a:ext cx="321480" cy="7560"/>
            </a:xfrm>
            <a:custGeom>
              <a:avLst/>
              <a:gdLst/>
              <a:ahLst/>
              <a:rect l="l" t="t" r="r" b="b"/>
              <a:pathLst>
                <a:path w="162" h="4">
                  <a:moveTo>
                    <a:pt x="0" y="0"/>
                  </a:moveTo>
                  <a:lnTo>
                    <a:pt x="29" y="0"/>
                  </a:lnTo>
                  <a:lnTo>
                    <a:pt x="162" y="4"/>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84" name=""/>
            <p:cNvSpPr/>
            <p:nvPr/>
          </p:nvSpPr>
          <p:spPr>
            <a:xfrm>
              <a:off x="5053680" y="3660840"/>
              <a:ext cx="745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amp;D Institutes of ASA</a:t>
              </a:r>
              <a:endParaRPr b="0" lang="en-US" sz="600" spc="-1" strike="noStrike">
                <a:solidFill>
                  <a:srgbClr val="ffffff"/>
                </a:solidFill>
                <a:latin typeface="Arial"/>
              </a:endParaRPr>
            </a:p>
          </p:txBody>
        </p:sp>
        <p:sp>
          <p:nvSpPr>
            <p:cNvPr id="185" name=""/>
            <p:cNvSpPr/>
            <p:nvPr/>
          </p:nvSpPr>
          <p:spPr>
            <a:xfrm>
              <a:off x="4993920" y="4230360"/>
              <a:ext cx="12888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304</a:t>
              </a:r>
              <a:endParaRPr b="0" lang="en-US" sz="600" spc="-1" strike="noStrike">
                <a:solidFill>
                  <a:srgbClr val="ffffff"/>
                </a:solidFill>
                <a:latin typeface="Arial"/>
              </a:endParaRPr>
            </a:p>
          </p:txBody>
        </p:sp>
        <p:sp>
          <p:nvSpPr>
            <p:cNvPr id="186" name=""/>
            <p:cNvSpPr/>
            <p:nvPr/>
          </p:nvSpPr>
          <p:spPr>
            <a:xfrm>
              <a:off x="4979880" y="433080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87" name=""/>
            <p:cNvSpPr/>
            <p:nvPr/>
          </p:nvSpPr>
          <p:spPr>
            <a:xfrm>
              <a:off x="6319800" y="5674680"/>
              <a:ext cx="10148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Higher Education Sector</a:t>
              </a:r>
              <a:endParaRPr b="0" lang="en-US" sz="600" spc="-1" strike="noStrike">
                <a:solidFill>
                  <a:srgbClr val="ffffff"/>
                </a:solidFill>
                <a:latin typeface="Arial"/>
              </a:endParaRPr>
            </a:p>
          </p:txBody>
        </p:sp>
        <p:sp>
          <p:nvSpPr>
            <p:cNvPr id="188" name=""/>
            <p:cNvSpPr/>
            <p:nvPr/>
          </p:nvSpPr>
          <p:spPr>
            <a:xfrm>
              <a:off x="6676920" y="5780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639</a:t>
              </a:r>
              <a:endParaRPr b="0" lang="en-US" sz="600" spc="-1" strike="noStrike">
                <a:solidFill>
                  <a:srgbClr val="ffffff"/>
                </a:solidFill>
                <a:latin typeface="Arial"/>
              </a:endParaRPr>
            </a:p>
          </p:txBody>
        </p:sp>
        <p:sp>
          <p:nvSpPr>
            <p:cNvPr id="189" name=""/>
            <p:cNvSpPr/>
            <p:nvPr/>
          </p:nvSpPr>
          <p:spPr>
            <a:xfrm>
              <a:off x="6687360" y="587952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90" name=""/>
            <p:cNvSpPr/>
            <p:nvPr/>
          </p:nvSpPr>
          <p:spPr>
            <a:xfrm>
              <a:off x="4928400" y="4040280"/>
              <a:ext cx="40932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stitutes </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f Ministries</a:t>
              </a:r>
              <a:endParaRPr b="0" lang="en-US" sz="600" spc="-1" strike="noStrike">
                <a:solidFill>
                  <a:srgbClr val="ffffff"/>
                </a:solidFill>
                <a:latin typeface="Arial"/>
              </a:endParaRPr>
            </a:p>
          </p:txBody>
        </p:sp>
        <p:sp>
          <p:nvSpPr>
            <p:cNvPr id="191" name=""/>
            <p:cNvSpPr/>
            <p:nvPr/>
          </p:nvSpPr>
          <p:spPr>
            <a:xfrm>
              <a:off x="5327640" y="3749400"/>
              <a:ext cx="12888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74</a:t>
              </a:r>
              <a:endParaRPr b="0" lang="en-US" sz="600" spc="-1" strike="noStrike">
                <a:solidFill>
                  <a:srgbClr val="ffffff"/>
                </a:solidFill>
                <a:latin typeface="Arial"/>
              </a:endParaRPr>
            </a:p>
          </p:txBody>
        </p:sp>
        <p:sp>
          <p:nvSpPr>
            <p:cNvPr id="192" name=""/>
            <p:cNvSpPr/>
            <p:nvPr/>
          </p:nvSpPr>
          <p:spPr>
            <a:xfrm>
              <a:off x="5313600" y="385236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grpSp>
      <p:sp>
        <p:nvSpPr>
          <p:cNvPr id="193" name=""/>
          <p:cNvSpPr/>
          <p:nvPr/>
        </p:nvSpPr>
        <p:spPr>
          <a:xfrm>
            <a:off x="1371600" y="2894400"/>
            <a:ext cx="7010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a4"/>
                </a:solidFill>
                <a:latin typeface="Times New Roman"/>
                <a:ea typeface="Times New Roman"/>
              </a:rPr>
              <a:t>R&amp;D Personnel by Scientific Disciplines &amp; Sectors of Employment (2005)</a:t>
            </a:r>
            <a:endParaRPr b="0" lang="en-US" sz="1400" spc="-1" strike="noStrike">
              <a:solidFill>
                <a:srgbClr val="ffffff"/>
              </a:solidFill>
              <a:latin typeface="Arial"/>
            </a:endParaRPr>
          </a:p>
        </p:txBody>
      </p:sp>
      <p:sp>
        <p:nvSpPr>
          <p:cNvPr id="194" name=""/>
          <p:cNvSpPr/>
          <p:nvPr/>
        </p:nvSpPr>
        <p:spPr>
          <a:xfrm>
            <a:off x="1437120" y="6094800"/>
            <a:ext cx="60922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a4"/>
                </a:solidFill>
                <a:latin typeface="Times New Roman"/>
                <a:ea typeface="Times New Roman"/>
              </a:rPr>
              <a:t>Source: Academy of Sciences (ASA), Ministry of Education &amp; Sciences (MOES), Agency of Accreditation of the High Education </a:t>
            </a:r>
            <a:endParaRPr b="0" lang="en-US" sz="900" spc="-1" strike="noStrike">
              <a:solidFill>
                <a:srgbClr val="ffffff"/>
              </a:solidFill>
              <a:latin typeface="Arial"/>
            </a:endParaRPr>
          </a:p>
        </p:txBody>
      </p:sp>
      <p:sp>
        <p:nvSpPr>
          <p:cNvPr id="4" name="PlaceHolder 3"/>
          <p:cNvSpPr>
            <a:spLocks noGrp="1"/>
          </p:cNvSpPr>
          <p:nvPr>
            <p:ph type="sldNum" idx="3"/>
          </p:nvPr>
        </p:nvSpPr>
        <p:spPr/>
        <p:txBody>
          <a:bodyPr/>
          <a:p>
            <a:fld id="{D781C9CE-7508-455F-9E35-2273AC2107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96" name="PlaceHolder 2"/>
          <p:cNvSpPr>
            <a:spLocks noGrp="1"/>
          </p:cNvSpPr>
          <p:nvPr>
            <p:ph/>
          </p:nvPr>
        </p:nvSpPr>
        <p:spPr>
          <a:xfrm>
            <a:off x="301680" y="1447560"/>
            <a:ext cx="8540640" cy="5181480"/>
          </a:xfrm>
          <a:prstGeom prst="rect">
            <a:avLst/>
          </a:prstGeom>
          <a:noFill/>
          <a:ln w="0">
            <a:noFill/>
          </a:ln>
        </p:spPr>
        <p:txBody>
          <a:bodyPr lIns="90000" rIns="90000" tIns="46800" bIns="46800" anchor="t">
            <a:normAutofit/>
          </a:bodyPr>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year 2005, the New Government has undertaken the initiative to reform the scientific research.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is purpose, a group of experts was charged by the Government to prepare a platform for this reform.</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rding to the group of experts, Albania will have only one unique system of scientific research, which will be concentrated only in universities. The Academy of Sciences of Albania will be transformed as an Academy without institutes.</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 the set up of a unique system of higher education and scientific research in Albania it was proposed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81080" indent="-181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attachment of research institutes to universities to create a unique institutional system.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itutional approach will be made through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tachment of research institutes to respective department of a faculty of university. </a:t>
            </a:r>
            <a:r>
              <a:rPr b="0" lang="en-US" sz="1800" spc="-1" strike="noStrike">
                <a:solidFill>
                  <a:srgbClr val="ffffff"/>
                </a:solidFill>
                <a:latin typeface="Arial"/>
              </a:rPr>
              <a:t>In this case, the research scientific institute becomes part of the respective department.</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0880" y="838080"/>
            <a:ext cx="845820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 Reform of Scientific research system including Academy of Sci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59F9259-9801-435A-8AA9-3769438B7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 Creation of Research Centers inside a given faculty or university</a:t>
            </a:r>
            <a:r>
              <a:rPr b="0" lang="en-US" sz="1800" spc="-1" strike="noStrike">
                <a:solidFill>
                  <a:srgbClr val="ffffff"/>
                </a:solidFill>
                <a:latin typeface="Arial"/>
              </a:rPr>
              <a:t>. This model is applied in the case when:</a:t>
            </a: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stitute or a group of institutes have fields of scientific study that are wider than those of a single department, but that fits to interests of different departments of a faculty (</a:t>
            </a:r>
            <a:r>
              <a:rPr b="1" lang="en-US" sz="1800" spc="-1" strike="noStrike">
                <a:solidFill>
                  <a:srgbClr val="ffffff"/>
                </a:solidFill>
                <a:latin typeface="Arial"/>
              </a:rPr>
              <a:t>Study Center</a:t>
            </a:r>
            <a:r>
              <a:rPr b="0" lang="en-US" sz="1800" spc="-1" strike="noStrike">
                <a:solidFill>
                  <a:srgbClr val="ffffff"/>
                </a:solidFill>
                <a:latin typeface="Arial"/>
              </a:rPr>
              <a:t> at a faculty).</a:t>
            </a:r>
            <a:endParaRPr b="0" lang="en-US" sz="1800" spc="-1" strike="noStrike">
              <a:solidFill>
                <a:srgbClr val="ffffff"/>
              </a:solidFill>
              <a:latin typeface="Arial"/>
            </a:endParaRPr>
          </a:p>
          <a:p>
            <a:pPr marL="2667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n institute or a group of institutes have fields of scientific study that are wider than those of a single faculty, but that fit to interests of different faculties of a university </a:t>
            </a:r>
            <a:r>
              <a:rPr b="1" lang="en-US" sz="1800" spc="-1" strike="noStrike">
                <a:solidFill>
                  <a:srgbClr val="ffffff"/>
                </a:solidFill>
                <a:latin typeface="Arial"/>
              </a:rPr>
              <a:t>(Study Center at an university or Inter-Disciplinary University Research Center).</a:t>
            </a:r>
            <a:endParaRPr b="0" lang="en-US" sz="1800" spc="-1" strike="noStrike">
              <a:solidFill>
                <a:srgbClr val="ffffff"/>
              </a:solidFill>
              <a:latin typeface="Arial"/>
            </a:endParaRPr>
          </a:p>
          <a:p>
            <a:pPr marL="2667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An institute or a group of institutes have fields of scientific study that are wider than those of a single university, but that fit to interests of the entire national system </a:t>
            </a:r>
            <a:r>
              <a:rPr b="1" i="1" lang="en-US" sz="1800" spc="-1" strike="noStrike">
                <a:solidFill>
                  <a:srgbClr val="ffffff"/>
                </a:solidFill>
                <a:latin typeface="Arial"/>
              </a:rPr>
              <a:t>(Inter-University or National Research Center).</a:t>
            </a: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Each scientific worker of this system should teach, make scientific research and, when it is possible, deal with transfer of knowledge or technology or services related to interests of society. </a:t>
            </a:r>
            <a:endParaRPr b="0" lang="en-US" sz="1800" spc="-1" strike="noStrike">
              <a:solidFill>
                <a:srgbClr val="ffffff"/>
              </a:solidFill>
              <a:latin typeface="Arial"/>
            </a:endParaRPr>
          </a:p>
          <a:p>
            <a:pPr marL="266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2"/>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4" name="PlaceHolder 3"/>
          <p:cNvSpPr>
            <a:spLocks noGrp="1"/>
          </p:cNvSpPr>
          <p:nvPr>
            <p:ph type="sldNum" idx="3"/>
          </p:nvPr>
        </p:nvSpPr>
        <p:spPr/>
        <p:txBody>
          <a:bodyPr/>
          <a:p>
            <a:fld id="{63507A8E-12E0-43EE-B9D9-25DAF9E3E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1" name="PlaceHolder 2"/>
          <p:cNvSpPr>
            <a:spLocks noGrp="1"/>
          </p:cNvSpPr>
          <p:nvPr>
            <p:ph/>
          </p:nvPr>
        </p:nvSpPr>
        <p:spPr>
          <a:xfrm>
            <a:off x="457200" y="1142640"/>
            <a:ext cx="8385120" cy="51814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A has always agreed and continues to agree in principle that the country needs a reform and strengthening of scientific research along with the reform and strengthening of higher school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A has begun its reformation since the end 90-ies and, in the year 2004, the Law on the ASA was  approved by consensus.  </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tform of Group of Experts has been discussed in the Assembly of the Academy, in all our research and scientific institutes, and institutes of Ministrie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y there is no country with a unique system of concentrated scientific research, even at Universities. There are parallel scientific research systems that are developed also in academies of sciences or in national multi-discipline centers. This is shown by the experience of Western European countries and the experience of almost all ex-communist countries, which have completed the reform of scientific research, have either entered or attending to enter the European Union and have preserved their academies with institute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77D9231-02AF-4CFB-A803-E028B2C13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3" name="PlaceHolder 2"/>
          <p:cNvSpPr>
            <a:spLocks noGrp="1"/>
          </p:cNvSpPr>
          <p:nvPr>
            <p:ph/>
          </p:nvPr>
        </p:nvSpPr>
        <p:spPr>
          <a:xfrm>
            <a:off x="380880" y="1295280"/>
            <a:ext cx="8461440" cy="480384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ademy of Sciences of Albania, based on its positive experience, the experience of reorganization of Academies of the Eastern countries  (after the years 1990s), as well as the experience of some academies of the West and the role that they play in the system of scientific research in their countries, holds the opinion that the ASA should function as a set of two components: </a:t>
            </a:r>
            <a:r>
              <a:rPr b="1" lang="en-US" sz="2000" spc="-1" strike="noStrike">
                <a:solidFill>
                  <a:srgbClr val="ffffff"/>
                </a:solidFill>
                <a:latin typeface="Arial"/>
              </a:rPr>
              <a:t>research institutions</a:t>
            </a:r>
            <a:r>
              <a:rPr b="0" lang="en-US" sz="2000" spc="-1" strike="noStrike">
                <a:solidFill>
                  <a:srgbClr val="ffffff"/>
                </a:solidFill>
                <a:latin typeface="Arial"/>
              </a:rPr>
              <a:t> and </a:t>
            </a:r>
            <a:r>
              <a:rPr b="1" lang="en-US" sz="2000" spc="-1" strike="noStrike">
                <a:solidFill>
                  <a:srgbClr val="ffffff"/>
                </a:solidFill>
                <a:latin typeface="Arial"/>
              </a:rPr>
              <a:t>academics </a:t>
            </a:r>
            <a:r>
              <a:rPr b="0" lang="en-US" sz="2000" spc="-1" strike="noStrike">
                <a:solidFill>
                  <a:srgbClr val="ffffff"/>
                </a:solidFill>
                <a:latin typeface="Arial"/>
              </a:rPr>
              <a:t>(members of the Academy). </a:t>
            </a:r>
            <a:endParaRPr b="0" lang="en-US" sz="2000" spc="-1" strike="noStrike">
              <a:solidFill>
                <a:srgbClr val="ffffff"/>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ystem will closely cooperate with higher schools, regarding teaching and scientific research, by using in this framework the research scientific infrastructures (archives, laboratories, experimental plots, expeditions etc.). </a:t>
            </a:r>
            <a:endParaRPr b="0" lang="en-US" sz="2000" spc="-1" strike="noStrike">
              <a:solidFill>
                <a:srgbClr val="ffffff"/>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iprocal cooperation will be arranged through institutional agreement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164BAFF-DF90-4C0E-B21C-00C908CBAF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5" name="PlaceHolder 2"/>
          <p:cNvSpPr>
            <a:spLocks noGrp="1"/>
          </p:cNvSpPr>
          <p:nvPr>
            <p:ph/>
          </p:nvPr>
        </p:nvSpPr>
        <p:spPr>
          <a:xfrm>
            <a:off x="456840" y="1676520"/>
            <a:ext cx="8381880" cy="3581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titude of the ASA has been made known to IAP </a:t>
            </a:r>
            <a:r>
              <a:rPr b="0" lang="en-GB" sz="2000" spc="-1" strike="noStrike">
                <a:solidFill>
                  <a:srgbClr val="ffffff"/>
                </a:solidFill>
                <a:latin typeface="Arial"/>
              </a:rPr>
              <a:t>(Inter Academy</a:t>
            </a:r>
            <a:r>
              <a:rPr b="0" lang="en-US" sz="2000" spc="-1" strike="noStrike">
                <a:solidFill>
                  <a:srgbClr val="ffffff"/>
                </a:solidFill>
                <a:latin typeface="Arial"/>
              </a:rPr>
              <a:t> Panel), ALLEA (All</a:t>
            </a:r>
            <a:r>
              <a:rPr b="0" lang="en-GB" sz="2000" spc="-1" strike="noStrike">
                <a:solidFill>
                  <a:srgbClr val="ffffff"/>
                </a:solidFill>
                <a:latin typeface="Arial"/>
              </a:rPr>
              <a:t> European </a:t>
            </a:r>
            <a:r>
              <a:rPr b="0" lang="en-US" sz="2000" spc="-1" strike="noStrike">
                <a:solidFill>
                  <a:srgbClr val="ffffff"/>
                </a:solidFill>
                <a:latin typeface="Arial"/>
              </a:rPr>
              <a:t>Academies), UNESCO, etc. The presidents of IAP and ALLEA, the honorable Mr. Yves Qu</a:t>
            </a:r>
            <a:r>
              <a:rPr b="0" lang="en-US" sz="2000" spc="-1" strike="noStrike">
                <a:solidFill>
                  <a:srgbClr val="ffffff"/>
                </a:solidFill>
                <a:latin typeface="Arial"/>
                <a:ea typeface="Arial"/>
              </a:rPr>
              <a:t>é</a:t>
            </a:r>
            <a:r>
              <a:rPr b="0" lang="en-US" sz="2000" spc="-1" strike="noStrike">
                <a:solidFill>
                  <a:srgbClr val="ffffff"/>
                </a:solidFill>
                <a:latin typeface="Arial"/>
              </a:rPr>
              <a:t>r</a:t>
            </a:r>
            <a:r>
              <a:rPr b="0" lang="en-US" sz="2000" spc="-1" strike="noStrike">
                <a:solidFill>
                  <a:srgbClr val="ffffff"/>
                </a:solidFill>
                <a:latin typeface="Arial"/>
                <a:ea typeface="Arial"/>
              </a:rPr>
              <a:t>é</a:t>
            </a:r>
            <a:r>
              <a:rPr b="0" lang="en-US" sz="2000" spc="-1" strike="noStrike">
                <a:solidFill>
                  <a:srgbClr val="ffffff"/>
                </a:solidFill>
                <a:latin typeface="Arial"/>
              </a:rPr>
              <a:t> and Pieter Drenth, carried out work visits to Albania, in order to know the situation and met with the highest authorities of the country. </a:t>
            </a: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m attitude of the ASA, as well as the support of the above-mentioned personalities, facilitated the ASA to prepare a platform for its further reformation. In addition we were promised expertise in order to make this reform as qualitative as possible.</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850ABF1-9263-4F31-BCD4-370F1EDF6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7" name="PlaceHolder 2"/>
          <p:cNvSpPr>
            <a:spLocks noGrp="1"/>
          </p:cNvSpPr>
          <p:nvPr>
            <p:ph/>
          </p:nvPr>
        </p:nvSpPr>
        <p:spPr>
          <a:xfrm>
            <a:off x="914400" y="1523880"/>
            <a:ext cx="7391520" cy="4422960"/>
          </a:xfrm>
          <a:prstGeom prst="rect">
            <a:avLst/>
          </a:prstGeom>
          <a:noFill/>
          <a:ln w="0">
            <a:noFill/>
          </a:ln>
        </p:spPr>
        <p:txBody>
          <a:bodyPr lIns="90000" rIns="90000" tIns="46800" bIns="46800" anchor="t">
            <a:normAutofit fontScale="97000"/>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A proposes the reformation of its leading structures and further restructuring of its research institutions.  </a:t>
            </a:r>
            <a:endParaRPr b="0" lang="en-US" sz="2400" spc="-1" strike="noStrike">
              <a:solidFill>
                <a:srgbClr val="ffffff"/>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form will provide space for a more considerable development of the role of the ASA in research and development in compliance with the  priorities of the country. </a:t>
            </a:r>
            <a:endParaRPr b="0" lang="en-US" sz="2400" spc="-1" strike="noStrike">
              <a:solidFill>
                <a:srgbClr val="ffffff"/>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also give a  greater contribution of the ASA to higher school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8D93244-EEDD-448D-B2BF-B8EBFEB4B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209" name="PlaceHolder 2"/>
          <p:cNvSpPr>
            <a:spLocks noGrp="1"/>
          </p:cNvSpPr>
          <p:nvPr>
            <p:ph/>
          </p:nvPr>
        </p:nvSpPr>
        <p:spPr>
          <a:xfrm>
            <a:off x="304560" y="1143000"/>
            <a:ext cx="8458200" cy="51055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summarized way, the Reform in Academy of Sciences includes :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ffffff"/>
                </a:solidFill>
                <a:latin typeface="Arial"/>
              </a:rPr>
              <a:t>	</a:t>
            </a:r>
            <a:r>
              <a:rPr b="0" lang="en-US" sz="2000" spc="-1" strike="noStrike">
                <a:solidFill>
                  <a:srgbClr val="ffffff"/>
                </a:solidFill>
                <a:latin typeface="Arial"/>
              </a:rPr>
              <a:t>Further perfection of its leading organ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ffffff"/>
                </a:solidFill>
                <a:latin typeface="Arial"/>
              </a:rPr>
              <a:t>	</a:t>
            </a:r>
            <a:r>
              <a:rPr b="0" lang="en-US" sz="2000" spc="-1" strike="noStrike">
                <a:solidFill>
                  <a:srgbClr val="ffffff"/>
                </a:solidFill>
                <a:latin typeface="Arial"/>
              </a:rPr>
              <a:t>Extension of the Assembly of the ASA and its “refreshing” with professorate of young age and talented;</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Provision of opportunities for new members by establishing the criterion of age:  50% of new members be under 55.</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he ASA will continue to have institutes/centers. In order to increase its autonomy and efficient management of  research and development, the set up of the National Scientific Center of the Academy of Sciences (NSCAS) is proposed. This structure will include research scientific institutes/center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0FA7623-D3A7-47E1-B899-4D6061D0D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228240"/>
            <a:ext cx="851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Arial"/>
              </a:rPr>
              <a:t>The Republic of Albania</a:t>
            </a:r>
            <a:endParaRPr b="0" lang="en-US" sz="2800" spc="-1" strike="noStrike">
              <a:solidFill>
                <a:srgbClr val="b7e7ff"/>
              </a:solidFill>
              <a:latin typeface="Arial"/>
            </a:endParaRPr>
          </a:p>
        </p:txBody>
      </p:sp>
      <p:graphicFrame>
        <p:nvGraphicFramePr>
          <p:cNvPr id="86" name=""/>
          <p:cNvGraphicFramePr/>
          <p:nvPr/>
        </p:nvGraphicFramePr>
        <p:xfrm>
          <a:off x="1219320" y="1066680"/>
          <a:ext cx="6553080" cy="2724120"/>
        </p:xfrm>
        <a:graphic>
          <a:graphicData uri="http://schemas.openxmlformats.org/drawingml/2006/table">
            <a:tbl>
              <a:tblPr/>
              <a:tblGrid>
                <a:gridCol w="4255920"/>
                <a:gridCol w="22971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Profile, 200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48 sq km</a:t>
                      </a:r>
                      <a:r>
                        <a:rPr b="0" lang="en-US" sz="1400" spc="-1" strike="noStrike" baseline="30000">
                          <a:solidFill>
                            <a:srgbClr val="ffffff"/>
                          </a:solidFill>
                          <a:latin typeface="Arial"/>
                        </a:rPr>
                        <a:t>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mill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current U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NI per Capita, Atlas method (Current Euro)</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growth (annual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implicit price deflator (annual % grow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4 bill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7</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RD as % of GDP (200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1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7" name=""/>
          <p:cNvGraphicFramePr/>
          <p:nvPr/>
        </p:nvGraphicFramePr>
        <p:xfrm>
          <a:off x="1219320" y="3886200"/>
          <a:ext cx="6553080" cy="2427120"/>
        </p:xfrm>
        <a:graphic>
          <a:graphicData uri="http://schemas.openxmlformats.org/drawingml/2006/table">
            <a:tbl>
              <a:tblPr/>
              <a:tblGrid>
                <a:gridCol w="4286160"/>
                <a:gridCol w="2266920"/>
              </a:tblGrid>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agriculture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industry  + Construction(%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services (% of GDP)</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s of goods and services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orts of goods and services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technology exports (%of manufactured export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eign direct investment (2002), (current U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9</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4 mill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8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02DF7359-48C6-4498-A7CD-89096BDEF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211" name="PlaceHolder 2"/>
          <p:cNvSpPr>
            <a:spLocks noGrp="1"/>
          </p:cNvSpPr>
          <p:nvPr>
            <p:ph/>
          </p:nvPr>
        </p:nvSpPr>
        <p:spPr>
          <a:xfrm>
            <a:off x="533520" y="1218960"/>
            <a:ext cx="8308800" cy="51051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tarting from the actual state of scientific research in the Academy and in the country, as well as from the report of the GE, it is necessary that the current institutes/centers of the ASA be restructured. Restructuring will include the structures within institutions (at sector, department, or laboratory level), as well as those between institute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It is proposed that the ASA have also associated institutes/centers; relations between it and associated institutes will be arranged by a contract for obligations of each party (according to the experience of the Academy of Estonia).</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One of the objectives of scientific reform in the ASA will be the close cooperation with universities and the efficient integration of scientific work with the teaching. This process will also include integration of human resources and infrastructure.</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A412E49-8CC5-46A7-BBFC-8C0F9CF0E0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b7e7ff"/>
              </a:solidFill>
              <a:uFillTx/>
              <a:latin typeface="Arial"/>
            </a:endParaRPr>
          </a:p>
        </p:txBody>
      </p:sp>
      <p:sp>
        <p:nvSpPr>
          <p:cNvPr id="213" name="PlaceHolder 2"/>
          <p:cNvSpPr>
            <a:spLocks noGrp="1"/>
          </p:cNvSpPr>
          <p:nvPr>
            <p:ph/>
          </p:nvPr>
        </p:nvSpPr>
        <p:spPr>
          <a:xfrm>
            <a:off x="301680" y="2057040"/>
            <a:ext cx="8540640" cy="4041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Thank You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banian Academy of Scienc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www.akad.edu.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0917416-394E-4399-906A-21E042298AE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89" name="PlaceHolder 2"/>
          <p:cNvSpPr>
            <a:spLocks noGrp="1"/>
          </p:cNvSpPr>
          <p:nvPr>
            <p:ph/>
          </p:nvPr>
        </p:nvSpPr>
        <p:spPr>
          <a:xfrm>
            <a:off x="609120" y="1752480"/>
            <a:ext cx="8077320" cy="4648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1. Existing Structure and Legal Regulatio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ain institutional elements </a:t>
            </a:r>
            <a:r>
              <a:rPr b="0" lang="en-US" sz="1400" spc="-1" strike="noStrike">
                <a:solidFill>
                  <a:srgbClr val="ffffff"/>
                </a:solidFill>
                <a:latin typeface="Arial"/>
              </a:rPr>
              <a:t>of the scientific research system in Albania include :</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Sciences with its research institutes/center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institutes and centers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egal framework: </a:t>
            </a:r>
            <a:r>
              <a:rPr b="0" lang="en-US" sz="1400" spc="-1" strike="noStrike">
                <a:solidFill>
                  <a:srgbClr val="ffffff"/>
                </a:solidFill>
                <a:latin typeface="Arial"/>
              </a:rPr>
              <a:t>The scientific research system is administrated on the basis of legal and sub-legal frame work that includ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Science and Technological Development of the year 1994;</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Higher Education of the year 1999;</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the Academy of Sciences of the year 2004;</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CM, regulations and instructions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utes of AS and universitie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dministration: The diagram of vertical administration </a:t>
            </a:r>
            <a:r>
              <a:rPr b="0" lang="en-US" sz="1400" spc="-1" strike="noStrike">
                <a:solidFill>
                  <a:srgbClr val="ffffff"/>
                </a:solidFill>
                <a:latin typeface="Arial"/>
              </a:rPr>
              <a:t>of the scientific research system includes the following institution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cil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cil of Scientific Policy and Technological Development (CSPTD);</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Sciences, Ministry of Education and Science, and line Ministrie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0" name=""/>
          <p:cNvSpPr/>
          <p:nvPr/>
        </p:nvSpPr>
        <p:spPr>
          <a:xfrm>
            <a:off x="1599840" y="1143000"/>
            <a:ext cx="56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SITUATION OF SCIENTIFIC RESEARCH SYSTE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CBDCD3D-724E-43DA-860C-D847E24B30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graphicFrame>
        <p:nvGraphicFramePr>
          <p:cNvPr id="92" name=""/>
          <p:cNvGraphicFramePr/>
          <p:nvPr/>
        </p:nvGraphicFramePr>
        <p:xfrm>
          <a:off x="304920" y="892080"/>
          <a:ext cx="8381880" cy="5445360"/>
        </p:xfrm>
        <a:graphic>
          <a:graphicData uri="http://schemas.openxmlformats.org/presentationml/2006/ole">
            <p:oleObj r:id="rId2" spid="">
              <p:embed/>
              <p:pic>
                <p:nvPicPr>
                  <p:cNvPr id="93" name="" descr=""/>
                  <p:cNvPicPr/>
                  <p:nvPr/>
                </p:nvPicPr>
                <p:blipFill>
                  <a:blip r:embed="rId3"/>
                  <a:stretch/>
                </p:blipFill>
                <p:spPr>
                  <a:xfrm>
                    <a:off x="304920" y="892080"/>
                    <a:ext cx="8381880" cy="5445360"/>
                  </a:xfrm>
                  <a:prstGeom prst="rect">
                    <a:avLst/>
                  </a:prstGeom>
                  <a:ln w="0">
                    <a:noFill/>
                  </a:ln>
                </p:spPr>
              </p:pic>
            </p:oleObj>
          </a:graphicData>
        </a:graphic>
      </p:graphicFrame>
      <p:sp>
        <p:nvSpPr>
          <p:cNvPr id="3" name="PlaceHolder 2"/>
          <p:cNvSpPr>
            <a:spLocks noGrp="1"/>
          </p:cNvSpPr>
          <p:nvPr>
            <p:ph type="sldNum" idx="3"/>
          </p:nvPr>
        </p:nvSpPr>
        <p:spPr/>
        <p:txBody>
          <a:bodyPr/>
          <a:p>
            <a:fld id="{D3D9C48A-6A80-493D-AED1-B26022A01E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990720"/>
            <a:ext cx="8540640" cy="5029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2 Financing of the R&amp;D activity with:</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ional financing, given  by the Government for the research institutions inside the Academy of Sciences and Ministries independently from the Ministry of Education and Science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Financing on the framework of NRDP through MoES according the procedures on the European standard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Financing on the framework of the Bilateral Programs realized from the MoES through European standard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inancing beside State Budget include :</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collaboration</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collaboration with foreign or home organizations inside the country</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programs (UN, EU, etc),</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inancing from the activities for the other public or private sector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5"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96" name=""/>
          <p:cNvSpPr/>
          <p:nvPr/>
        </p:nvSpPr>
        <p:spPr>
          <a:xfrm>
            <a:off x="380880" y="5791320"/>
            <a:ext cx="861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und for scientific research and Development in Albania does not exceed 0,18 of GDP, which marks the lowest level in Europ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A3EFB08-4CA0-41AB-9A7D-0BA607E1C9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98" name="PlaceHolder 2"/>
          <p:cNvSpPr>
            <a:spLocks noGrp="1"/>
          </p:cNvSpPr>
          <p:nvPr>
            <p:ph/>
          </p:nvPr>
        </p:nvSpPr>
        <p:spPr>
          <a:xfrm>
            <a:off x="533520" y="1142640"/>
            <a:ext cx="8308800" cy="51814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3. Research Institutes of the Academy of Sciences</a:t>
            </a: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7 institutes under the </a:t>
            </a:r>
            <a:r>
              <a:rPr b="1" lang="en-US" sz="1400" spc="-1" strike="noStrike">
                <a:solidFill>
                  <a:srgbClr val="ffffff"/>
                </a:solidFill>
                <a:latin typeface="Arial"/>
              </a:rPr>
              <a:t>Section of Social and Albanological Sciences</a:t>
            </a:r>
            <a:r>
              <a:rPr b="0" lang="en-US" sz="1400" spc="-1" strike="noStrike">
                <a:solidFill>
                  <a:srgbClr val="ffffff"/>
                </a:solidFill>
                <a:latin typeface="Arial"/>
              </a:rPr>
              <a:t> :</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Histor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Linguistics and Literatur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Popular Culture</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Arche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Econom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Arts Studi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Albania Encyclopedia of inter-disciplinary character</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7 institutes under the  </a:t>
            </a:r>
            <a:r>
              <a:rPr b="1" lang="en-US" sz="1400" spc="-1" strike="noStrike">
                <a:solidFill>
                  <a:srgbClr val="ffffff"/>
                </a:solidFill>
                <a:latin typeface="Arial"/>
              </a:rPr>
              <a:t>Section of Natural and Technical Sciences</a:t>
            </a:r>
            <a:r>
              <a:rPr b="0" lang="en-US" sz="1400" spc="-1" strike="noStrike">
                <a:solidFill>
                  <a:srgbClr val="ffffff"/>
                </a:solidFill>
                <a:latin typeface="Arial"/>
              </a:rPr>
              <a:t> :</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Nuclear Physic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Informatics and Applied Mathematic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Hydrometeor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Seism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Biological Research</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Geographical Studi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Hydraulic Research</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577D1C2-0B69-4C7D-A6A1-6A215D01F4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00" name="PlaceHolder 2"/>
          <p:cNvSpPr>
            <a:spLocks noGrp="1"/>
          </p:cNvSpPr>
          <p:nvPr>
            <p:ph/>
          </p:nvPr>
        </p:nvSpPr>
        <p:spPr>
          <a:xfrm>
            <a:off x="304560" y="837720"/>
            <a:ext cx="8381880" cy="54104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4 Institutes of Ministries of Branch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to the Institutes of AS, there are also 24 other research-study institutes which fall under the following Ministri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stry of Agriculture, Food and Consumer’s Protection </a:t>
            </a:r>
            <a:r>
              <a:rPr b="1" i="1" lang="en-US" sz="1600" spc="-1" strike="noStrike">
                <a:solidFill>
                  <a:srgbClr val="ffffff"/>
                </a:solidFill>
                <a:latin typeface="Arial"/>
              </a:rPr>
              <a:t>	</a:t>
            </a:r>
            <a:r>
              <a:rPr b="1" i="1" lang="en-US" sz="1600" spc="-1" strike="noStrike">
                <a:solidFill>
                  <a:srgbClr val="ffffff"/>
                </a:solidFill>
                <a:latin typeface="Arial"/>
              </a:rPr>
              <a:t>9 institut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Institute of Field Crops Research, Fushe-Kruje</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Institute of Food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Institute of Veterinary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Institute of Zootechnical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Institute of Plant Protection, Durr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Institute of Corn and Rice, Shkoder</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Institute of Fruit-Growing, Vlore</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Institute of Vegetables and Potatoes,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Institute of Soil Study,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stry of Environment, Forests and Water Administration </a:t>
            </a:r>
            <a:r>
              <a:rPr b="1" i="1" lang="en-US" sz="1600" spc="-1" strike="noStrike">
                <a:solidFill>
                  <a:srgbClr val="ffffff"/>
                </a:solidFill>
                <a:latin typeface="Arial"/>
              </a:rPr>
              <a:t>	</a:t>
            </a:r>
            <a:r>
              <a:rPr b="1" i="1" lang="en-US" sz="1600" spc="-1" strike="noStrike">
                <a:solidFill>
                  <a:srgbClr val="ffffff"/>
                </a:solidFill>
                <a:latin typeface="Arial"/>
              </a:rPr>
              <a:t>3 institut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Institute of Forest and Pastures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Institute of Research of Fishing, Durr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Institute of Environment,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80FFA80B-DA17-493F-8088-8B5C54A7A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Economy, Commerce and Energy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6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 Albanian Geological Service,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 Institute of Technology of Extraction and Processing of Mineral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National Scientific Center of Hydrocarbons, Fi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Institute of Studies and Designs of Light Industry,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 Institute of Mechanics and Wood, Tira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 Institute of Metallurgy, Elbasa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Public Works, Transport and Telecommunication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3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 Institute of  Transport,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Institute of  Studies of  Construction,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 Institute of Studies of Town-Planning,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Tourism, Culture, Youth and Sports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2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 Institute of Culture Monument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Center of Sports Studie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Health (MH)</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1 institu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 Institute of Public Health,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2"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4" name="PlaceHolder 3"/>
          <p:cNvSpPr>
            <a:spLocks noGrp="1"/>
          </p:cNvSpPr>
          <p:nvPr>
            <p:ph type="sldNum" idx="3"/>
          </p:nvPr>
        </p:nvSpPr>
        <p:spPr/>
        <p:txBody>
          <a:bodyPr/>
          <a:p>
            <a:fld id="{A164D1BC-C054-47CB-8409-55FD7E7E3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04" name="PlaceHolder 2"/>
          <p:cNvSpPr>
            <a:spLocks noGrp="1"/>
          </p:cNvSpPr>
          <p:nvPr>
            <p:ph/>
          </p:nvPr>
        </p:nvSpPr>
        <p:spPr>
          <a:xfrm>
            <a:off x="301680" y="990720"/>
            <a:ext cx="8540640" cy="5410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Universities</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ly there are 13 public higher schools in Albania :</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Tirana (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ytechnic University of Tirana (P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ricultural University of Tirana (A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itary University, Tirana (MU)</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Physical Education and Sports, Tirana (APH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Arts, Tirana (AA)</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Police, Tirana (AP)</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Shkoder (USH)</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Elbasan (UE)</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ricultural University of Korce (AUK)</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Gjirokaster (UGJ)</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ological University of Vlore (UV)</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Durres</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er schools function on the basis of the Law on “Higher Education” of the year 1999, changed.</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also 10 private higher schools as well as other R&amp;D Public and private agencies </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4576FEF-0B10-4AEC-9972-4B26969BA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0:06Z</dcterms:created>
  <dc:creator>BNT Electronics</dc:creator>
  <dc:description/>
  <dc:language>en-US</dc:language>
  <cp:lastModifiedBy>User</cp:lastModifiedBy>
  <dcterms:modified xsi:type="dcterms:W3CDTF">2006-09-26T08:04:34Z</dcterms:modified>
  <cp:revision>27</cp:revision>
  <dc:subject/>
  <dc:title>SCIENCE AND RESEARCH IN ALBANIA</dc:title>
</cp:coreProperties>
</file>